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759-82CC-4DC6-B547-4586C8F5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8F4-4D1E-44D2-8E97-A0EFF958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CC272-D43D-4764-A064-2C09CE80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9B9D4-0F96-44CC-8FBF-0E42BBEF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4EFEF-5625-405B-81ED-CD851832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575D5-C731-403E-947F-96EFCBF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BAFA1-8201-489C-9241-E64048AD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F9ACB-7FB9-4F02-83EA-87FCAFA6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C141B-72A4-4316-8E6C-F4F0E803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DAECC-A45C-4D84-A0C0-FB61B930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7D02B-6F00-4C1D-9572-0770A7F9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6DAB1-4D06-4AEE-AB9A-E86AAA90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7AB-F7F3-406A-9AFB-C3032BF4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5C434-3316-4A6C-8DDF-B7034ECA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E0AEC-CDB2-4D30-A907-DEA809BE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52017-2985-4407-BD13-32484DFA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06EA1-5EA7-4CBB-B4AE-7FE3D18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62FC3-0018-46FF-BB9D-04CAB3F0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2B501-FC7A-4329-AE68-671B22D9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85414-6945-4AB5-9665-37741AF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8F964-3D37-412F-9086-EABB553F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F522C-B030-4E15-BED9-119F9789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16CA7-5899-4FF0-AEAB-F37CFB3C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6C8-FA7D-468C-B9FD-4C32F7BF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C0449-376F-4238-B0F0-ED0DC6BE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4D63D-9179-422E-9D46-AAF0FD65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D48A0-7CCE-46C1-A16E-D30B5663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3B722-43FA-4320-A6A7-6534824D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0FAC4-3EA9-4AC1-B4F9-30B31B53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A8B38-0C3A-4CD5-B771-07CD4182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470B6-1D69-492B-9700-8C134510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82C59-4A1C-4961-B439-FF39634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2B7A4-8FD9-44A5-B8BC-41C9E897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D2D65-5315-49A5-AC18-E55C2A82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BDCA-18A9-4F13-BAB2-2A33BF89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2FB64-A0A9-4C0D-880A-E2222119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5A857-C51D-4AA9-A583-7E85F69F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013A9-29BD-4001-958A-163CBA7A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E2440-A6FD-4F2D-B3E7-8C8CE6C6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A571C-B886-4EF7-B2E5-99E74ECE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C0871-F0D0-46E5-9870-3FED7508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0EDCA-C6E9-4048-BEDD-3B05D7FB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B56C9-DFE3-4ABF-889A-592B84A1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91E26-46E4-4384-9493-09E3B9B2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90DDF-E7F4-4A58-91E9-5191C29F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64E5-A8FE-414E-BAD4-76720E2C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37A72-E718-43C4-BB00-DA1700EE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14810-126C-48D1-B5D8-94481706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3624F-7F5B-492D-886D-143B69F7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31E07-42C7-4C07-B7D7-94F3F7CB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AC441-8616-45BC-92BC-B1A2B48C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C857C-684B-4540-B6FF-EC5E1FE5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A6FC5-3637-44CE-A5B0-AB1FFE3D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0738D-4E45-4EF0-AFBA-67FFDC3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5784A-6A4C-4D15-AB35-A9929B1F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873E9-F8A8-4C76-99E7-B6325F53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79E6-B3C8-4361-BF52-2E562D7E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AEBF4-CE27-45A3-8944-EE568B00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43B2E-3569-4EB8-8D67-54B8690D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F0BE3-249A-43B6-8250-918D400C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F9442-0786-4254-A3F0-86D203A5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A8667-62FC-425C-B102-1A7CCED6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33A13-BA16-4A7C-9406-A859CE69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6FAF5-1950-4206-91F3-1DB9C961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2FD94-3531-4113-A751-A84F8A89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F681E-B228-409E-B9FD-3ADF6107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C683A-D0D0-4609-9623-3322F124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2317-5C47-4E84-8876-2D50E4E1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145C4-B838-4483-A370-00E48DC1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4EE54-86F7-438D-98CA-B45B8255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7D664-E6E3-459C-8F4E-EC1915A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6B20D-778E-48D7-A949-04F55FF0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A793F-2869-4628-8A75-337D4937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605D0-4583-4ABC-8CB9-15A0486D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FD38A-92C2-46B9-BCD4-CB19C63F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5FB57-1994-44CA-9FDE-349AFA0A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2ED7D-A1AD-482D-A62C-239C6E3B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1E73-BFCC-4489-8537-10C8BE6E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17D-CF9A-496B-80E1-D64AFAC9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DF3A-F16A-4AFD-99A0-0A5BF634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5E2-99BE-4600-BCD4-54DB6B78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F3B4-873B-485A-9439-560170B0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62E9-0645-49D6-BDBB-D5DA263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387F-9CB6-4777-BC98-8B0D02DF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519F-2224-4FA1-8840-340EC803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8D7B-F858-4E5F-93C6-1A342A95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E374-3961-47DF-B5CE-56F7CA0E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9940-7F89-48D6-8D00-D44A3A4E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88E8-060D-4FD6-B403-78AAC17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2852-BAD9-49CE-8E73-7FD7476F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786D-3105-462C-97C6-CA902500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FA9-41A4-4E31-8ABF-78BDF26E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4A53-3D52-460B-B627-AB4B3F17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69DB-2CD7-4CA5-BB60-A5734E7E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2B8B-C744-4551-BD41-E77991C6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B55C-7A9D-4056-A18D-E9942940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3776-4179-4AC3-99D8-487052B5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051B-7E86-4D81-B25F-C594A74E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79A3-4852-479C-B302-B2FF63EE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806BB-45DB-4095-BDDA-58B263E4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5502-92C4-4B78-B46F-22241D95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6DA1-EBAF-47AF-893C-AA4737D6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669-9D2C-412A-81DD-36C8F847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37D4-B5C8-4662-BA95-1B3D5CD8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3822-7B5F-4F17-A5B5-93B652BB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4DEDF-3402-4ED1-BE26-79EA87A5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47500-75C6-41F5-8555-420AB688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65C5-1FF4-4DB7-B91F-66208C5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1E7A-05DD-46CD-A7DC-0F510FE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F2981-D99D-40E7-80ED-E60D8816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FEF0-750D-4286-A0A0-0098445D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59C6A-83BC-4752-8AFF-33855DDB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8CEF-9F43-4BAF-BD47-77B99126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E74-252B-4729-B865-8BDF5FB0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D4D0A-63A2-42BA-A8B6-320F28B9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D012-BB5E-4453-9052-1B14C617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1A165-5A4F-4D0E-A2F9-64E850FB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9FE47-BF7B-479F-8EAD-33032658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5FC9A-E17A-463B-AF2D-52B0D119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2A348-875B-4B63-8873-E9FD765E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354B3-DC71-414E-915B-98B3BAD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D8D9E-37FE-4C66-86B3-057F8016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F7114-999E-4332-A964-F92E8100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621C-DCFC-437F-A85A-AD18024C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A7A-C7F4-4664-BF16-CF5C1AA4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8D220-B586-4BD7-912E-EEAA1A65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8682-45C3-4029-9ADA-76DEA6AF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43B4B-70B5-447D-98C6-606D01D4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5B43C-F9EE-4082-88FE-24E2735C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2A2FB-009F-4E15-B934-23457E8E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14E0-7828-46A0-99E5-21B3264D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6DD29-3D01-4D37-A9A2-B0856340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2C8FE-5F17-4C01-8928-23580B2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BE956-8090-42C8-A174-16399E87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4BC3A-679D-46CF-9003-C480049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D7C-ABCD-406B-B8CB-53B3AFF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DE984-9836-49FB-B0F8-E1D28BCD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0BC7B-634E-4B6C-A56E-9D1E85B4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7640-EF21-48F4-9534-1474D73E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939B-DB9C-41F0-BFC3-60C03E31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A328E-769D-47FB-B9F6-E2CC37BB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2205-C960-421A-93D0-9A313CF0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6E05-CE2B-414E-BF48-794E69D5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5CC2-3623-4462-A0CB-8BC6B3C8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B83CE-DA08-4D0B-ABB9-DB2F386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9B678-8ED2-49B2-A8F0-ADD4AF1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4C1-10D6-4B8B-A78D-492ED8F2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C909-212A-4D4A-B249-41CFCD6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7FC45-F8DD-4A5D-A7AD-BF99B4AD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645E-C8D1-45E5-8BC8-1F66F7A8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68723-2953-4DC8-9E77-C39940E0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5370A-816A-4FAA-9AEE-422CE95B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13AEB-BD2A-4C4B-9816-02A7F02A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945C4-95B0-4099-8AC4-7868687A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FE60C-D113-4162-AC3E-73AFF8B6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49CE0-FBB7-4342-8856-810C41F6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8416-D624-496B-B5E7-42601469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AB1-48D1-4E9E-9105-8F00785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5BBD2-2CF1-4452-BC5F-9E834900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B1123-A620-46B3-8BBB-E87B671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6E1EB-EBFC-402A-BE54-60C36564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1B6E5-ECE2-407E-8F36-1636711A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C9447-237D-406A-9E7A-D82ACDD7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BF956-249D-4188-BD28-4F44BAE6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3C8E5-0818-4D67-9F08-DBF100F8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ECD36-696E-4ACD-8D52-E273434C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C2662-1AD8-4D23-9D42-47402F5C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5D393-B8B9-4E51-9205-D22BC94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3335-D281-4ED1-A7B4-2ADF781591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34CA-0438-4FA0-9D52-55CBC8D4B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CF52-3967-43C2-B4B4-31E4DFAA1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F5CE-A992-4043-9CA4-AD1392841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848F-1EDD-4889-93B6-E7A618B5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1AA0-05BC-4F8B-939B-D241C9A32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F2B9-5529-4BE3-BB87-78D3276B8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A5B3-3916-498D-9E5D-8E096C848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874-EED5-4BA6-A345-E88A98F6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AE4E-C995-4281-9566-58E7DA13E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E4C9-25FC-4348-AD8D-D553A3C81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A179-113E-42E8-A422-A7A461683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688A-26E5-483F-AA4A-0AC7899D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829E-CBA2-4775-BA97-CD92C8B2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cal%20Settings/Temp/Rar$DI00.875/&#36830;&#25112;&#19968;&#34892;&#25308;&#35858;&#21271;&#20140;&#39321;&#23665;&#23385;&#20013;&#23665;&#34915;&#20896;&#20898;.wm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8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image" Target="../media/image3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7315200" y="2743200"/>
            <a:ext cx="60948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6300720" y="2743200"/>
            <a:ext cx="101448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8001000" y="2590920"/>
            <a:ext cx="838080" cy="609480"/>
          </a:xfrm>
          <a:custGeom>
            <a:avLst/>
            <a:gdLst>
              <a:gd name="textAreaLeft" fmla="*/ 130680 w 838080"/>
              <a:gd name="textAreaRight" fmla="*/ 733320 w 8380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4572000" y="2743200"/>
            <a:ext cx="122400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5796000" y="2743200"/>
            <a:ext cx="5763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2916360" y="2743200"/>
            <a:ext cx="9903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1979640" y="2743200"/>
            <a:ext cx="106668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3851280" y="2743200"/>
            <a:ext cx="76212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380880" y="2743200"/>
            <a:ext cx="5335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914400" y="2743200"/>
            <a:ext cx="106524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-108000" y="1989000"/>
            <a:ext cx="9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682560" y="198900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34"/>
          <p:cNvGrpSpPr/>
          <p:nvPr/>
        </p:nvGrpSpPr>
        <p:grpSpPr>
          <a:xfrm>
            <a:off x="2563920" y="1916280"/>
            <a:ext cx="1863720" cy="866160"/>
            <a:chOff x="2563920" y="1916280"/>
            <a:chExt cx="1863720" cy="866160"/>
          </a:xfrm>
        </p:grpSpPr>
        <p:sp>
          <p:nvSpPr>
            <p:cNvPr id="587" name="Text Box 16"/>
            <p:cNvSpPr/>
            <p:nvPr/>
          </p:nvSpPr>
          <p:spPr>
            <a:xfrm>
              <a:off x="2563920" y="1956960"/>
              <a:ext cx="95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856</a:t>
              </a:r>
              <a:r>
                <a:rPr b="1" lang="zh-CN" sz="2400" spc="-1" strike="noStrike">
                  <a:solidFill>
                    <a:srgbClr val="000066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Text Box 17"/>
            <p:cNvSpPr/>
            <p:nvPr/>
          </p:nvSpPr>
          <p:spPr>
            <a:xfrm>
              <a:off x="3427560" y="1916280"/>
              <a:ext cx="100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860</a:t>
              </a:r>
              <a:r>
                <a:rPr b="1" lang="zh-CN" sz="2400" spc="-1" strike="noStrike">
                  <a:solidFill>
                    <a:srgbClr val="000066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Group 35"/>
          <p:cNvGrpSpPr/>
          <p:nvPr/>
        </p:nvGrpSpPr>
        <p:grpSpPr>
          <a:xfrm>
            <a:off x="5148360" y="1916280"/>
            <a:ext cx="1869840" cy="825480"/>
            <a:chOff x="5148360" y="1916280"/>
            <a:chExt cx="1869840" cy="825480"/>
          </a:xfrm>
        </p:grpSpPr>
        <p:sp>
          <p:nvSpPr>
            <p:cNvPr id="590" name="Text Box 19"/>
            <p:cNvSpPr/>
            <p:nvPr/>
          </p:nvSpPr>
          <p:spPr>
            <a:xfrm>
              <a:off x="5148360" y="1916280"/>
              <a:ext cx="107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894</a:t>
              </a:r>
              <a:r>
                <a:rPr b="1" lang="zh-CN" sz="2400" spc="-1" strike="noStrike">
                  <a:solidFill>
                    <a:srgbClr val="000066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Text Box 20"/>
            <p:cNvSpPr/>
            <p:nvPr/>
          </p:nvSpPr>
          <p:spPr>
            <a:xfrm>
              <a:off x="6012000" y="1916280"/>
              <a:ext cx="100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89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6804000" y="1916280"/>
            <a:ext cx="1728720" cy="825480"/>
            <a:chOff x="6804000" y="1916280"/>
            <a:chExt cx="1728720" cy="825480"/>
          </a:xfrm>
        </p:grpSpPr>
        <p:sp>
          <p:nvSpPr>
            <p:cNvPr id="593" name="Text Box 21"/>
            <p:cNvSpPr/>
            <p:nvPr/>
          </p:nvSpPr>
          <p:spPr>
            <a:xfrm>
              <a:off x="6804000" y="19162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Text Box 22"/>
            <p:cNvSpPr/>
            <p:nvPr/>
          </p:nvSpPr>
          <p:spPr>
            <a:xfrm>
              <a:off x="7540560" y="1916280"/>
              <a:ext cx="99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0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AutoShape 24"/>
          <p:cNvSpPr/>
          <p:nvPr/>
        </p:nvSpPr>
        <p:spPr>
          <a:xfrm rot="10800000">
            <a:off x="152280" y="3352680"/>
            <a:ext cx="1827360" cy="581040"/>
          </a:xfrm>
          <a:prstGeom prst="wedgeRectCallout">
            <a:avLst>
              <a:gd name="adj1" fmla="val 18893"/>
              <a:gd name="adj2" fmla="val 8633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鸦片战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AutoShape 25"/>
          <p:cNvSpPr/>
          <p:nvPr/>
        </p:nvSpPr>
        <p:spPr>
          <a:xfrm rot="10800000">
            <a:off x="2771640" y="3428640"/>
            <a:ext cx="1905120" cy="1066680"/>
          </a:xfrm>
          <a:prstGeom prst="wedgeRectCallout">
            <a:avLst>
              <a:gd name="adj1" fmla="val 18333"/>
              <a:gd name="adj2" fmla="val 8333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二次鸦片战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AutoShape 26"/>
          <p:cNvSpPr/>
          <p:nvPr/>
        </p:nvSpPr>
        <p:spPr>
          <a:xfrm rot="10800000">
            <a:off x="5003280" y="3429000"/>
            <a:ext cx="1511640" cy="1076400"/>
          </a:xfrm>
          <a:prstGeom prst="wedgeRectCallout">
            <a:avLst>
              <a:gd name="adj1" fmla="val -21958"/>
              <a:gd name="adj2" fmla="val 8362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午中日战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AutoShape 27"/>
          <p:cNvSpPr/>
          <p:nvPr/>
        </p:nvSpPr>
        <p:spPr>
          <a:xfrm rot="10800000">
            <a:off x="6710400" y="3357720"/>
            <a:ext cx="2109600" cy="1079280"/>
          </a:xfrm>
          <a:prstGeom prst="wedgeRectCallout">
            <a:avLst>
              <a:gd name="adj1" fmla="val 1462"/>
              <a:gd name="adj2" fmla="val 7690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八国联军侵华战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AutoShape 29"/>
          <p:cNvSpPr/>
          <p:nvPr/>
        </p:nvSpPr>
        <p:spPr>
          <a:xfrm>
            <a:off x="1547640" y="907920"/>
            <a:ext cx="2737080" cy="648000"/>
          </a:xfrm>
          <a:prstGeom prst="wedgeRoundRectCallout">
            <a:avLst>
              <a:gd name="adj1" fmla="val -26759"/>
              <a:gd name="adj2" fmla="val 125981"/>
              <a:gd name="adj3" fmla="val 16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  <a:ea typeface="黑体"/>
              </a:rPr>
              <a:t>太平天国运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AutoShape 30"/>
          <p:cNvSpPr/>
          <p:nvPr/>
        </p:nvSpPr>
        <p:spPr>
          <a:xfrm>
            <a:off x="6083280" y="981000"/>
            <a:ext cx="2665440" cy="719280"/>
          </a:xfrm>
          <a:prstGeom prst="wedgeRoundRectCallout">
            <a:avLst>
              <a:gd name="adj1" fmla="val -6222"/>
              <a:gd name="adj2" fmla="val 90620"/>
              <a:gd name="adj3" fmla="val 16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  <a:ea typeface="黑体"/>
              </a:rPr>
              <a:t>义和团运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Group 31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602" name="Picture 32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WordArt 33"/>
            <p:cNvSpPr txBox="1"/>
            <p:nvPr/>
          </p:nvSpPr>
          <p:spPr>
            <a:xfrm>
              <a:off x="3132000" y="73080"/>
              <a:ext cx="3745080" cy="69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温故知新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604" name="Text Box 72"/>
          <p:cNvSpPr/>
          <p:nvPr/>
        </p:nvSpPr>
        <p:spPr>
          <a:xfrm>
            <a:off x="144360" y="4941720"/>
            <a:ext cx="1979640" cy="12636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aramond"/>
                <a:ea typeface="隶书"/>
              </a:rPr>
              <a:t>中国开始变为半殖民地半封建社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73"/>
          <p:cNvSpPr/>
          <p:nvPr/>
        </p:nvSpPr>
        <p:spPr>
          <a:xfrm>
            <a:off x="2411280" y="5013360"/>
            <a:ext cx="2303640" cy="4838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aramond"/>
                <a:ea typeface="隶书"/>
              </a:rPr>
              <a:t>中国半殖民地半封建华的程度进一步加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74"/>
          <p:cNvSpPr/>
          <p:nvPr/>
        </p:nvSpPr>
        <p:spPr>
          <a:xfrm>
            <a:off x="6948360" y="4797360"/>
            <a:ext cx="1979640" cy="11901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aramond"/>
                <a:ea typeface="隶书"/>
              </a:rPr>
              <a:t>中国完全陷入了半殖民地半封建的社会深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73"/>
          <p:cNvSpPr/>
          <p:nvPr/>
        </p:nvSpPr>
        <p:spPr>
          <a:xfrm>
            <a:off x="4859280" y="5013360"/>
            <a:ext cx="1944720" cy="8737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aramond"/>
                <a:ea typeface="隶书"/>
              </a:rPr>
              <a:t>大大加深了中国的半殖民地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AutoShape 44"/>
          <p:cNvSpPr/>
          <p:nvPr/>
        </p:nvSpPr>
        <p:spPr>
          <a:xfrm>
            <a:off x="846000" y="4221000"/>
            <a:ext cx="486000" cy="689040"/>
          </a:xfrm>
          <a:prstGeom prst="downArrow">
            <a:avLst>
              <a:gd name="adj1" fmla="val 50000"/>
              <a:gd name="adj2" fmla="val 3544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AutoShape 45"/>
          <p:cNvSpPr/>
          <p:nvPr/>
        </p:nvSpPr>
        <p:spPr>
          <a:xfrm>
            <a:off x="3348000" y="4508640"/>
            <a:ext cx="485640" cy="473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AutoShape 46"/>
          <p:cNvSpPr/>
          <p:nvPr/>
        </p:nvSpPr>
        <p:spPr>
          <a:xfrm>
            <a:off x="5508720" y="4508640"/>
            <a:ext cx="485640" cy="473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AutoShape 47"/>
          <p:cNvSpPr/>
          <p:nvPr/>
        </p:nvSpPr>
        <p:spPr>
          <a:xfrm>
            <a:off x="7615080" y="4395960"/>
            <a:ext cx="48600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2" name="Group 49"/>
          <p:cNvGrpSpPr/>
          <p:nvPr/>
        </p:nvGrpSpPr>
        <p:grpSpPr>
          <a:xfrm>
            <a:off x="1619280" y="1989000"/>
            <a:ext cx="3637080" cy="825480"/>
            <a:chOff x="1619280" y="1989000"/>
            <a:chExt cx="3637080" cy="825480"/>
          </a:xfrm>
        </p:grpSpPr>
        <p:sp>
          <p:nvSpPr>
            <p:cNvPr id="613" name="Text Box 15"/>
            <p:cNvSpPr/>
            <p:nvPr/>
          </p:nvSpPr>
          <p:spPr>
            <a:xfrm>
              <a:off x="1619280" y="1989000"/>
              <a:ext cx="9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851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Text Box 48"/>
            <p:cNvSpPr/>
            <p:nvPr/>
          </p:nvSpPr>
          <p:spPr>
            <a:xfrm>
              <a:off x="4284720" y="1989000"/>
              <a:ext cx="9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864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5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692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 Box 22"/>
            <p:cNvSpPr/>
            <p:nvPr/>
          </p:nvSpPr>
          <p:spPr>
            <a:xfrm>
              <a:off x="2266920" y="115920"/>
              <a:ext cx="5400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材  料  研  读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4" name="Rectangle 12"/>
          <p:cNvSpPr/>
          <p:nvPr/>
        </p:nvSpPr>
        <p:spPr>
          <a:xfrm>
            <a:off x="2012760" y="357336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为什么孙中山能成为革命党公认的领袖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1"/>
          <p:cNvSpPr/>
          <p:nvPr/>
        </p:nvSpPr>
        <p:spPr>
          <a:xfrm>
            <a:off x="468360" y="9079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孙逸仙者，近今谈革命者之初祖，实行革命者之北辰，此有耳目者所同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孙逸仙者，非一氏之私号，乃新中国新发现之名词也。有孙逸仙，而中国使可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章士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孙逸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2"/>
          <p:cNvSpPr/>
          <p:nvPr/>
        </p:nvSpPr>
        <p:spPr>
          <a:xfrm>
            <a:off x="468360" y="907920"/>
            <a:ext cx="8064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孙中山的领袖地位是靠他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顺应潮流的三民主义纲领、爱国如命的救国情怀和百折不挠的奋斗精神树立起来的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。从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894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成立第一个秘密革命团体兴中会，到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905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组建第一个全国性的革命政党同盟会，再到武昌起义爆发，孙中山从事推翻清廷的民主革命运动有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6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时间，他的人望无人能比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6"/>
          <p:cNvSpPr/>
          <p:nvPr/>
        </p:nvSpPr>
        <p:spPr>
          <a:xfrm>
            <a:off x="971640" y="733320"/>
            <a:ext cx="78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alibri"/>
                <a:ea typeface="隶书"/>
              </a:rPr>
              <a:t>二、同盟会与三民主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 Box 2">
            <a:hlinkClick r:id="rId2" action="ppaction://hlinksldjump"/>
          </p:cNvPr>
          <p:cNvSpPr/>
          <p:nvPr/>
        </p:nvSpPr>
        <p:spPr>
          <a:xfrm>
            <a:off x="755640" y="1628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）同盟会的成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179280" y="2492280"/>
            <a:ext cx="40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时间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3492360" y="2492280"/>
            <a:ext cx="41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905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3419640" y="3284640"/>
            <a:ext cx="26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日本东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79280" y="3284640"/>
            <a:ext cx="38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地点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68360" y="407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  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驱除鞑虏，恢复中华，创立民国，平均地权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5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06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8" name="Text Box 5"/>
          <p:cNvSpPr/>
          <p:nvPr/>
        </p:nvSpPr>
        <p:spPr>
          <a:xfrm>
            <a:off x="179280" y="414972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革命纲领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15"/>
          <p:cNvSpPr/>
          <p:nvPr/>
        </p:nvSpPr>
        <p:spPr>
          <a:xfrm>
            <a:off x="142920" y="5589720"/>
            <a:ext cx="34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刊物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3059280" y="5589720"/>
            <a:ext cx="57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《民报》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同盟会机关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8"/>
          <p:cNvSpPr/>
          <p:nvPr/>
        </p:nvSpPr>
        <p:spPr>
          <a:xfrm>
            <a:off x="503280" y="1838160"/>
            <a:ext cx="83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第一个全国规模的、统一的资产阶级革命政党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395280" y="3500280"/>
            <a:ext cx="85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同盟会的，使全国资产阶级革命派有了一个统一的领导和明确的奋斗目标，大大推动了全国革命运动的发展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3"/>
          <p:cNvSpPr/>
          <p:nvPr/>
        </p:nvSpPr>
        <p:spPr>
          <a:xfrm>
            <a:off x="179280" y="3397320"/>
            <a:ext cx="40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6</a:t>
            </a: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作用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250920" y="17240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性质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6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1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9" name="矩形 2"/>
          <p:cNvSpPr/>
          <p:nvPr/>
        </p:nvSpPr>
        <p:spPr>
          <a:xfrm>
            <a:off x="922320" y="866880"/>
            <a:ext cx="789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alibri"/>
                <a:ea typeface="隶书"/>
              </a:rPr>
              <a:t>二、同盟会与三民主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5"/>
          <p:cNvSpPr/>
          <p:nvPr/>
        </p:nvSpPr>
        <p:spPr>
          <a:xfrm>
            <a:off x="0" y="1650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辛亥革命的指导思想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“三民主义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2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矩形 14"/>
          <p:cNvSpPr/>
          <p:nvPr/>
        </p:nvSpPr>
        <p:spPr>
          <a:xfrm>
            <a:off x="922320" y="866880"/>
            <a:ext cx="789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alibri"/>
                <a:ea typeface="隶书"/>
              </a:rPr>
              <a:t>二、同盟会与三民主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2"/>
          <p:cNvSpPr/>
          <p:nvPr/>
        </p:nvSpPr>
        <p:spPr>
          <a:xfrm>
            <a:off x="237960" y="2373480"/>
            <a:ext cx="23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驱除鞑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恢复中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37960" y="4222800"/>
            <a:ext cx="23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创立民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37960" y="5589720"/>
            <a:ext cx="23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平均地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556000" y="2651760"/>
            <a:ext cx="2592360" cy="70344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民族主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629080" y="4188240"/>
            <a:ext cx="2592360" cy="70344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民权主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556000" y="5591880"/>
            <a:ext cx="2592360" cy="70344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民生主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2771640" y="3357720"/>
            <a:ext cx="2160720" cy="839520"/>
          </a:xfrm>
          <a:prstGeom prst="pi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核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2"/>
          <p:cNvSpPr/>
          <p:nvPr/>
        </p:nvSpPr>
        <p:spPr>
          <a:xfrm>
            <a:off x="5208480" y="2585880"/>
            <a:ext cx="3733920" cy="914400"/>
          </a:xfrm>
          <a:prstGeom prst="leftArrowCallout">
            <a:avLst>
              <a:gd name="adj1" fmla="val 33336"/>
              <a:gd name="adj2" fmla="val 25000"/>
              <a:gd name="adj3" fmla="val 55562"/>
              <a:gd name="adj4" fmla="val 74326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推翻清政府统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AutoShape 13"/>
          <p:cNvSpPr/>
          <p:nvPr/>
        </p:nvSpPr>
        <p:spPr>
          <a:xfrm>
            <a:off x="5003640" y="4016520"/>
            <a:ext cx="4140360" cy="919080"/>
          </a:xfrm>
          <a:prstGeom prst="leftArrowCallout">
            <a:avLst>
              <a:gd name="adj1" fmla="val 33336"/>
              <a:gd name="adj2" fmla="val 25000"/>
              <a:gd name="adj3" fmla="val 59210"/>
              <a:gd name="adj4" fmla="val 74326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废除君主制建立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阶级民主共和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AutoShape 14"/>
          <p:cNvSpPr/>
          <p:nvPr/>
        </p:nvSpPr>
        <p:spPr>
          <a:xfrm>
            <a:off x="5159520" y="5454720"/>
            <a:ext cx="3733560" cy="914400"/>
          </a:xfrm>
          <a:prstGeom prst="leftArrowCallout">
            <a:avLst>
              <a:gd name="adj1" fmla="val 33336"/>
              <a:gd name="adj2" fmla="val 25000"/>
              <a:gd name="adj3" fmla="val 55556"/>
              <a:gd name="adj4" fmla="val 74326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改革土地制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24"/>
          <p:cNvSpPr/>
          <p:nvPr/>
        </p:nvSpPr>
        <p:spPr>
          <a:xfrm>
            <a:off x="6372360" y="22734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民族革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5"/>
          <p:cNvSpPr/>
          <p:nvPr/>
        </p:nvSpPr>
        <p:spPr>
          <a:xfrm>
            <a:off x="6470640" y="3568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政治革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6"/>
          <p:cNvSpPr/>
          <p:nvPr/>
        </p:nvSpPr>
        <p:spPr>
          <a:xfrm>
            <a:off x="6513480" y="52261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社会革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9" name="Object 15"/>
          <p:cNvGraphicFramePr/>
          <p:nvPr/>
        </p:nvGraphicFramePr>
        <p:xfrm>
          <a:off x="250920" y="404640"/>
          <a:ext cx="860400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60400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Text Box 3"/>
          <p:cNvSpPr/>
          <p:nvPr/>
        </p:nvSpPr>
        <p:spPr>
          <a:xfrm>
            <a:off x="179280" y="518652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2000">
                <a:solidFill>
                  <a:srgbClr val="cc0000"/>
                </a:solidFill>
                <a:latin typeface="黑体"/>
              </a:rPr>
              <a:t>1905</a:t>
            </a:r>
            <a:r>
              <a:rPr b="1" lang="zh-CN" sz="7200" spc="-1" strike="noStrike" baseline="12000">
                <a:solidFill>
                  <a:srgbClr val="cc0000"/>
                </a:solidFill>
                <a:latin typeface="黑体"/>
              </a:rPr>
              <a:t>年</a:t>
            </a:r>
            <a:r>
              <a:rPr b="1" lang="en-US" sz="7200" spc="-1" strike="noStrike" baseline="12000">
                <a:solidFill>
                  <a:srgbClr val="cc0000"/>
                </a:solidFill>
                <a:latin typeface="黑体"/>
              </a:rPr>
              <a:t>8</a:t>
            </a:r>
            <a:r>
              <a:rPr b="1" lang="zh-CN" sz="7200" spc="-1" strike="noStrike" baseline="12000">
                <a:solidFill>
                  <a:srgbClr val="cc0000"/>
                </a:solidFill>
                <a:latin typeface="黑体"/>
              </a:rPr>
              <a:t>月</a:t>
            </a:r>
            <a:r>
              <a:rPr b="1" lang="en-US" sz="7200" spc="-1" strike="noStrike" baseline="12000">
                <a:solidFill>
                  <a:srgbClr val="cc0000"/>
                </a:solidFill>
                <a:latin typeface="黑体"/>
              </a:rPr>
              <a:t>20</a:t>
            </a:r>
            <a:r>
              <a:rPr b="1" lang="zh-CN" sz="7200" spc="-1" strike="noStrike" baseline="12000">
                <a:solidFill>
                  <a:srgbClr val="cc0000"/>
                </a:solidFill>
                <a:latin typeface="黑体"/>
              </a:rPr>
              <a:t>日，中国同盟会在日本东京正式成立（画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4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75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Object 15"/>
          <p:cNvGraphicFramePr/>
          <p:nvPr/>
        </p:nvGraphicFramePr>
        <p:xfrm>
          <a:off x="0" y="765000"/>
          <a:ext cx="4430880" cy="60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443088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Text Box 3"/>
          <p:cNvSpPr/>
          <p:nvPr/>
        </p:nvSpPr>
        <p:spPr>
          <a:xfrm>
            <a:off x="4643280" y="1413000"/>
            <a:ext cx="4191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中国同盟会总理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中国民主革命的先行者孙中山先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49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75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3"/>
          <p:cNvSpPr/>
          <p:nvPr/>
        </p:nvSpPr>
        <p:spPr>
          <a:xfrm>
            <a:off x="539640" y="836640"/>
            <a:ext cx="820908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一）孙中山早期革命活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成立兴中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发动广州起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二）同盟会与三民主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资产阶级革命思想的传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华兴会和光复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同盟会的成立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时间、政治纲领、性质、作用、三民主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Group 9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753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WordArt 3"/>
            <p:cNvSpPr txBox="1"/>
            <p:nvPr/>
          </p:nvSpPr>
          <p:spPr>
            <a:xfrm>
              <a:off x="3132000" y="44280"/>
              <a:ext cx="3889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本课小结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4"/>
          <p:cNvSpPr/>
          <p:nvPr/>
        </p:nvSpPr>
        <p:spPr>
          <a:xfrm>
            <a:off x="250920" y="836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、李鸿章、康有为、孙中山是中国近代史上三位重要历史人物，他们在中国近代化进程中都作出了重要贡献。请你查阅相关资料，谈谈对他们的看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6" name="Group 7"/>
          <p:cNvGrpSpPr/>
          <p:nvPr/>
        </p:nvGrpSpPr>
        <p:grpSpPr>
          <a:xfrm>
            <a:off x="0" y="0"/>
            <a:ext cx="9144000" cy="888480"/>
            <a:chOff x="0" y="0"/>
            <a:chExt cx="9144000" cy="888480"/>
          </a:xfrm>
        </p:grpSpPr>
        <p:pic>
          <p:nvPicPr>
            <p:cNvPr id="7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Text Box 22"/>
            <p:cNvSpPr/>
            <p:nvPr/>
          </p:nvSpPr>
          <p:spPr>
            <a:xfrm>
              <a:off x="1908000" y="136440"/>
              <a:ext cx="6050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后  活  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矩形 1"/>
          <p:cNvSpPr/>
          <p:nvPr/>
        </p:nvSpPr>
        <p:spPr>
          <a:xfrm>
            <a:off x="539640" y="3068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李鸿章是地主阶级洋务派的代表，领导的洋务运动客观了推动了中国经济的近代化；康有为和孙中山分别是资产阶级维新派和革命派的代表，他们都主张在政治上学习西方的政治制度，推动了中国政治近代化的近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4"/>
          <p:cNvSpPr/>
          <p:nvPr/>
        </p:nvSpPr>
        <p:spPr>
          <a:xfrm>
            <a:off x="538200" y="83664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、三民主义与同盟会政治纲领的关系是什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Group 7"/>
          <p:cNvGrpSpPr/>
          <p:nvPr/>
        </p:nvGrpSpPr>
        <p:grpSpPr>
          <a:xfrm>
            <a:off x="0" y="0"/>
            <a:ext cx="9144000" cy="888480"/>
            <a:chOff x="0" y="0"/>
            <a:chExt cx="9144000" cy="888480"/>
          </a:xfrm>
        </p:grpSpPr>
        <p:pic>
          <p:nvPicPr>
            <p:cNvPr id="76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 Box 22"/>
            <p:cNvSpPr/>
            <p:nvPr/>
          </p:nvSpPr>
          <p:spPr>
            <a:xfrm>
              <a:off x="1908000" y="136440"/>
              <a:ext cx="6050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后  活  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矩形 1"/>
          <p:cNvSpPr/>
          <p:nvPr/>
        </p:nvSpPr>
        <p:spPr>
          <a:xfrm>
            <a:off x="611280" y="2205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三民主义是孙中山对同盟会政治纲领的阐述和概括。也是同盟会政治纲领的另一种表述方式。二者并无原则上和实质上的区别。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驱除鞑虏，恢复中华”即民族主义；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建立民国”即民权主义；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平均地权”即民生主义。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539640" y="939960"/>
            <a:ext cx="8136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孙中山资产阶级民主革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思想的核心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Ａ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民族主义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Ｂ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民权主义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Ｃ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民生主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Ｄ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民享主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Picture 16" descr="www.jkzyw.com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8931240" y="6597720"/>
            <a:ext cx="212760" cy="260280"/>
          </a:xfrm>
          <a:prstGeom prst="rect">
            <a:avLst/>
          </a:prstGeom>
          <a:ln w="0">
            <a:noFill/>
          </a:ln>
        </p:spPr>
      </p:pic>
      <p:grpSp>
        <p:nvGrpSpPr>
          <p:cNvPr id="767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768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70" name="Rectangle 7"/>
          <p:cNvSpPr/>
          <p:nvPr/>
        </p:nvSpPr>
        <p:spPr>
          <a:xfrm>
            <a:off x="6164640" y="3429000"/>
            <a:ext cx="1404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cc0000"/>
                </a:solidFill>
                <a:latin typeface="Calibri"/>
              </a:rPr>
              <a:t>B</a:t>
            </a:r>
            <a:endParaRPr b="0" lang="en-US" sz="1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WordArt 1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1080" y="890640"/>
            <a:ext cx="7547040" cy="925560"/>
          </a:xfrm>
          <a:prstGeom prst="rect">
            <a:avLst/>
          </a:prstGeom>
          <a:ln w="0">
            <a:noFill/>
          </a:ln>
        </p:spPr>
      </p:pic>
      <p:sp>
        <p:nvSpPr>
          <p:cNvPr id="616" name="WordArt 4"/>
          <p:cNvSpPr txBox="1"/>
          <p:nvPr/>
        </p:nvSpPr>
        <p:spPr>
          <a:xfrm>
            <a:off x="1692360" y="138240"/>
            <a:ext cx="691200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第三单元 资产阶级民主革命与中华民国的建立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pic>
        <p:nvPicPr>
          <p:cNvPr id="617" name="Picture 5" descr="u=3361994183,4220079956&amp;fm=21&amp;gp=0"/>
          <p:cNvPicPr/>
          <p:nvPr/>
        </p:nvPicPr>
        <p:blipFill>
          <a:blip r:embed="rId4"/>
          <a:stretch/>
        </p:blipFill>
        <p:spPr>
          <a:xfrm>
            <a:off x="0" y="1916280"/>
            <a:ext cx="9144000" cy="42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395280" y="836640"/>
            <a:ext cx="8353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中国近代以来，“师夷长技以制夷”“中体西用”“兴办洋务”“君主立宪”等思想的失败说明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Ａ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近代中国要谋求社会进步必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走革命的道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Ｂ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提出这些思想的人都是志大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疏的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Ｃ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近代中国不可能走向富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Ｄ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中国必须进行辛亥革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Picture 16" descr="www.jkzyw.com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8931240" y="6597720"/>
            <a:ext cx="212760" cy="260280"/>
          </a:xfrm>
          <a:prstGeom prst="rect">
            <a:avLst/>
          </a:prstGeom>
          <a:ln w="0">
            <a:noFill/>
          </a:ln>
        </p:spPr>
      </p:pic>
      <p:grpSp>
        <p:nvGrpSpPr>
          <p:cNvPr id="773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774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76" name="Rectangle 7"/>
          <p:cNvSpPr/>
          <p:nvPr/>
        </p:nvSpPr>
        <p:spPr>
          <a:xfrm>
            <a:off x="7416000" y="4476600"/>
            <a:ext cx="9428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cc0000"/>
                </a:solidFill>
                <a:latin typeface="Calibri"/>
              </a:rPr>
              <a:t>A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293760" y="692280"/>
            <a:ext cx="867096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三民主义中，民权主义的政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目标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Ａ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推翻封建制度，反对满族贵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对中国的专制统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Ｂ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推翻君主专制政体，建立资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阶级民主共和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Ｃ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推翻满族贵族的统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Ｄ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推翻帝国主义的统治，建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中华民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8" name="Picture 16" descr="www.jkzyw.com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8931240" y="6597720"/>
            <a:ext cx="212760" cy="260280"/>
          </a:xfrm>
          <a:prstGeom prst="rect">
            <a:avLst/>
          </a:prstGeom>
          <a:ln w="0">
            <a:noFill/>
          </a:ln>
        </p:spPr>
      </p:pic>
      <p:grpSp>
        <p:nvGrpSpPr>
          <p:cNvPr id="779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780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82" name="Rectangle 7"/>
          <p:cNvSpPr/>
          <p:nvPr/>
        </p:nvSpPr>
        <p:spPr>
          <a:xfrm>
            <a:off x="7517160" y="3422520"/>
            <a:ext cx="1198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300" spc="-1" strike="noStrike">
                <a:solidFill>
                  <a:srgbClr val="cc0000"/>
                </a:solidFill>
                <a:latin typeface="Calibri"/>
              </a:rPr>
              <a:t>B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2"/>
          <p:cNvSpPr/>
          <p:nvPr/>
        </p:nvSpPr>
        <p:spPr>
          <a:xfrm>
            <a:off x="480960" y="907920"/>
            <a:ext cx="79074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4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三民主义的核心是民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主义，因为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A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提出了政治革命的目标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B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制定了社会革命的方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C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阐述了文化革命的纲要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D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反映了中国社会的矛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785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87" name="Rectangle 7"/>
          <p:cNvSpPr/>
          <p:nvPr/>
        </p:nvSpPr>
        <p:spPr>
          <a:xfrm>
            <a:off x="7458840" y="549360"/>
            <a:ext cx="128088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300" spc="-1" strike="noStrike">
                <a:solidFill>
                  <a:srgbClr val="cc0000"/>
                </a:solidFill>
                <a:latin typeface="Calibri"/>
              </a:rPr>
              <a:t>A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409680" y="836640"/>
            <a:ext cx="8194680" cy="40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5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中华民国成立后，由孙中山颁布的中国历史上第一部资产阶级民主宪法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A.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资政新篇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　　　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B.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中华民国临时约法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C.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中华民国约法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D.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和平建国纲领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9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790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92" name="Rectangle 7"/>
          <p:cNvSpPr/>
          <p:nvPr/>
        </p:nvSpPr>
        <p:spPr>
          <a:xfrm>
            <a:off x="5658480" y="2000160"/>
            <a:ext cx="1198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300" spc="-1" strike="noStrike">
                <a:solidFill>
                  <a:srgbClr val="cc0000"/>
                </a:solidFill>
                <a:latin typeface="Calibri"/>
              </a:rPr>
              <a:t>B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216000" y="893880"/>
            <a:ext cx="8820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6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以下对三民主义的评价不正确的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Ａ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三民主义集中代表大地主，大资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阶级在政治，经济上的利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Ｂ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它集中反映了中国人民要求民族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立，民主权利和发展经济的共同愿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Ｃ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它推动了资产阶级民主革命运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的发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Ｄ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在它的指导下，颁布了第一部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产阶级民主宪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36360" y="0"/>
            <a:ext cx="9144000" cy="836640"/>
            <a:chOff x="36360" y="0"/>
            <a:chExt cx="9144000" cy="836640"/>
          </a:xfrm>
        </p:grpSpPr>
        <p:pic>
          <p:nvPicPr>
            <p:cNvPr id="795" name="Picture 10" descr="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WordArt 3"/>
            <p:cNvSpPr txBox="1"/>
            <p:nvPr/>
          </p:nvSpPr>
          <p:spPr>
            <a:xfrm>
              <a:off x="3240000" y="71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97" name="Rectangle 7"/>
          <p:cNvSpPr/>
          <p:nvPr/>
        </p:nvSpPr>
        <p:spPr>
          <a:xfrm>
            <a:off x="7285320" y="1504800"/>
            <a:ext cx="109656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900" spc="-1" strike="noStrike">
                <a:solidFill>
                  <a:srgbClr val="cc0000"/>
                </a:solidFill>
                <a:latin typeface="Calibri"/>
              </a:rPr>
              <a:t>A</a:t>
            </a: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360360" y="836640"/>
            <a:ext cx="8459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7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孙中山在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民报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发刊词中，把同盟会的政治纲领阐发为三大主义，其中“民族主义”含义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推翻腐朽的清政府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结束帝国主义在中国的统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建立资产阶级共和国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贯彻“平均主义”的主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9" name="Group 12"/>
          <p:cNvGrpSpPr/>
          <p:nvPr/>
        </p:nvGrpSpPr>
        <p:grpSpPr>
          <a:xfrm>
            <a:off x="36360" y="0"/>
            <a:ext cx="9144000" cy="836640"/>
            <a:chOff x="36360" y="0"/>
            <a:chExt cx="9144000" cy="836640"/>
          </a:xfrm>
        </p:grpSpPr>
        <p:pic>
          <p:nvPicPr>
            <p:cNvPr id="800" name="Picture 10" descr="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WordArt 3"/>
            <p:cNvSpPr txBox="1"/>
            <p:nvPr/>
          </p:nvSpPr>
          <p:spPr>
            <a:xfrm>
              <a:off x="3240000" y="71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802" name="Rectangle 7"/>
          <p:cNvSpPr/>
          <p:nvPr/>
        </p:nvSpPr>
        <p:spPr>
          <a:xfrm>
            <a:off x="7645680" y="2587680"/>
            <a:ext cx="109656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900" spc="-1" strike="noStrike">
                <a:solidFill>
                  <a:srgbClr val="cc0000"/>
                </a:solidFill>
                <a:latin typeface="Calibri"/>
              </a:rPr>
              <a:t>A</a:t>
            </a: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4" descr=""/>
          <p:cNvPicPr/>
          <p:nvPr/>
        </p:nvPicPr>
        <p:blipFill>
          <a:blip r:embed="rId2"/>
          <a:stretch/>
        </p:blipFill>
        <p:spPr>
          <a:xfrm>
            <a:off x="2657520" y="457200"/>
            <a:ext cx="4002120" cy="46083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"/>
          <p:cNvPicPr/>
          <p:nvPr/>
        </p:nvPicPr>
        <p:blipFill>
          <a:blip r:embed="rId3"/>
          <a:stretch/>
        </p:blipFill>
        <p:spPr>
          <a:xfrm>
            <a:off x="642960" y="404640"/>
            <a:ext cx="1763640" cy="45720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6" descr=""/>
          <p:cNvPicPr/>
          <p:nvPr/>
        </p:nvPicPr>
        <p:blipFill>
          <a:blip r:embed="rId4"/>
          <a:stretch/>
        </p:blipFill>
        <p:spPr>
          <a:xfrm>
            <a:off x="6875640" y="476280"/>
            <a:ext cx="1512720" cy="4500360"/>
          </a:xfrm>
          <a:prstGeom prst="rect">
            <a:avLst/>
          </a:prstGeom>
          <a:ln w="0">
            <a:noFill/>
          </a:ln>
        </p:spPr>
      </p:pic>
      <p:sp>
        <p:nvSpPr>
          <p:cNvPr id="807" name="WordArt 6"/>
          <p:cNvSpPr txBox="1"/>
          <p:nvPr/>
        </p:nvSpPr>
        <p:spPr>
          <a:xfrm>
            <a:off x="2411280" y="3933720"/>
            <a:ext cx="4753080" cy="27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再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孙中山（1911年）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829040" y="981000"/>
            <a:ext cx="4351320" cy="56167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108000" y="1052640"/>
            <a:ext cx="48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孙中山，中国民主革命的先行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6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出生于广东香山。早年学医，后认识到“医国”比“医人”更重要，开始寻求救国的道路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曾上书要求变法，但变法自强的梦想很快破灭，从此走上资产阶级民主革命的道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4" descr="孙中山《天下为公》"/>
          <p:cNvPicPr/>
          <p:nvPr/>
        </p:nvPicPr>
        <p:blipFill>
          <a:blip r:embed="rId2"/>
          <a:stretch/>
        </p:blipFill>
        <p:spPr>
          <a:xfrm>
            <a:off x="539640" y="5568840"/>
            <a:ext cx="4032360" cy="124488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6"/>
          <p:cNvGrpSpPr/>
          <p:nvPr/>
        </p:nvGrpSpPr>
        <p:grpSpPr>
          <a:xfrm>
            <a:off x="0" y="0"/>
            <a:ext cx="9144000" cy="906120"/>
            <a:chOff x="0" y="0"/>
            <a:chExt cx="9144000" cy="906120"/>
          </a:xfrm>
        </p:grpSpPr>
        <p:pic>
          <p:nvPicPr>
            <p:cNvPr id="622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22"/>
            <p:cNvSpPr/>
            <p:nvPr/>
          </p:nvSpPr>
          <p:spPr>
            <a:xfrm>
              <a:off x="1908000" y="154080"/>
              <a:ext cx="568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人  物  扫  描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7912080" y="599436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grpSp>
        <p:nvGrpSpPr>
          <p:cNvPr id="626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62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9" name="Rectangle 40"/>
          <p:cNvSpPr/>
          <p:nvPr/>
        </p:nvSpPr>
        <p:spPr>
          <a:xfrm>
            <a:off x="792000" y="73332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alibri"/>
                <a:ea typeface="隶书"/>
              </a:rPr>
              <a:t>一、孙中山早年的革命活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2">
            <a:hlinkClick r:id="rId3" action="ppaction://hlinksldjump"/>
          </p:cNvPr>
          <p:cNvSpPr/>
          <p:nvPr/>
        </p:nvSpPr>
        <p:spPr>
          <a:xfrm>
            <a:off x="2691720" y="148428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、成立兴中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179280" y="2205000"/>
            <a:ext cx="40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时间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3492360" y="2205000"/>
            <a:ext cx="41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894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1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254160" y="3789360"/>
            <a:ext cx="878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提出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____________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的宗旨，号召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____________________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________________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3995640" y="2997360"/>
            <a:ext cx="26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檀香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243000" y="3044880"/>
            <a:ext cx="38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地点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68360" y="587700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中国第一个资产阶级革命团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"/>
          <p:cNvSpPr/>
          <p:nvPr/>
        </p:nvSpPr>
        <p:spPr>
          <a:xfrm>
            <a:off x="2700360" y="3716280"/>
            <a:ext cx="376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振兴中华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"/>
          <p:cNvSpPr/>
          <p:nvPr/>
        </p:nvSpPr>
        <p:spPr>
          <a:xfrm>
            <a:off x="611280" y="436572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“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驱逐鞑虏，恢复中国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创立合众政府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7524720" y="177336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3"/>
          <p:cNvSpPr/>
          <p:nvPr/>
        </p:nvSpPr>
        <p:spPr>
          <a:xfrm>
            <a:off x="1979640" y="5157720"/>
            <a:ext cx="637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起义消息泄露，陆皓东等人被捕牺牲，起义失败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64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5" name="Rectangle 40"/>
          <p:cNvSpPr/>
          <p:nvPr/>
        </p:nvSpPr>
        <p:spPr>
          <a:xfrm>
            <a:off x="792000" y="73332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alibri"/>
                <a:ea typeface="隶书"/>
              </a:rPr>
              <a:t>一、孙中山早年的革命活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2">
            <a:hlinkClick r:id="rId3" action="ppaction://hlinksldjump"/>
          </p:cNvPr>
          <p:cNvSpPr/>
          <p:nvPr/>
        </p:nvSpPr>
        <p:spPr>
          <a:xfrm>
            <a:off x="2984040" y="148428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、发动广州起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4"/>
          <p:cNvSpPr/>
          <p:nvPr/>
        </p:nvSpPr>
        <p:spPr>
          <a:xfrm>
            <a:off x="857520" y="2443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时间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5"/>
          <p:cNvSpPr/>
          <p:nvPr/>
        </p:nvSpPr>
        <p:spPr>
          <a:xfrm>
            <a:off x="2124000" y="244332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895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6"/>
          <p:cNvSpPr/>
          <p:nvPr/>
        </p:nvSpPr>
        <p:spPr>
          <a:xfrm>
            <a:off x="813240" y="35244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目的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7"/>
          <p:cNvSpPr/>
          <p:nvPr/>
        </p:nvSpPr>
        <p:spPr>
          <a:xfrm>
            <a:off x="1935000" y="3500280"/>
            <a:ext cx="40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建立革命据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8"/>
          <p:cNvSpPr/>
          <p:nvPr/>
        </p:nvSpPr>
        <p:spPr>
          <a:xfrm>
            <a:off x="813240" y="51800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结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2"/>
          <p:cNvSpPr/>
          <p:nvPr/>
        </p:nvSpPr>
        <p:spPr>
          <a:xfrm>
            <a:off x="5724360" y="1557360"/>
            <a:ext cx="3672000" cy="283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吾志所向，一往无前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愈挫愈奋，再接再厉！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华文新魏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孙中山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http://p4.so.qhimgs1.com/bdr/_240_/t011d064110147a571a.jpg"/>
          <p:cNvPicPr/>
          <p:nvPr/>
        </p:nvPicPr>
        <p:blipFill>
          <a:blip r:embed="rId1"/>
          <a:stretch/>
        </p:blipFill>
        <p:spPr>
          <a:xfrm>
            <a:off x="457200" y="4365720"/>
            <a:ext cx="3362400" cy="2286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http://p3.so.qhmsg.com/bdr/_240_/t01e9dc5884686f7e48.jpg"/>
          <p:cNvPicPr/>
          <p:nvPr/>
        </p:nvPicPr>
        <p:blipFill>
          <a:blip r:embed="rId2"/>
          <a:stretch/>
        </p:blipFill>
        <p:spPr>
          <a:xfrm>
            <a:off x="5952960" y="4365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6"/>
          <p:cNvSpPr/>
          <p:nvPr/>
        </p:nvSpPr>
        <p:spPr>
          <a:xfrm>
            <a:off x="971640" y="733320"/>
            <a:ext cx="78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alibri"/>
                <a:ea typeface="隶书"/>
              </a:rPr>
              <a:t>二、同盟会与三民主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">
            <a:hlinkClick r:id="rId4" action="ppaction://hlinksldjump"/>
          </p:cNvPr>
          <p:cNvSpPr/>
          <p:nvPr/>
        </p:nvSpPr>
        <p:spPr>
          <a:xfrm>
            <a:off x="250920" y="155736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、资产阶级革命思想的迅速传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8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659" name="Picture 5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矩形 1"/>
          <p:cNvSpPr/>
          <p:nvPr/>
        </p:nvSpPr>
        <p:spPr>
          <a:xfrm>
            <a:off x="611280" y="2349360"/>
            <a:ext cx="831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章炳麟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—— 《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驳康有为论革命书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邹  容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—— 《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革命军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陈天华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—— 《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猛回头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警世钟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2"/>
          <p:cNvSpPr/>
          <p:nvPr/>
        </p:nvSpPr>
        <p:spPr>
          <a:xfrm>
            <a:off x="838080" y="4722840"/>
            <a:ext cx="76215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黑体"/>
                <a:ea typeface="黑体"/>
              </a:rPr>
              <a:t>号召人们起来推翻清政府的统治，建立民主共和制度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4" descr="http://p1.so.qhimgs1.com/bdr/_240_/t014c98ce461c577f11.jpg"/>
          <p:cNvPicPr/>
          <p:nvPr/>
        </p:nvPicPr>
        <p:blipFill>
          <a:blip r:embed="rId1"/>
          <a:stretch/>
        </p:blipFill>
        <p:spPr>
          <a:xfrm>
            <a:off x="5137200" y="265104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6"/>
          <p:cNvSpPr/>
          <p:nvPr/>
        </p:nvSpPr>
        <p:spPr>
          <a:xfrm>
            <a:off x="971640" y="733320"/>
            <a:ext cx="78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alibri"/>
                <a:ea typeface="隶书"/>
              </a:rPr>
              <a:t>二、同盟会与三民主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2">
            <a:hlinkClick r:id="rId3" action="ppaction://hlinksldjump"/>
          </p:cNvPr>
          <p:cNvSpPr/>
          <p:nvPr/>
        </p:nvSpPr>
        <p:spPr>
          <a:xfrm>
            <a:off x="250920" y="155736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、成立革命团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7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66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0" name="矩形 1"/>
          <p:cNvSpPr/>
          <p:nvPr/>
        </p:nvSpPr>
        <p:spPr>
          <a:xfrm>
            <a:off x="34920" y="2363760"/>
            <a:ext cx="53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华兴会和光复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组合 3"/>
          <p:cNvGrpSpPr/>
          <p:nvPr/>
        </p:nvGrpSpPr>
        <p:grpSpPr>
          <a:xfrm>
            <a:off x="34920" y="3213000"/>
            <a:ext cx="5257800" cy="3378600"/>
            <a:chOff x="34920" y="3213000"/>
            <a:chExt cx="5257800" cy="3378600"/>
          </a:xfrm>
        </p:grpSpPr>
        <p:pic>
          <p:nvPicPr>
            <p:cNvPr id="672" name="Picture 2" descr="http://p0.so.qhimgs1.com/bdr/_240_/t01a1788b461b52ce80.jpg"/>
            <p:cNvPicPr/>
            <p:nvPr/>
          </p:nvPicPr>
          <p:blipFill>
            <a:blip r:embed="rId5"/>
            <a:stretch/>
          </p:blipFill>
          <p:spPr>
            <a:xfrm>
              <a:off x="34920" y="3213000"/>
              <a:ext cx="5257800" cy="32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矩形 2"/>
            <p:cNvSpPr/>
            <p:nvPr/>
          </p:nvSpPr>
          <p:spPr>
            <a:xfrm>
              <a:off x="2259360" y="6010200"/>
              <a:ext cx="3033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华兴会纪念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108000" y="1916280"/>
          <a:ext cx="8893080" cy="4597200"/>
        </p:xfrm>
        <a:graphic>
          <a:graphicData uri="http://schemas.openxmlformats.org/drawingml/2006/table">
            <a:tbl>
              <a:tblPr/>
              <a:tblGrid>
                <a:gridCol w="1952640"/>
                <a:gridCol w="2025720"/>
                <a:gridCol w="2690640"/>
                <a:gridCol w="2224080"/>
              </a:tblGrid>
              <a:tr h="874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成立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主要成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领导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9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兴中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华侨和留学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孙中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0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华兴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留学生和学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黄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宋教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0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光复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留学生和学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蔡元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06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日知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学界和新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刘静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WordArt 34"/>
          <p:cNvSpPr txBox="1"/>
          <p:nvPr/>
        </p:nvSpPr>
        <p:spPr>
          <a:xfrm>
            <a:off x="324000" y="1125360"/>
            <a:ext cx="8532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标志着资产阶级革命派的初步形成</a:t>
            </a:r>
            <a:endParaRPr b="1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677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19" descr="tmhui"/>
          <p:cNvPicPr/>
          <p:nvPr/>
        </p:nvPicPr>
        <p:blipFill>
          <a:blip r:embed="rId1"/>
          <a:stretch/>
        </p:blipFill>
        <p:spPr>
          <a:xfrm>
            <a:off x="-3492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5"/>
          <p:cNvSpPr/>
          <p:nvPr/>
        </p:nvSpPr>
        <p:spPr>
          <a:xfrm>
            <a:off x="-36360" y="855720"/>
            <a:ext cx="4427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革命团体的建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20"/>
          <p:cNvSpPr/>
          <p:nvPr/>
        </p:nvSpPr>
        <p:spPr>
          <a:xfrm>
            <a:off x="4329000" y="4808520"/>
            <a:ext cx="14796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</a:rPr>
              <a:t>华兴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21"/>
          <p:cNvSpPr/>
          <p:nvPr/>
        </p:nvSpPr>
        <p:spPr>
          <a:xfrm>
            <a:off x="7613640" y="3889440"/>
            <a:ext cx="1530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</a:rPr>
              <a:t>光复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 Box 22"/>
          <p:cNvSpPr/>
          <p:nvPr/>
        </p:nvSpPr>
        <p:spPr>
          <a:xfrm>
            <a:off x="4846680" y="2997360"/>
            <a:ext cx="1530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</a:rPr>
              <a:t>共进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23"/>
          <p:cNvSpPr/>
          <p:nvPr/>
        </p:nvSpPr>
        <p:spPr>
          <a:xfrm>
            <a:off x="3246480" y="4221000"/>
            <a:ext cx="1530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</a:rPr>
              <a:t>日知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24"/>
          <p:cNvSpPr/>
          <p:nvPr/>
        </p:nvSpPr>
        <p:spPr>
          <a:xfrm>
            <a:off x="2484360" y="3573360"/>
            <a:ext cx="1530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</a:rPr>
              <a:t>文学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25"/>
          <p:cNvSpPr/>
          <p:nvPr/>
        </p:nvSpPr>
        <p:spPr>
          <a:xfrm>
            <a:off x="6418440" y="6265800"/>
            <a:ext cx="2330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</a:rPr>
              <a:t>兴中会总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 Box 26"/>
          <p:cNvSpPr/>
          <p:nvPr/>
        </p:nvSpPr>
        <p:spPr>
          <a:xfrm>
            <a:off x="3854520" y="2063880"/>
            <a:ext cx="64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Group 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68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Text Box 22"/>
            <p:cNvSpPr/>
            <p:nvPr/>
          </p:nvSpPr>
          <p:spPr>
            <a:xfrm>
              <a:off x="1908000" y="15408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8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革命先行者孙中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7T10:47:39Z</dcterms:created>
  <dc:creator>免费更新微信：popo6111；淘宝店铺：泡泡教育</dc:creator>
  <dc:description>微店：http://weidian.com/s/259607770?wfr=c&amp;ifr=shopdetail</dc:description>
  <cp:keywords>微店：http://weidian.com/s/259607770?wfr=c&amp;ifr=shopdetail</cp:keywords>
  <dc:language>en-US</dc:language>
  <cp:lastModifiedBy>微软中国</cp:lastModifiedBy>
  <dcterms:modified xsi:type="dcterms:W3CDTF">2018-05-02T05:17:15Z</dcterms:modified>
  <cp:revision>24</cp:revision>
  <dc:subject>免费更新微信：popo6111；淘宝店铺：泡泡教育</dc:subject>
  <dc:title>免费更新微信：popo6111；淘宝店铺：泡泡教育</dc:title>
</cp:coreProperties>
</file>