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8.jpeg" ContentType="image/jpeg"/>
  <Override PartName="/ppt/media/image28.png" ContentType="image/png"/>
  <Override PartName="/ppt/media/image5.gif" ContentType="image/gif"/>
  <Override PartName="/ppt/media/image30.gif" ContentType="image/gif"/>
  <Override PartName="/ppt/media/image9.png" ContentType="image/png"/>
  <Override PartName="/ppt/media/image16.jpeg" ContentType="image/jpeg"/>
  <Override PartName="/ppt/media/wind.wav" ContentType="audio/x-wav"/>
  <Override PartName="/ppt/media/image6.png" ContentType="image/png"/>
  <Override PartName="/ppt/media/image29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20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14.png" ContentType="image/png"/>
  <Override PartName="/ppt/media/image15.jpeg" ContentType="image/jpeg"/>
  <Override PartName="/ppt/media/image18.jpeg" ContentType="image/jpeg"/>
  <Override PartName="/ppt/media/image21.png" ContentType="image/png"/>
  <Override PartName="/ppt/media/image22.png" ContentType="image/pn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352B-4E6F-4D14-BD0B-39AA7EEE19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0661-C3FB-4CAB-899F-06A0BC113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FDC5-07B8-4855-89AC-D99B4AC0B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3006-DE83-4B36-AE01-A571B91F6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E6F2-F50D-4E0E-A2EB-7C14DDA4E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A2E-86A7-4A88-BA77-41E5642D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1B3-41A6-453B-B317-CDF7A20E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D4658-97BC-457D-B1C8-F063CC20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AB203-133B-4274-A844-9CC43BD8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E1899-234D-41E1-AB42-78E0BB31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7F3C5-D73F-4A7C-9805-680A9786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82C2E-8829-40D0-BB69-CD376A3D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B333C-EABB-4B41-BA69-EA20D3A2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410A5-5483-4B5B-80D9-D9F1A345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137C9-B99D-41F1-9B4D-D592C5C8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871CA-3E0E-4CDA-B1D3-5F65FE9A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F1276-3930-42AB-BF79-E79E14A2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8144-BB0F-4A3E-B217-7B8CCB06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DA908-18CC-44D2-9618-45A353E6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08848-F3E9-47A2-8447-B38C340F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8A842-3FCB-4D0B-8298-7CAFB753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7C4D6-8F06-44C9-B103-FBE83A48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B7DFD-D1A3-4928-B8E8-91A3232B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EA219-9D4D-4903-AC15-673586EC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9C5F2-3D76-4DA2-AA7C-28E3D765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BC2C2-1D8B-4EBC-B17B-0D08F270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110EB-7CF3-4111-B8AE-701DCE35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A8012-CF1E-43FF-BA61-B2915302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A44-2770-44BC-BB7B-71F09209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7E30F-EDA0-4F98-A01C-57C3A9C4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65E36-9F6A-4448-8523-CE1D8DBA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002CD-D63A-4BDA-A54C-FE0908A1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E716E-3F73-4DA5-9A18-731A65F9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D1661-9687-4CFC-B9A7-7B579C08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9FE83-4959-4E6B-894A-223A8E20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70CE3-DBE2-4B3B-A8E2-AE2B654D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D23DE-5C09-4721-BCD5-B5D018D0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A499C-4F55-4DBD-AAE2-5232982D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46EAA-19A7-42DB-AAAE-A1A62C51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6CFF-BB89-44BA-9722-D2997D35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14484-8713-4E52-A597-E13539D2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D3AF1-2BCF-4F3C-8FD1-407CE0A3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3780D-DE6C-422E-9021-FF5F21AA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E07FA-43F4-4402-99FF-BEE1A349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759C2-80D9-48BD-A3F4-50B5B082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B2CB4-F7ED-4553-B58E-8B1C048D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97EC2-7C64-44B8-A3E4-212CECDD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F96C7-B4FA-4769-9F95-845974DF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6E830-B202-4956-B317-C7A4DA98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3E690-9E45-49E7-B16E-321C2EE4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BB0C-8799-4CE8-A72F-CFADE8B7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0D12D-A331-4FC9-BB97-373C769D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B57FA-AB52-4FEC-B54C-25936CC7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F7741-9F53-4725-8BA4-38274395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18E6A-2997-49C4-9F78-81B15D16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08701-7C3E-4EC4-A714-1D3E1C26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67582F-ED75-443B-9780-A392B9FA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14A01-74DF-45BC-BE6D-6C0BA685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7EB369-4939-4A3D-AA15-A51235A2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8CE96-C0C9-4B3F-9BD5-9C8BE9DB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4D31FF-49C6-460E-88BA-F15B825B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8DC4-149A-4BFF-A109-B9469E57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51E87-C014-43A9-9ADA-32FBEC19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E50CE-3896-4CE9-BAF2-82B62DF6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AFF64-425A-4DAE-84A4-AB2F9B01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788A3-8776-4E28-89FD-B40B5161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E8DE1-E8DF-472F-A1DA-1EEAD7D6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80B871-2D6F-49FE-8DEF-C788BADF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0EE40-7BF4-464B-A317-0DCA19D5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A83C7-341A-48D5-9C9C-47DC1669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39913-FDE8-439B-909A-CE72AA7E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AD3A0-5561-4BB5-A72D-30855D4B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EEC9-3C44-4306-8384-E8E79380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A4224-250E-4A29-9FF4-9C9C414B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50297-B172-46E2-AF20-BE126D92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45FB9-B092-4EE1-87F1-02112FA2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C31FB2-5899-425C-8147-CFAD85F6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2B99D9-70AF-4C3E-9974-C5A3D7C2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7E876B-FA7C-44DA-9D81-FCD2D308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E096F-6C92-483A-AF78-F49471CE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18BC9F-B9D5-4733-AF87-B4DF0B76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1B5EB-6167-40EB-B14B-68FBF5BB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3E5E6-7F54-45CC-AB48-3BA88203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A306-F9D4-4D2B-B9F9-E1684031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E1DAA4-9B67-4292-B293-0A3FE3F3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AFB813-9AFB-4B31-ACBF-99255834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936CB3-8839-4370-B42E-5808D2BB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B37C3-5E70-4D19-84A1-2E884612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D5D91-3266-4107-BAF2-49EF18B2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438CB-D342-457A-87BD-F79D8D98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3797A5-B4E3-455F-A9DF-D7700953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58335-9851-4DE2-B285-A30DAB6C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1E94ED-ACAB-41D7-A43E-2C69DE3D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40B594-39BE-4195-B0DA-308D7FBF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E22A-7A35-4FB5-832A-4FF205D0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F36E2-2047-4762-B363-FCC5B1AC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8582-2558-4C2B-BB1E-962DA9ED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2D0-2C36-4038-A6A4-2B82E304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2D99-F34E-470D-9E43-468037C3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8D3B-A4BA-477B-BA27-367FBCC2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74D5-D207-4058-BB07-FAE7F13A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F249-F920-4C2D-BE9B-601176A4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8E21-81C6-4D6B-B0A1-9AAF9BC1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870E-E398-47DB-9E30-E3EC2773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D6A0-3B23-42F7-8592-2E7D7C5B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0F7D2-5159-4727-8743-FD4385AD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62212-7A9D-4CC6-A083-003429A6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E0C9B-24CB-4741-8E38-020518DD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706-77C7-44C1-927E-CE54E9B4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A65FC-DED3-4678-A75A-38409DF7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89CB8-6E6D-4125-83DB-18D0AA56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04C3E-338E-45A3-8D39-F8841963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C79E2-CB41-4C38-BDBB-F8DB4220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40A03-6600-4854-A66E-E486D95C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F9C4B-E325-4956-AFDA-DE7ACC0E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57C26-04A4-4732-9BA5-E9501CAD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51687-26BC-424F-912D-CAD3CC03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3315F-A459-4997-8104-364CD507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A7EF6-A87E-4E95-8F2B-CF97A228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C64C-20D6-4884-8063-E8D6AE84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AE8BD-E291-4B9C-A225-1105A554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6D906-0BF9-4296-AF77-160007D2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22733-4940-42E6-90B4-636FC142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17E8C-025A-4594-A5C6-80CAF583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29561-9D94-4601-9D77-0BBFE637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DE515-BB4A-4E6B-894B-DEF559EC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2297B-A5D1-4AF5-A4C9-C2ED4015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C281D-340D-4A3D-9AA3-211630F1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00012-3CFC-4705-AF52-624C9CA2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3820A-A206-4215-9D28-B54E5F6F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DDD-83FA-4704-81B3-A844BB60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D9986-761D-4810-8661-6091795E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20FDA-F76B-41EA-B01E-5375F3DF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BCA54-2A81-49CD-8F57-E253C25D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0018E-B1C7-4826-8B3A-0BFD38A8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1E0A2-7EF2-4E9F-9717-DB806CEA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717E7-9EC2-40E1-8E5D-4C21CB9F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AC96B-483F-4E72-975E-1B22B0F7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83802-7D99-4120-A12E-E6C446E5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8F3ED-23EA-48E0-A95C-AD434106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9FB4F-C955-433D-819F-A2C2EBB7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877-098F-4D83-B1B3-F2B462FA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DEDBB-D13E-435E-B6FB-978FF004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E4B1C-BB63-4CC3-8D80-4F1E05B0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FE8F4-2D81-48B2-AE25-3C9E6E4D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4700D-4EF6-4881-99A1-43B9C75A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FF8AD-BAAA-4AAB-B014-268035C1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E6502-C381-4AE6-A0A6-8B8A9187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2D024-426E-4E78-AB77-485CE689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3CD57-ECCA-4E7D-9FBE-00C237B4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170E7-41AF-4E0F-8ABE-EB584312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6BFB1-D124-47DA-B0AC-9F228D10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5CD-8603-4E8F-BA65-5B78AD25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BCB52-7857-44B2-8F21-CC9FC8F5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92BEC-CBD8-4196-A2F7-C6E7CE0D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C9475-FE75-4D8D-ABBC-D483F1F7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C3B3B-2324-49D3-AB3D-C4E9319D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39F8D-CCC3-4A35-9AC2-D23330ED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EC6CA-B7D0-486E-9FC2-A0787353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8CA21-C92F-492C-8BCF-37232435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94FE4-FB90-4AAC-A9D9-D9C91A52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693FA-7318-4C21-A1E4-093C5B7C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BB7C3-E88B-4403-ADB6-52DF446C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F5C-AB0E-4751-9AA1-11EC9CA3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1D373-7343-4B19-B6EB-AE39B2F7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85D3D-EA58-466E-8A51-82BEFFD8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D46AF-9D45-4B15-A750-01CF1054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6E4AE-BE9B-42A1-986D-C40A3946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695AD-3635-4124-A6B1-57A4C977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D0FF1-66A0-4DBE-AA0E-805FFE2F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32565-3F67-4F19-874B-76ED76E6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71BD3-0CEE-475C-A24E-7B7EFBD1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BFF75-A1FD-49CC-8E14-84094B8A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47036-756A-4778-B867-FF1E3B15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3AD-A63A-4500-8734-979EDD29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E3C5A-1904-499C-A841-9345DC8A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4E787-9E7D-4394-A43A-7F81E233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7CB1B-2E77-4E51-9BAD-C6973087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93445-59E4-4C5E-AE9E-34822626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37670-924C-426F-B6B4-4B952EBE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511E1-27AE-4DC4-BCF5-E5ECC234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3D367-6ED5-43C3-ADB6-55E3147B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AC2B0-E39E-4558-A93C-15AB66E2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04BAD-FD9C-4E0C-97CA-F5744995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7C7B0-09B4-4399-B448-B2E23A98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5E8F-669B-4009-BC55-8736014408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812E-9622-45C9-BE07-6CDE12C31C6B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4666-6F2E-457C-9DE1-C70AFFC735E6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F3D1-2446-4BF3-974B-4554A61F7E95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8C8B-F538-4558-B9CE-95BF678EBA01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2CC3-4915-4276-8B42-32911BDB1806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DFD1-41C8-4908-8FDB-FC079110B1BC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01E0-F304-4ED3-93C3-7C4BD8DF9465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E0E3-0A45-4529-B8CD-B198EF3E7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7347-ADD2-4FBF-A89B-3F84615AD385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C93E-C801-406C-8D2C-4D89913A2A84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5136-5870-4B12-BE85-DFA0D793B08F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BBC4-530C-4FBF-A5FB-CF23F85DE710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CBCF-3C8E-4557-8446-8499D118FFA9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DF2B-0701-44C1-A949-B383051991E3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imgsrc.baidu.com/baike/pic/item/834344afae6699effbed50da.jpg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3.png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19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623" name="Picture 1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WordArt 18"/>
            <p:cNvSpPr txBox="1"/>
            <p:nvPr/>
          </p:nvSpPr>
          <p:spPr>
            <a:xfrm>
              <a:off x="3132000" y="73080"/>
              <a:ext cx="3745080" cy="69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温故知新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625" name="Rectangle 4"/>
          <p:cNvSpPr/>
          <p:nvPr/>
        </p:nvSpPr>
        <p:spPr>
          <a:xfrm>
            <a:off x="179280" y="839880"/>
            <a:ext cx="878544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第一次鸦片战争</a:t>
            </a:r>
            <a:r>
              <a:rPr b="1" lang="en-US" sz="4400" spc="-1" strike="noStrike">
                <a:solidFill>
                  <a:srgbClr val="800000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南京条约</a:t>
            </a:r>
            <a:r>
              <a:rPr b="1" lang="en-US" sz="4400" spc="-1" strike="noStrike">
                <a:solidFill>
                  <a:srgbClr val="800000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的签订，给中国带来了什么严重后果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250920" y="256536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割让香港岛使中国领土主权不完整；巨额赔款，增加了人民负担；开放五口通商和协定关税，有利于资本主义国家对中国的商品输出。结果，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中国开始沦为半殖民地半封建社会。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文本框 53254"/>
          <p:cNvSpPr/>
          <p:nvPr/>
        </p:nvSpPr>
        <p:spPr>
          <a:xfrm>
            <a:off x="4554360" y="1700280"/>
            <a:ext cx="16272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时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矩形 7178"/>
          <p:cNvSpPr/>
          <p:nvPr/>
        </p:nvSpPr>
        <p:spPr>
          <a:xfrm>
            <a:off x="6207120" y="1700280"/>
            <a:ext cx="23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1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3266"/>
          <p:cNvSpPr/>
          <p:nvPr/>
        </p:nvSpPr>
        <p:spPr>
          <a:xfrm>
            <a:off x="468360" y="2924280"/>
            <a:ext cx="16272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经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7178"/>
          <p:cNvSpPr/>
          <p:nvPr/>
        </p:nvSpPr>
        <p:spPr>
          <a:xfrm>
            <a:off x="1965240" y="2492280"/>
            <a:ext cx="697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宋案”后，袁世凯决定以武力镇压国民党，下令罢免由国民党人担任的江西、广东、安徽三省都督，并派兵南下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孙中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黄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号召南方各省起来反袁，发动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二次革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文本框 4"/>
          <p:cNvSpPr/>
          <p:nvPr/>
        </p:nvSpPr>
        <p:spPr>
          <a:xfrm>
            <a:off x="423720" y="5300640"/>
            <a:ext cx="16272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结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矩形 7178"/>
          <p:cNvSpPr/>
          <p:nvPr/>
        </p:nvSpPr>
        <p:spPr>
          <a:xfrm>
            <a:off x="1974960" y="5157720"/>
            <a:ext cx="69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由于国民党力量涣散，二次革命很快被袁世凯镇压下去。孙中山、黄兴被迫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流亡日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4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93672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49"/>
          <p:cNvSpPr/>
          <p:nvPr/>
        </p:nvSpPr>
        <p:spPr>
          <a:xfrm>
            <a:off x="468360" y="9428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隶书"/>
              </a:rPr>
              <a:t>一、二次革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矩形 10"/>
          <p:cNvSpPr/>
          <p:nvPr/>
        </p:nvSpPr>
        <p:spPr>
          <a:xfrm>
            <a:off x="903240" y="1782720"/>
            <a:ext cx="454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、二次革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1" name="Group 4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02" name="Picture 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22"/>
            <p:cNvSpPr/>
            <p:nvPr/>
          </p:nvSpPr>
          <p:spPr>
            <a:xfrm>
              <a:off x="1979640" y="115920"/>
              <a:ext cx="709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1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北洋政府的黑暗统治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14" descr="timg?image&amp;quality=80&amp;size=b9999_10000&amp;sec=1497414492904&amp;di=1ef5c6b673bc286f8182cfc08523d0cf&amp;imgtype=0&amp;src=http%3A%2F%2Fimgtu"/>
          <p:cNvPicPr/>
          <p:nvPr/>
        </p:nvPicPr>
        <p:blipFill>
          <a:blip r:embed="rId1"/>
          <a:stretch/>
        </p:blipFill>
        <p:spPr>
          <a:xfrm>
            <a:off x="1033560" y="1773360"/>
            <a:ext cx="8110440" cy="5092560"/>
          </a:xfrm>
          <a:prstGeom prst="rect">
            <a:avLst/>
          </a:prstGeom>
          <a:ln w="0">
            <a:noFill/>
          </a:ln>
        </p:spPr>
      </p:pic>
      <p:grpSp>
        <p:nvGrpSpPr>
          <p:cNvPr id="705" name="Group 4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06" name="Picture 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Text Box 22"/>
            <p:cNvSpPr/>
            <p:nvPr/>
          </p:nvSpPr>
          <p:spPr>
            <a:xfrm>
              <a:off x="1979640" y="115920"/>
              <a:ext cx="709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1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北洋政府的黑暗统治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8" name="Picture 45" descr=""/>
          <p:cNvPicPr/>
          <p:nvPr/>
        </p:nvPicPr>
        <p:blipFill>
          <a:blip r:embed="rId3"/>
          <a:stretch/>
        </p:blipFill>
        <p:spPr>
          <a:xfrm>
            <a:off x="0" y="836640"/>
            <a:ext cx="9144000" cy="93672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49"/>
          <p:cNvSpPr/>
          <p:nvPr/>
        </p:nvSpPr>
        <p:spPr>
          <a:xfrm>
            <a:off x="468360" y="9428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隶书"/>
              </a:rPr>
              <a:t>一、二次革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文本框 4"/>
          <p:cNvSpPr/>
          <p:nvPr/>
        </p:nvSpPr>
        <p:spPr>
          <a:xfrm>
            <a:off x="-365760" y="1773360"/>
            <a:ext cx="1399320" cy="50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二次革命形势示意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4"/>
          <p:cNvSpPr/>
          <p:nvPr/>
        </p:nvSpPr>
        <p:spPr>
          <a:xfrm>
            <a:off x="376200" y="2411280"/>
            <a:ext cx="844380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镇压二次革命。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强迫国会选举他为正式大总统。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下令解散国民党。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解散国会。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废除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中华民国临时约法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，颁布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中华民国约法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。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改责任内阁制为总统制。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修改总统选举法，总统可无限任期，可指定继承人。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接受灭亡中国的“二十一条”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Group 4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13" name="Picture 47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2"/>
            <p:cNvSpPr/>
            <p:nvPr/>
          </p:nvSpPr>
          <p:spPr>
            <a:xfrm>
              <a:off x="1979640" y="115920"/>
              <a:ext cx="709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1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北洋政府的黑暗统治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5" name="Picture 45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9367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49"/>
          <p:cNvSpPr/>
          <p:nvPr/>
        </p:nvSpPr>
        <p:spPr>
          <a:xfrm>
            <a:off x="468360" y="942840"/>
            <a:ext cx="8459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二、袁世凯复辟帝制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矩形 1"/>
          <p:cNvSpPr/>
          <p:nvPr/>
        </p:nvSpPr>
        <p:spPr>
          <a:xfrm>
            <a:off x="985680" y="1728720"/>
            <a:ext cx="80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、袁世凯为复辟帝制做了哪些准备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7020000" y="907920"/>
            <a:ext cx="123192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4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20" name="Picture 47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Text Box 22"/>
            <p:cNvSpPr/>
            <p:nvPr/>
          </p:nvSpPr>
          <p:spPr>
            <a:xfrm>
              <a:off x="1979640" y="115920"/>
              <a:ext cx="709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1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北洋政府的黑暗统治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2" name="Picture 45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93672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49"/>
          <p:cNvSpPr/>
          <p:nvPr/>
        </p:nvSpPr>
        <p:spPr>
          <a:xfrm>
            <a:off x="468360" y="942840"/>
            <a:ext cx="8459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二、袁世凯复辟帝制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7"/>
          <p:cNvSpPr/>
          <p:nvPr/>
        </p:nvSpPr>
        <p:spPr>
          <a:xfrm>
            <a:off x="826920" y="1628640"/>
            <a:ext cx="808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1915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年袁世凯与日本签订出卖中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权益的“二十一条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10"/>
          <p:cNvSpPr/>
          <p:nvPr/>
        </p:nvSpPr>
        <p:spPr>
          <a:xfrm>
            <a:off x="886680" y="2781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主要内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11"/>
          <p:cNvSpPr/>
          <p:nvPr/>
        </p:nvSpPr>
        <p:spPr>
          <a:xfrm>
            <a:off x="395280" y="3416400"/>
            <a:ext cx="84978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承认日本继承德国在山东的一切特权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进一步扩大日本在南满和蒙古的权益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规定中国沿海港湾、岛屿不得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借或割让他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④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聘用日本人为顾问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AutoShape 5"/>
          <p:cNvSpPr/>
          <p:nvPr/>
        </p:nvSpPr>
        <p:spPr>
          <a:xfrm>
            <a:off x="4286160" y="289548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AutoShape 7"/>
          <p:cNvSpPr/>
          <p:nvPr/>
        </p:nvSpPr>
        <p:spPr>
          <a:xfrm>
            <a:off x="4286160" y="289548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3" descr="u=2474269383,3162121897&amp;fm=26&amp;gp=0"/>
          <p:cNvPicPr/>
          <p:nvPr/>
        </p:nvPicPr>
        <p:blipFill>
          <a:blip r:embed="rId1"/>
          <a:stretch/>
        </p:blipFill>
        <p:spPr>
          <a:xfrm>
            <a:off x="316080" y="2470320"/>
            <a:ext cx="4616280" cy="43434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4" descr="u=1973031367,3352381805&amp;fm=26&amp;gp=0"/>
          <p:cNvPicPr/>
          <p:nvPr/>
        </p:nvPicPr>
        <p:blipFill>
          <a:blip r:embed="rId2"/>
          <a:stretch/>
        </p:blipFill>
        <p:spPr>
          <a:xfrm>
            <a:off x="5253120" y="2470320"/>
            <a:ext cx="3566880" cy="434340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15"/>
          <p:cNvSpPr/>
          <p:nvPr/>
        </p:nvSpPr>
        <p:spPr>
          <a:xfrm>
            <a:off x="316080" y="2637000"/>
            <a:ext cx="850392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1915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12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月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12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日，袁世凯建立了中华帝国，袁世凯下令以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1916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年为“中华帝国洪宪元年”，准备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1916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月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日举行登基大典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2" name="Group 4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33" name="Picture 4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Text Box 22"/>
            <p:cNvSpPr/>
            <p:nvPr/>
          </p:nvSpPr>
          <p:spPr>
            <a:xfrm>
              <a:off x="1979640" y="115920"/>
              <a:ext cx="709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1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北洋政府的黑暗统治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5" name="Picture 45" descr=""/>
          <p:cNvPicPr/>
          <p:nvPr/>
        </p:nvPicPr>
        <p:blipFill>
          <a:blip r:embed="rId4"/>
          <a:stretch/>
        </p:blipFill>
        <p:spPr>
          <a:xfrm>
            <a:off x="0" y="836640"/>
            <a:ext cx="9144000" cy="93672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49"/>
          <p:cNvSpPr/>
          <p:nvPr/>
        </p:nvSpPr>
        <p:spPr>
          <a:xfrm>
            <a:off x="468360" y="942840"/>
            <a:ext cx="8459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二、袁世凯复辟帝制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矩形 13"/>
          <p:cNvSpPr/>
          <p:nvPr/>
        </p:nvSpPr>
        <p:spPr>
          <a:xfrm>
            <a:off x="900000" y="1650960"/>
            <a:ext cx="808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、袁世凯称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矩形 7174"/>
          <p:cNvSpPr/>
          <p:nvPr/>
        </p:nvSpPr>
        <p:spPr>
          <a:xfrm>
            <a:off x="250920" y="1844640"/>
            <a:ext cx="2373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1.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准备</a:t>
            </a: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矩形 7178"/>
          <p:cNvSpPr/>
          <p:nvPr/>
        </p:nvSpPr>
        <p:spPr>
          <a:xfrm>
            <a:off x="611280" y="177336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孙中山发表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讨袁宣言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；号召爱国豪杰共同奋起，维护共和制度。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梁启超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蔡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离京，前往南方筹划讨伐袁世凯事宜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矩形 7174"/>
          <p:cNvSpPr/>
          <p:nvPr/>
        </p:nvSpPr>
        <p:spPr>
          <a:xfrm>
            <a:off x="212760" y="4402080"/>
            <a:ext cx="2271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2.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爆发</a:t>
            </a: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矩形 7178"/>
          <p:cNvSpPr/>
          <p:nvPr/>
        </p:nvSpPr>
        <p:spPr>
          <a:xfrm>
            <a:off x="539640" y="4402080"/>
            <a:ext cx="86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91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底，蔡锷、李烈钧、唐继尧在云南宣告独立，组织护国军北上讨袁，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护国战争爆发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2" name="Group 4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43" name="Picture 47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Text Box 22"/>
            <p:cNvSpPr/>
            <p:nvPr/>
          </p:nvSpPr>
          <p:spPr>
            <a:xfrm>
              <a:off x="1979640" y="115920"/>
              <a:ext cx="709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1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北洋政府的黑暗统治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5" name="Picture 45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936720"/>
          </a:xfrm>
          <a:prstGeom prst="rect">
            <a:avLst/>
          </a:prstGeom>
          <a:ln w="0">
            <a:noFill/>
          </a:ln>
        </p:spPr>
      </p:pic>
      <p:sp>
        <p:nvSpPr>
          <p:cNvPr id="746" name="Rectangle 49"/>
          <p:cNvSpPr/>
          <p:nvPr/>
        </p:nvSpPr>
        <p:spPr>
          <a:xfrm>
            <a:off x="900000" y="942840"/>
            <a:ext cx="669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三、护国战争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3"/>
          <a:stretch/>
        </p:blipFill>
        <p:spPr>
          <a:xfrm>
            <a:off x="5435640" y="907920"/>
            <a:ext cx="1231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矩形 7174"/>
          <p:cNvSpPr/>
          <p:nvPr/>
        </p:nvSpPr>
        <p:spPr>
          <a:xfrm>
            <a:off x="395280" y="2079720"/>
            <a:ext cx="2340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3.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经过</a:t>
            </a: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7178"/>
          <p:cNvSpPr/>
          <p:nvPr/>
        </p:nvSpPr>
        <p:spPr>
          <a:xfrm>
            <a:off x="2484360" y="1700280"/>
            <a:ext cx="636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北洋军队人心涣散，节节败退，不少省份宣布独立，脱离袁世凯政府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7174"/>
          <p:cNvSpPr/>
          <p:nvPr/>
        </p:nvSpPr>
        <p:spPr>
          <a:xfrm>
            <a:off x="431640" y="3951360"/>
            <a:ext cx="2340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4.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结果</a:t>
            </a: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7178"/>
          <p:cNvSpPr/>
          <p:nvPr/>
        </p:nvSpPr>
        <p:spPr>
          <a:xfrm>
            <a:off x="2457360" y="3645000"/>
            <a:ext cx="636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1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，袁世凯被迫宣布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取消帝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在绝望中死去。护国战争结束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Group 4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53" name="Picture 47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22"/>
            <p:cNvSpPr/>
            <p:nvPr/>
          </p:nvSpPr>
          <p:spPr>
            <a:xfrm>
              <a:off x="1979640" y="115920"/>
              <a:ext cx="709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1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北洋政府的黑暗统治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55" name="Picture 45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93672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49"/>
          <p:cNvSpPr/>
          <p:nvPr/>
        </p:nvSpPr>
        <p:spPr>
          <a:xfrm>
            <a:off x="900000" y="942840"/>
            <a:ext cx="669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三、护国战争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矩形 1"/>
          <p:cNvSpPr/>
          <p:nvPr/>
        </p:nvSpPr>
        <p:spPr>
          <a:xfrm>
            <a:off x="179280" y="5516640"/>
            <a:ext cx="8533080" cy="11912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916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日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916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日称帝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8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天的袁世凯被迫宣告退位。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日病逝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4" descr="8_1"/>
          <p:cNvPicPr/>
          <p:nvPr/>
        </p:nvPicPr>
        <p:blipFill>
          <a:blip r:embed="rId1"/>
          <a:stretch/>
        </p:blipFill>
        <p:spPr>
          <a:xfrm>
            <a:off x="324000" y="836640"/>
            <a:ext cx="4327200" cy="540072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6" descr=""/>
          <p:cNvPicPr/>
          <p:nvPr/>
        </p:nvPicPr>
        <p:blipFill>
          <a:blip r:embed="rId2"/>
          <a:stretch/>
        </p:blipFill>
        <p:spPr>
          <a:xfrm>
            <a:off x="4954680" y="836640"/>
            <a:ext cx="3727440" cy="540072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7"/>
          <p:cNvSpPr/>
          <p:nvPr/>
        </p:nvSpPr>
        <p:spPr>
          <a:xfrm>
            <a:off x="1763640" y="6093000"/>
            <a:ext cx="14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蔡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8"/>
          <p:cNvSpPr/>
          <p:nvPr/>
        </p:nvSpPr>
        <p:spPr>
          <a:xfrm>
            <a:off x="6300720" y="6093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李烈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2" name="Group 4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63" name="Picture 4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Text Box 22"/>
            <p:cNvSpPr/>
            <p:nvPr/>
          </p:nvSpPr>
          <p:spPr>
            <a:xfrm>
              <a:off x="1979640" y="115920"/>
              <a:ext cx="709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1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北洋政府的黑暗统治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图片 3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6637320" cy="6003720"/>
          </a:xfrm>
          <a:prstGeom prst="rect">
            <a:avLst/>
          </a:prstGeom>
          <a:ln w="0">
            <a:noFill/>
          </a:ln>
        </p:spPr>
      </p:pic>
      <p:sp>
        <p:nvSpPr>
          <p:cNvPr id="766" name="文本框 4"/>
          <p:cNvSpPr/>
          <p:nvPr/>
        </p:nvSpPr>
        <p:spPr>
          <a:xfrm>
            <a:off x="6938640" y="1079640"/>
            <a:ext cx="152100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护国战争形势示意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7" name="Group 4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68" name="Picture 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Text Box 22"/>
            <p:cNvSpPr/>
            <p:nvPr/>
          </p:nvSpPr>
          <p:spPr>
            <a:xfrm>
              <a:off x="1979640" y="115920"/>
              <a:ext cx="709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1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北洋政府的黑暗统治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9"/>
          <p:cNvSpPr/>
          <p:nvPr/>
        </p:nvSpPr>
        <p:spPr>
          <a:xfrm>
            <a:off x="611280" y="836640"/>
            <a:ext cx="813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万户涕泪、一人冠冕，其心尚有‘共和’两字存耶？既忘共和，即称民贼。</a:t>
            </a:r>
            <a:r>
              <a:rPr b="1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……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誓死戮（</a:t>
            </a:r>
            <a:r>
              <a:rPr b="1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lu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）此民贼，以拯吾民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孙中山</a:t>
            </a:r>
            <a:r>
              <a:rPr b="1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讨袁檄文</a:t>
            </a:r>
            <a:r>
              <a:rPr b="1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1"/>
          <p:cNvSpPr/>
          <p:nvPr/>
        </p:nvSpPr>
        <p:spPr>
          <a:xfrm>
            <a:off x="684360" y="384804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试通过以上材料分析孙中山对袁世凯称帝的态度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2"/>
          <p:cNvSpPr/>
          <p:nvPr/>
        </p:nvSpPr>
        <p:spPr>
          <a:xfrm>
            <a:off x="611280" y="522936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坚决反对，并声讨其忘却共和，为国贼，号召人民反抗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Group 46"/>
          <p:cNvGrpSpPr/>
          <p:nvPr/>
        </p:nvGrpSpPr>
        <p:grpSpPr>
          <a:xfrm>
            <a:off x="0" y="0"/>
            <a:ext cx="9144000" cy="869400"/>
            <a:chOff x="0" y="0"/>
            <a:chExt cx="9144000" cy="869400"/>
          </a:xfrm>
        </p:grpSpPr>
        <p:pic>
          <p:nvPicPr>
            <p:cNvPr id="774" name="Picture 47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Text Box 22"/>
            <p:cNvSpPr/>
            <p:nvPr/>
          </p:nvSpPr>
          <p:spPr>
            <a:xfrm>
              <a:off x="2057400" y="44280"/>
              <a:ext cx="575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材   料   研   读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46"/>
          <p:cNvGrpSpPr/>
          <p:nvPr/>
        </p:nvGrpSpPr>
        <p:grpSpPr>
          <a:xfrm>
            <a:off x="0" y="0"/>
            <a:ext cx="9144000" cy="869400"/>
            <a:chOff x="0" y="0"/>
            <a:chExt cx="9144000" cy="869400"/>
          </a:xfrm>
        </p:grpSpPr>
        <p:pic>
          <p:nvPicPr>
            <p:cNvPr id="628" name="Picture 47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 Box 22"/>
            <p:cNvSpPr/>
            <p:nvPr/>
          </p:nvSpPr>
          <p:spPr>
            <a:xfrm>
              <a:off x="2124000" y="44280"/>
              <a:ext cx="5040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情  境  导  入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矩形 1"/>
          <p:cNvSpPr/>
          <p:nvPr/>
        </p:nvSpPr>
        <p:spPr>
          <a:xfrm>
            <a:off x="433440" y="876240"/>
            <a:ext cx="845964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c00000"/>
                </a:solidFill>
                <a:latin typeface="黑体"/>
                <a:ea typeface="黑体"/>
              </a:rPr>
              <a:t>袁世凯上台后，一再破环责任内阁制，解散国民党和国会，废除</a:t>
            </a:r>
            <a:r>
              <a:rPr b="1" lang="en-US" sz="4800" spc="-1" strike="noStrike">
                <a:solidFill>
                  <a:srgbClr val="c00000"/>
                </a:solidFill>
                <a:latin typeface="黑体"/>
                <a:ea typeface="黑体"/>
              </a:rPr>
              <a:t>《</a:t>
            </a:r>
            <a:r>
              <a:rPr b="1" lang="zh-CN" sz="4800" spc="-1" strike="noStrike">
                <a:solidFill>
                  <a:srgbClr val="c00000"/>
                </a:solidFill>
                <a:latin typeface="黑体"/>
                <a:ea typeface="黑体"/>
              </a:rPr>
              <a:t>中华民国临时约法</a:t>
            </a:r>
            <a:r>
              <a:rPr b="1" lang="en-US" sz="4800" spc="-1" strike="noStrike">
                <a:solidFill>
                  <a:srgbClr val="c00000"/>
                </a:solidFill>
                <a:latin typeface="黑体"/>
                <a:ea typeface="黑体"/>
              </a:rPr>
              <a:t>》</a:t>
            </a:r>
            <a:r>
              <a:rPr b="1" lang="zh-CN" sz="4800" spc="-1" strike="noStrike">
                <a:solidFill>
                  <a:srgbClr val="c00000"/>
                </a:solidFill>
                <a:latin typeface="黑体"/>
                <a:ea typeface="黑体"/>
              </a:rPr>
              <a:t>，为了维护共和制度，以孙中山为首的革命派又做了哪些斗争呢？本节课我们一起就这一问题进行学习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Group 34" descr=""/>
          <p:cNvPicPr/>
          <p:nvPr/>
        </p:nvPicPr>
        <p:blipFill>
          <a:blip r:embed="rId1"/>
          <a:stretch/>
        </p:blipFill>
        <p:spPr>
          <a:xfrm>
            <a:off x="158760" y="2279520"/>
            <a:ext cx="8852040" cy="4481640"/>
          </a:xfrm>
          <a:prstGeom prst="rect">
            <a:avLst/>
          </a:prstGeom>
          <a:ln w="0">
            <a:noFill/>
          </a:ln>
        </p:spPr>
      </p:pic>
      <p:grpSp>
        <p:nvGrpSpPr>
          <p:cNvPr id="777" name="Group 4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78" name="Picture 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Text Box 22"/>
            <p:cNvSpPr/>
            <p:nvPr/>
          </p:nvSpPr>
          <p:spPr>
            <a:xfrm>
              <a:off x="1979640" y="115920"/>
              <a:ext cx="709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1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北洋政府的黑暗统治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0" name="Picture 45" descr=""/>
          <p:cNvPicPr/>
          <p:nvPr/>
        </p:nvPicPr>
        <p:blipFill>
          <a:blip r:embed="rId3"/>
          <a:stretch/>
        </p:blipFill>
        <p:spPr>
          <a:xfrm>
            <a:off x="0" y="836640"/>
            <a:ext cx="9144000" cy="936720"/>
          </a:xfrm>
          <a:prstGeom prst="rect">
            <a:avLst/>
          </a:prstGeom>
          <a:ln w="0">
            <a:noFill/>
          </a:ln>
        </p:spPr>
      </p:pic>
      <p:sp>
        <p:nvSpPr>
          <p:cNvPr id="781" name="Rectangle 49"/>
          <p:cNvSpPr/>
          <p:nvPr/>
        </p:nvSpPr>
        <p:spPr>
          <a:xfrm>
            <a:off x="900000" y="942840"/>
            <a:ext cx="669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四、军阀割据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矩形 1"/>
          <p:cNvSpPr/>
          <p:nvPr/>
        </p:nvSpPr>
        <p:spPr>
          <a:xfrm>
            <a:off x="3059640" y="170028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、北洋军阀的分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4"/>
          <a:stretch/>
        </p:blipFill>
        <p:spPr>
          <a:xfrm>
            <a:off x="5508720" y="907920"/>
            <a:ext cx="1231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4" descr="段祺瑞（1865—1936）"/>
          <p:cNvPicPr/>
          <p:nvPr/>
        </p:nvPicPr>
        <p:blipFill>
          <a:blip r:embed="rId1"/>
          <a:stretch/>
        </p:blipFill>
        <p:spPr>
          <a:xfrm>
            <a:off x="2987640" y="765000"/>
            <a:ext cx="3240000" cy="4329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785" name="Rectangle 5"/>
          <p:cNvSpPr/>
          <p:nvPr/>
        </p:nvSpPr>
        <p:spPr>
          <a:xfrm>
            <a:off x="3132000" y="5157720"/>
            <a:ext cx="251964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段祺瑞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865—1936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6" name="Picture 7" descr=""/>
          <p:cNvPicPr/>
          <p:nvPr/>
        </p:nvPicPr>
        <p:blipFill>
          <a:blip r:embed="rId2"/>
          <a:stretch/>
        </p:blipFill>
        <p:spPr>
          <a:xfrm>
            <a:off x="0" y="76500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787" name="Rectangle 8"/>
          <p:cNvSpPr/>
          <p:nvPr/>
        </p:nvSpPr>
        <p:spPr>
          <a:xfrm>
            <a:off x="250920" y="5148360"/>
            <a:ext cx="259236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冯国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859—1919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Rectangle 11"/>
          <p:cNvSpPr/>
          <p:nvPr/>
        </p:nvSpPr>
        <p:spPr>
          <a:xfrm>
            <a:off x="6286680" y="5118120"/>
            <a:ext cx="274932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张作霖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875.3.19—1928.6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9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765000"/>
            <a:ext cx="2975040" cy="431964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4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91" name="Picture 47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22"/>
            <p:cNvSpPr/>
            <p:nvPr/>
          </p:nvSpPr>
          <p:spPr>
            <a:xfrm>
              <a:off x="1979640" y="115920"/>
              <a:ext cx="709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1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北洋政府的黑暗统治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4"/>
          <p:cNvSpPr/>
          <p:nvPr/>
        </p:nvSpPr>
        <p:spPr>
          <a:xfrm>
            <a:off x="453960" y="609300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陆荣廷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56-1928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4" name="Picture 5" descr=""/>
          <p:cNvPicPr/>
          <p:nvPr/>
        </p:nvPicPr>
        <p:blipFill>
          <a:blip r:embed="rId1"/>
          <a:stretch/>
        </p:blipFill>
        <p:spPr>
          <a:xfrm>
            <a:off x="593640" y="907920"/>
            <a:ext cx="3762360" cy="5113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795" name="Picture 8" descr="唐继尧（１８８３——１９２７年），云南会泽人"/>
          <p:cNvPicPr/>
          <p:nvPr/>
        </p:nvPicPr>
        <p:blipFill>
          <a:blip r:embed="rId2"/>
          <a:stretch/>
        </p:blipFill>
        <p:spPr>
          <a:xfrm>
            <a:off x="5006880" y="907920"/>
            <a:ext cx="3597480" cy="5113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796" name="Rectangle 9"/>
          <p:cNvSpPr/>
          <p:nvPr/>
        </p:nvSpPr>
        <p:spPr>
          <a:xfrm>
            <a:off x="4932360" y="609300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唐继尧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83--1927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7" name="Group 4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98" name="Picture 4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Text Box 22"/>
            <p:cNvSpPr/>
            <p:nvPr/>
          </p:nvSpPr>
          <p:spPr>
            <a:xfrm>
              <a:off x="1979640" y="115920"/>
              <a:ext cx="709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1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北洋政府的黑暗统治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4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801" name="Picture 47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Text Box 22"/>
            <p:cNvSpPr/>
            <p:nvPr/>
          </p:nvSpPr>
          <p:spPr>
            <a:xfrm>
              <a:off x="1979640" y="115920"/>
              <a:ext cx="709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1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北洋政府的黑暗统治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Rectangle 48"/>
          <p:cNvSpPr/>
          <p:nvPr/>
        </p:nvSpPr>
        <p:spPr>
          <a:xfrm>
            <a:off x="0" y="836640"/>
            <a:ext cx="39956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袁世凯死后，北洋军阀很快分裂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直系军阀、皖系军阀和奉系军阀三大派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它们为争夺北京中央政权和各省地盘展开激烈角逐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Picture 49" descr=""/>
          <p:cNvPicPr/>
          <p:nvPr/>
        </p:nvPicPr>
        <p:blipFill>
          <a:blip r:embed="rId2"/>
          <a:stretch/>
        </p:blipFill>
        <p:spPr>
          <a:xfrm>
            <a:off x="3886200" y="33336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805" name="Oval 50"/>
          <p:cNvSpPr/>
          <p:nvPr/>
        </p:nvSpPr>
        <p:spPr>
          <a:xfrm>
            <a:off x="3809880" y="295200"/>
            <a:ext cx="16002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4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807" name="Picture 47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Text Box 22"/>
            <p:cNvSpPr/>
            <p:nvPr/>
          </p:nvSpPr>
          <p:spPr>
            <a:xfrm>
              <a:off x="1979640" y="115920"/>
              <a:ext cx="709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1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北洋政府的黑暗统治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9" name="矩形 1"/>
          <p:cNvSpPr/>
          <p:nvPr/>
        </p:nvSpPr>
        <p:spPr>
          <a:xfrm>
            <a:off x="574560" y="2817720"/>
            <a:ext cx="781380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这些军阀为了争夺地盘和巩固政权，不惜出卖国家利益，依附帝国主义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大小军阀连年混战，中国陷入军阀割据纷争的动乱之中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45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93672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49"/>
          <p:cNvSpPr/>
          <p:nvPr/>
        </p:nvSpPr>
        <p:spPr>
          <a:xfrm>
            <a:off x="900000" y="942840"/>
            <a:ext cx="669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四、军阀割据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矩形 10"/>
          <p:cNvSpPr/>
          <p:nvPr/>
        </p:nvSpPr>
        <p:spPr>
          <a:xfrm>
            <a:off x="1258920" y="1806480"/>
            <a:ext cx="48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c00000"/>
                </a:solidFill>
                <a:latin typeface="黑体"/>
                <a:ea typeface="黑体"/>
              </a:rPr>
              <a:t>、军阀纷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2444760" y="2676600"/>
          <a:ext cx="4254480" cy="882720"/>
        </p:xfrm>
        <a:graphic>
          <a:graphicData uri="http://schemas.openxmlformats.org/drawingml/2006/table">
            <a:tbl>
              <a:tblPr/>
              <a:tblGrid>
                <a:gridCol w="4254480"/>
              </a:tblGrid>
              <a:tr h="36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df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4" name="Rectangle 20"/>
          <p:cNvSpPr/>
          <p:nvPr/>
        </p:nvSpPr>
        <p:spPr>
          <a:xfrm>
            <a:off x="2446560" y="376992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5" name="Picture 23" descr=""/>
          <p:cNvPicPr/>
          <p:nvPr/>
        </p:nvPicPr>
        <p:blipFill>
          <a:blip r:embed="rId1"/>
          <a:stretch/>
        </p:blipFill>
        <p:spPr>
          <a:xfrm>
            <a:off x="0" y="1530360"/>
            <a:ext cx="9036000" cy="221940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24"/>
          <p:cNvSpPr/>
          <p:nvPr/>
        </p:nvSpPr>
        <p:spPr>
          <a:xfrm>
            <a:off x="3851280" y="836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军阀割据混战造成的一些后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 Box 25"/>
          <p:cNvSpPr/>
          <p:nvPr/>
        </p:nvSpPr>
        <p:spPr>
          <a:xfrm>
            <a:off x="539640" y="3645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根据材料想一想，北洋军阀的割据局面对中国社会造成哪些不利影响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8" name="Group 46"/>
          <p:cNvGrpSpPr/>
          <p:nvPr/>
        </p:nvGrpSpPr>
        <p:grpSpPr>
          <a:xfrm>
            <a:off x="0" y="0"/>
            <a:ext cx="9144000" cy="869400"/>
            <a:chOff x="0" y="0"/>
            <a:chExt cx="9144000" cy="869400"/>
          </a:xfrm>
        </p:grpSpPr>
        <p:pic>
          <p:nvPicPr>
            <p:cNvPr id="819" name="Picture 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Text Box 22"/>
            <p:cNvSpPr/>
            <p:nvPr/>
          </p:nvSpPr>
          <p:spPr>
            <a:xfrm>
              <a:off x="2057400" y="44280"/>
              <a:ext cx="575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材   料   研   读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1" name="文本框 4"/>
          <p:cNvSpPr/>
          <p:nvPr/>
        </p:nvSpPr>
        <p:spPr>
          <a:xfrm>
            <a:off x="0" y="4797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农村劳动力减少，田地荒芜，影响了农村的生产发展和生活水平的提高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兵员军费大幅度增加，增加了人民的负担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8"/>
          <p:cNvSpPr/>
          <p:nvPr/>
        </p:nvSpPr>
        <p:spPr>
          <a:xfrm>
            <a:off x="611280" y="836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从政治和经济的角度概括北洋军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统治时期的特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 Box 9"/>
          <p:cNvSpPr/>
          <p:nvPr/>
        </p:nvSpPr>
        <p:spPr>
          <a:xfrm>
            <a:off x="567000" y="1989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政治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 Box 10"/>
          <p:cNvSpPr/>
          <p:nvPr/>
        </p:nvSpPr>
        <p:spPr>
          <a:xfrm>
            <a:off x="1619280" y="198900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北洋军阀统治建立及以孙中山为首的革命派与之进行了一系列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斗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 Box 11"/>
          <p:cNvSpPr/>
          <p:nvPr/>
        </p:nvSpPr>
        <p:spPr>
          <a:xfrm>
            <a:off x="639720" y="5589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经济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 Box 12"/>
          <p:cNvSpPr/>
          <p:nvPr/>
        </p:nvSpPr>
        <p:spPr>
          <a:xfrm>
            <a:off x="1857240" y="5445000"/>
            <a:ext cx="62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民族资本主义进一步发展的主要外因及特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Line 13"/>
          <p:cNvSpPr/>
          <p:nvPr/>
        </p:nvSpPr>
        <p:spPr>
          <a:xfrm flipH="1">
            <a:off x="6786720" y="3141720"/>
            <a:ext cx="17280" cy="64764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 Box 14"/>
          <p:cNvSpPr/>
          <p:nvPr/>
        </p:nvSpPr>
        <p:spPr>
          <a:xfrm>
            <a:off x="6443640" y="366876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焦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 Box 15"/>
          <p:cNvSpPr/>
          <p:nvPr/>
        </p:nvSpPr>
        <p:spPr>
          <a:xfrm>
            <a:off x="1751760" y="3860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民主共和与专制独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Line 16"/>
          <p:cNvSpPr/>
          <p:nvPr/>
        </p:nvSpPr>
        <p:spPr>
          <a:xfrm flipH="1">
            <a:off x="5292720" y="4292640"/>
            <a:ext cx="100800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Line 17"/>
          <p:cNvSpPr/>
          <p:nvPr/>
        </p:nvSpPr>
        <p:spPr>
          <a:xfrm>
            <a:off x="7812000" y="3208320"/>
            <a:ext cx="0" cy="137160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7612200" y="465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实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ext Box 19"/>
          <p:cNvSpPr/>
          <p:nvPr/>
        </p:nvSpPr>
        <p:spPr>
          <a:xfrm>
            <a:off x="1619640" y="46530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资本主义与封建主义的斗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Line 20"/>
          <p:cNvSpPr/>
          <p:nvPr/>
        </p:nvSpPr>
        <p:spPr>
          <a:xfrm flipH="1">
            <a:off x="6232680" y="5013360"/>
            <a:ext cx="1147680" cy="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5" name="Group 4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836" name="Picture 47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Text Box 22"/>
            <p:cNvSpPr/>
            <p:nvPr/>
          </p:nvSpPr>
          <p:spPr>
            <a:xfrm>
              <a:off x="1979640" y="115920"/>
              <a:ext cx="709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1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北洋政府的黑暗统治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5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5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5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77" nodeType="afterEffect" fill="hold" presetClass="entr" presetID="17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2" nodeType="afterEffect" fill="hold" presetClass="entr" presetID="17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with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5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5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5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3"/>
          <p:cNvSpPr/>
          <p:nvPr/>
        </p:nvSpPr>
        <p:spPr>
          <a:xfrm>
            <a:off x="539640" y="836640"/>
            <a:ext cx="799308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一）二次革命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时间：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91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             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结果：失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二）袁世凯复辟帝制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袁世凯为复辟做的准备工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袁世凯复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三）护国战争   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时间：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915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年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              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地点：云南  主物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蔡锷、李烈钧、唐继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结果：袁世凯被迫取消帝制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并绝望死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四）军阀割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直、皖、奉三大军阀、地方小军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9" name="Group 9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840" name="Picture 10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WordArt 3"/>
            <p:cNvSpPr txBox="1"/>
            <p:nvPr/>
          </p:nvSpPr>
          <p:spPr>
            <a:xfrm>
              <a:off x="3132000" y="44280"/>
              <a:ext cx="3889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本课小结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Group 12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843" name="Picture 10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WordArt 3"/>
            <p:cNvSpPr txBox="1"/>
            <p:nvPr/>
          </p:nvSpPr>
          <p:spPr>
            <a:xfrm>
              <a:off x="2843280" y="117360"/>
              <a:ext cx="4105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 后 活 动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845" name="文本框 3"/>
          <p:cNvSpPr/>
          <p:nvPr/>
        </p:nvSpPr>
        <p:spPr>
          <a:xfrm>
            <a:off x="684360" y="907920"/>
            <a:ext cx="785016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．下列事件发生的先后顺序是（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①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袁世凯称帝   ②护国运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③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二次革命     ④宋教仁遇刺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．④①③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B. ④③①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．①③④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D.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①④③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12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847" name="Picture 10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WordArt 3"/>
            <p:cNvSpPr txBox="1"/>
            <p:nvPr/>
          </p:nvSpPr>
          <p:spPr>
            <a:xfrm>
              <a:off x="2843280" y="117360"/>
              <a:ext cx="4105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 后 活 动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849" name="文本框 3"/>
          <p:cNvSpPr/>
          <p:nvPr/>
        </p:nvSpPr>
        <p:spPr>
          <a:xfrm>
            <a:off x="684360" y="836640"/>
            <a:ext cx="785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．“二十一条”的主要内容有哪些？这对中国有什么影响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矩形 5"/>
          <p:cNvSpPr/>
          <p:nvPr/>
        </p:nvSpPr>
        <p:spPr>
          <a:xfrm>
            <a:off x="428760" y="2160720"/>
            <a:ext cx="8496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承认日本继承德国在山东的一切特权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进一步扩大日本在南满和蒙古的权益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规定中国沿海港湾、岛屿不得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借或割让他国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④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聘用日本人为顾问等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矩形 6"/>
          <p:cNvSpPr/>
          <p:nvPr/>
        </p:nvSpPr>
        <p:spPr>
          <a:xfrm>
            <a:off x="395280" y="1700280"/>
            <a:ext cx="84582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袁世凯为了获得日本对自己称帝的支持，与日本签定了丧权辱国的“二十一条”。日本扩大了在中国的特权，助长了它嚣张的气焰，加快了它侵略的步伐，中国的主权遭破坏，资源遭掠夺，人民的财产安全没有保障，生命尊严被肆意践踏，大大加深了中国的苦难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179280" y="907920"/>
            <a:ext cx="89647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9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，清政府改革兵制，派长芦盐运使胡鹬芬在天津以南的新农镇即小站训练新军，取名“定武军”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9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改派袁世凯督练，改名“新建陆军”，仿效德国军制和操练，聘请德国人为教官，编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3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，受直隶总督兼北洋大臣李鸿章节制，所以也称为北洋军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0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李鸿章病死，袁世凯接任，将北洋军扩编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当于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从此成为北洋军首领，并在此基础上网罗亲信，扩张势力，迅速形成左右全国局势的强大军事集团。因此人们就把以袁世凯为头子的军阀集团称为“北洋军阀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2" name="Group 46"/>
          <p:cNvGrpSpPr/>
          <p:nvPr/>
        </p:nvGrpSpPr>
        <p:grpSpPr>
          <a:xfrm>
            <a:off x="0" y="-27000"/>
            <a:ext cx="9144000" cy="916920"/>
            <a:chOff x="0" y="-27000"/>
            <a:chExt cx="9144000" cy="916920"/>
          </a:xfrm>
        </p:grpSpPr>
        <p:pic>
          <p:nvPicPr>
            <p:cNvPr id="633" name="Picture 47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 Box 22"/>
            <p:cNvSpPr/>
            <p:nvPr/>
          </p:nvSpPr>
          <p:spPr>
            <a:xfrm>
              <a:off x="2122560" y="-27000"/>
              <a:ext cx="554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历  史  知  识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5" name="矩形 1"/>
          <p:cNvSpPr/>
          <p:nvPr/>
        </p:nvSpPr>
        <p:spPr>
          <a:xfrm>
            <a:off x="395280" y="841320"/>
            <a:ext cx="47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北洋军阀称呼及由来</a:t>
            </a:r>
            <a:r>
              <a:rPr b="1" i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文本框 3"/>
          <p:cNvSpPr/>
          <p:nvPr/>
        </p:nvSpPr>
        <p:spPr>
          <a:xfrm>
            <a:off x="684360" y="907920"/>
            <a:ext cx="7850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．</a:t>
            </a: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1912</a:t>
            </a: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年把同盟会改组为国民党的是（　）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A</a:t>
            </a: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．孙中山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B.</a:t>
            </a: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李烈钧　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C</a:t>
            </a: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．宋教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D.</a:t>
            </a: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黄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7"/>
          <p:cNvSpPr/>
          <p:nvPr/>
        </p:nvSpPr>
        <p:spPr>
          <a:xfrm>
            <a:off x="5796000" y="2565360"/>
            <a:ext cx="2521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4" name="Group 12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855" name="Picture 10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文本框 4"/>
          <p:cNvSpPr/>
          <p:nvPr/>
        </p:nvSpPr>
        <p:spPr>
          <a:xfrm>
            <a:off x="539640" y="765000"/>
            <a:ext cx="828036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．袁世凯为实现自己的“皇帝梦”作出了哪些“努力”（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  ①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解散国民党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  ②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废除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中华民国临时约法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    ③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规定总统可以连任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 ④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接受“二十一条”大部分内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．①②③　     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B.①②④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．②③④　　   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D.①②③④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6"/>
          <p:cNvSpPr/>
          <p:nvPr/>
        </p:nvSpPr>
        <p:spPr>
          <a:xfrm>
            <a:off x="6732720" y="981000"/>
            <a:ext cx="15843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D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9" name="Group 12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860" name="Picture 10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矩形 1"/>
          <p:cNvSpPr/>
          <p:nvPr/>
        </p:nvSpPr>
        <p:spPr>
          <a:xfrm>
            <a:off x="582480" y="836640"/>
            <a:ext cx="795024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、“万户涕泪，一人冠冕，其心尚有共和二字存耶？”该材料所反映的历史事件是（   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、袁世凯就任正式大总统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、袁世凯下令解散国民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、袁世凯下令解散国会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D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、袁世凯复辟帝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 Box 4"/>
          <p:cNvSpPr/>
          <p:nvPr/>
        </p:nvSpPr>
        <p:spPr>
          <a:xfrm>
            <a:off x="6739200" y="191628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4" name="Group 12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865" name="Picture 10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文本框 3"/>
          <p:cNvSpPr/>
          <p:nvPr/>
        </p:nvSpPr>
        <p:spPr>
          <a:xfrm>
            <a:off x="746280" y="907920"/>
            <a:ext cx="7786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．为讨伐袁世凯的复辟活动，维护共和制度的护国战争发生在（　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A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．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1913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B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．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1914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年　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C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．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1915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D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．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1916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文本框 7"/>
          <p:cNvSpPr/>
          <p:nvPr/>
        </p:nvSpPr>
        <p:spPr>
          <a:xfrm>
            <a:off x="5110200" y="2781360"/>
            <a:ext cx="2233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9" name="Group 12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870" name="Picture 10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矩形 1"/>
          <p:cNvSpPr/>
          <p:nvPr/>
        </p:nvSpPr>
        <p:spPr>
          <a:xfrm>
            <a:off x="611280" y="981000"/>
            <a:ext cx="79740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、袁世凯死后，北洋军阀分裂。其中控制北京政府的是（  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A.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以冯国璋和曹锟为首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直系军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B.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以段祺瑞为首的皖系军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C.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奉系军阀张作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D.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滇系军阀唐继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 Box 4"/>
          <p:cNvSpPr/>
          <p:nvPr/>
        </p:nvSpPr>
        <p:spPr>
          <a:xfrm>
            <a:off x="7387200" y="2071800"/>
            <a:ext cx="1235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4" name="Group 12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875" name="Picture 10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WordArt 2"/>
          <p:cNvSpPr txBox="1"/>
          <p:nvPr/>
        </p:nvSpPr>
        <p:spPr>
          <a:xfrm>
            <a:off x="2843280" y="3284640"/>
            <a:ext cx="367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华文彩云"/>
              </a:rPr>
              <a:t>再 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华文彩云"/>
              <a:ea typeface="华文彩云"/>
            </a:endParaRPr>
          </a:p>
        </p:txBody>
      </p:sp>
      <p:pic>
        <p:nvPicPr>
          <p:cNvPr id="878" name="Picture 3" descr="laladui"/>
          <p:cNvPicPr/>
          <p:nvPr/>
        </p:nvPicPr>
        <p:blipFill>
          <a:blip r:embed="rId2"/>
          <a:stretch/>
        </p:blipFill>
        <p:spPr>
          <a:xfrm>
            <a:off x="461880" y="4869000"/>
            <a:ext cx="1814760" cy="1728720"/>
          </a:xfrm>
          <a:prstGeom prst="rect">
            <a:avLst/>
          </a:prstGeom>
          <a:ln w="0">
            <a:noFill/>
          </a:ln>
        </p:spPr>
      </p:pic>
      <p:sp>
        <p:nvSpPr>
          <p:cNvPr id="879" name="Text Box 4"/>
          <p:cNvSpPr/>
          <p:nvPr/>
        </p:nvSpPr>
        <p:spPr>
          <a:xfrm>
            <a:off x="762120" y="609480"/>
            <a:ext cx="7696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祝同学们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健康快乐！学习进步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3"/>
          <p:cNvSpPr/>
          <p:nvPr/>
        </p:nvSpPr>
        <p:spPr>
          <a:xfrm>
            <a:off x="2122560" y="907920"/>
            <a:ext cx="66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---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指拥有军队、武装、地盘、政权的军人或军人集团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4"/>
          <p:cNvSpPr/>
          <p:nvPr/>
        </p:nvSpPr>
        <p:spPr>
          <a:xfrm>
            <a:off x="250920" y="944640"/>
            <a:ext cx="1439640" cy="1225440"/>
          </a:xfrm>
          <a:prstGeom prst="ellipse">
            <a:avLst/>
          </a:prstGeom>
          <a:solidFill>
            <a:srgbClr val="4f81b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军阀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5"/>
          <p:cNvSpPr/>
          <p:nvPr/>
        </p:nvSpPr>
        <p:spPr>
          <a:xfrm>
            <a:off x="250920" y="2565360"/>
            <a:ext cx="2484360" cy="1079640"/>
          </a:xfrm>
          <a:prstGeom prst="ellipse">
            <a:avLst/>
          </a:prstGeom>
          <a:solidFill>
            <a:srgbClr val="4f81b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北洋军阀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611280" y="3357720"/>
            <a:ext cx="8028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北洋：清末对辽宁、河北、山东等北方沿海各省的统称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北洋军阀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清朝末年由袁世凯建立起来的武装政治集团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Group 46"/>
          <p:cNvGrpSpPr/>
          <p:nvPr/>
        </p:nvGrpSpPr>
        <p:grpSpPr>
          <a:xfrm>
            <a:off x="0" y="-27000"/>
            <a:ext cx="9144000" cy="916920"/>
            <a:chOff x="0" y="-27000"/>
            <a:chExt cx="9144000" cy="916920"/>
          </a:xfrm>
        </p:grpSpPr>
        <p:pic>
          <p:nvPicPr>
            <p:cNvPr id="641" name="Picture 47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Text Box 22"/>
            <p:cNvSpPr/>
            <p:nvPr/>
          </p:nvSpPr>
          <p:spPr>
            <a:xfrm>
              <a:off x="2122560" y="-27000"/>
              <a:ext cx="554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历  史  知   识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1981080" y="9936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北洋军阀的统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3" descr="18"/>
          <p:cNvPicPr/>
          <p:nvPr/>
        </p:nvPicPr>
        <p:blipFill>
          <a:blip r:embed="rId1"/>
          <a:stretch/>
        </p:blipFill>
        <p:spPr>
          <a:xfrm>
            <a:off x="826920" y="2892600"/>
            <a:ext cx="7517160" cy="2491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变色小球"/>
          <p:cNvPicPr/>
          <p:nvPr/>
        </p:nvPicPr>
        <p:blipFill>
          <a:blip r:embed="rId2"/>
          <a:stretch/>
        </p:blipFill>
        <p:spPr>
          <a:xfrm>
            <a:off x="838080" y="286236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变色小球"/>
          <p:cNvPicPr/>
          <p:nvPr/>
        </p:nvPicPr>
        <p:blipFill>
          <a:blip r:embed="rId3"/>
          <a:stretch/>
        </p:blipFill>
        <p:spPr>
          <a:xfrm>
            <a:off x="3581280" y="285264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变色小球"/>
          <p:cNvPicPr/>
          <p:nvPr/>
        </p:nvPicPr>
        <p:blipFill>
          <a:blip r:embed="rId4"/>
          <a:stretch/>
        </p:blipFill>
        <p:spPr>
          <a:xfrm>
            <a:off x="8077320" y="285264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7"/>
          <p:cNvSpPr/>
          <p:nvPr/>
        </p:nvSpPr>
        <p:spPr>
          <a:xfrm>
            <a:off x="270720" y="2133720"/>
            <a:ext cx="199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91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3013920" y="2133720"/>
            <a:ext cx="199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91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6896160" y="2133720"/>
            <a:ext cx="199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928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10"/>
          <p:cNvSpPr/>
          <p:nvPr/>
        </p:nvSpPr>
        <p:spPr>
          <a:xfrm>
            <a:off x="611280" y="3814920"/>
            <a:ext cx="3504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袁世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统治时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5105520" y="3741840"/>
            <a:ext cx="228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军阀割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时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46"/>
          <p:cNvGrpSpPr/>
          <p:nvPr/>
        </p:nvGrpSpPr>
        <p:grpSpPr>
          <a:xfrm>
            <a:off x="0" y="-27000"/>
            <a:ext cx="9144000" cy="916920"/>
            <a:chOff x="0" y="-27000"/>
            <a:chExt cx="9144000" cy="916920"/>
          </a:xfrm>
        </p:grpSpPr>
        <p:pic>
          <p:nvPicPr>
            <p:cNvPr id="654" name="Picture 47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Text Box 22"/>
            <p:cNvSpPr/>
            <p:nvPr/>
          </p:nvSpPr>
          <p:spPr>
            <a:xfrm>
              <a:off x="2122560" y="-27000"/>
              <a:ext cx="554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历  史  知   识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6" name="左大括号 1"/>
          <p:cNvSpPr/>
          <p:nvPr/>
        </p:nvSpPr>
        <p:spPr>
          <a:xfrm rot="16200000">
            <a:off x="2059560" y="2169360"/>
            <a:ext cx="457200" cy="2633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2633400"/>
              <a:gd name="textAreaBottom" fmla="*/ 2621520 h 263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"/>
                  <a:pt x="10800" y="312"/>
                </a:cubicBezTo>
                <a:lnTo>
                  <a:pt x="10800" y="10488"/>
                </a:lnTo>
                <a:cubicBezTo>
                  <a:pt x="10800" y="10644"/>
                  <a:pt x="5400" y="10800"/>
                  <a:pt x="0" y="10800"/>
                </a:cubicBezTo>
                <a:cubicBezTo>
                  <a:pt x="5400" y="10800"/>
                  <a:pt x="10800" y="10956"/>
                  <a:pt x="10800" y="11112"/>
                </a:cubicBezTo>
                <a:lnTo>
                  <a:pt x="10800" y="21288"/>
                </a:lnTo>
                <a:cubicBezTo>
                  <a:pt x="10800" y="2144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左大括号 15"/>
          <p:cNvSpPr/>
          <p:nvPr/>
        </p:nvSpPr>
        <p:spPr>
          <a:xfrm rot="16200000">
            <a:off x="5766480" y="1369080"/>
            <a:ext cx="457200" cy="4287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4287960"/>
              <a:gd name="textAreaBottom" fmla="*/ 4276080 h 428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2"/>
                </a:cubicBezTo>
                <a:lnTo>
                  <a:pt x="10800" y="10608"/>
                </a:lnTo>
                <a:cubicBezTo>
                  <a:pt x="10800" y="10704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2"/>
                </a:cubicBezTo>
                <a:lnTo>
                  <a:pt x="10800" y="21408"/>
                </a:lnTo>
                <a:cubicBezTo>
                  <a:pt x="10800" y="2150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with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图片 2" descr="背景.png"/>
          <p:cNvPicPr/>
          <p:nvPr/>
        </p:nvPicPr>
        <p:blipFill>
          <a:blip r:embed="rId1"/>
          <a:stretch/>
        </p:blipFill>
        <p:spPr>
          <a:xfrm>
            <a:off x="34920" y="836640"/>
            <a:ext cx="3313080" cy="3079800"/>
          </a:xfrm>
          <a:prstGeom prst="rect">
            <a:avLst/>
          </a:prstGeom>
          <a:ln w="0">
            <a:noFill/>
          </a:ln>
        </p:spPr>
      </p:pic>
      <p:sp>
        <p:nvSpPr>
          <p:cNvPr id="659" name="TextBox 7"/>
          <p:cNvSpPr/>
          <p:nvPr/>
        </p:nvSpPr>
        <p:spPr>
          <a:xfrm>
            <a:off x="216000" y="3716280"/>
            <a:ext cx="39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北洋政府时期的国徽为“十二章国徽”，又称“嘉禾国徽”，设计者为鲁迅、钱稻孙和许寿裳。象征着稳重、忠孝、洁净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11"/>
          <p:cNvSpPr/>
          <p:nvPr/>
        </p:nvSpPr>
        <p:spPr>
          <a:xfrm>
            <a:off x="4444920" y="3181320"/>
            <a:ext cx="459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北洋政府时期的国旗为“五色旗”，寓意“五族共和”。代表五个民族的五色可以缓和种族革命的意义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亦是政治清明的象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12"/>
          <p:cNvSpPr/>
          <p:nvPr/>
        </p:nvSpPr>
        <p:spPr>
          <a:xfrm>
            <a:off x="0" y="83664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了解北洋政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2" name="Group 46"/>
          <p:cNvGrpSpPr/>
          <p:nvPr/>
        </p:nvGrpSpPr>
        <p:grpSpPr>
          <a:xfrm>
            <a:off x="0" y="-27000"/>
            <a:ext cx="9144000" cy="916920"/>
            <a:chOff x="0" y="-27000"/>
            <a:chExt cx="9144000" cy="916920"/>
          </a:xfrm>
        </p:grpSpPr>
        <p:pic>
          <p:nvPicPr>
            <p:cNvPr id="663" name="Picture 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22"/>
            <p:cNvSpPr/>
            <p:nvPr/>
          </p:nvSpPr>
          <p:spPr>
            <a:xfrm>
              <a:off x="2122560" y="-27000"/>
              <a:ext cx="554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历  史  知   识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5" name="Picture 14" descr=""/>
          <p:cNvPicPr/>
          <p:nvPr/>
        </p:nvPicPr>
        <p:blipFill>
          <a:blip r:embed="rId3"/>
          <a:stretch/>
        </p:blipFill>
        <p:spPr>
          <a:xfrm>
            <a:off x="5724360" y="849240"/>
            <a:ext cx="341964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yuanshikai1"/>
          <p:cNvPicPr/>
          <p:nvPr/>
        </p:nvPicPr>
        <p:blipFill>
          <a:blip r:embed="rId1"/>
          <a:stretch/>
        </p:blipFill>
        <p:spPr>
          <a:xfrm>
            <a:off x="609480" y="932040"/>
            <a:ext cx="7696440" cy="46940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67" name="Text Box 3"/>
          <p:cNvSpPr/>
          <p:nvPr/>
        </p:nvSpPr>
        <p:spPr>
          <a:xfrm>
            <a:off x="1979640" y="573264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黑体"/>
              </a:rPr>
              <a:t>袁世凯和北洋将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Group 46"/>
          <p:cNvGrpSpPr/>
          <p:nvPr/>
        </p:nvGrpSpPr>
        <p:grpSpPr>
          <a:xfrm>
            <a:off x="0" y="-27000"/>
            <a:ext cx="9144000" cy="916920"/>
            <a:chOff x="0" y="-27000"/>
            <a:chExt cx="9144000" cy="916920"/>
          </a:xfrm>
        </p:grpSpPr>
        <p:pic>
          <p:nvPicPr>
            <p:cNvPr id="669" name="Picture 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 Box 22"/>
            <p:cNvSpPr/>
            <p:nvPr/>
          </p:nvSpPr>
          <p:spPr>
            <a:xfrm>
              <a:off x="2122560" y="-27000"/>
              <a:ext cx="554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历  史  知  识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组合 1"/>
          <p:cNvGrpSpPr/>
          <p:nvPr/>
        </p:nvGrpSpPr>
        <p:grpSpPr>
          <a:xfrm>
            <a:off x="1092240" y="4764240"/>
            <a:ext cx="3263760" cy="2039760"/>
            <a:chOff x="1092240" y="4764240"/>
            <a:chExt cx="3263760" cy="2039760"/>
          </a:xfrm>
        </p:grpSpPr>
        <p:pic>
          <p:nvPicPr>
            <p:cNvPr id="672" name="图片 1" descr="国旗.png"/>
            <p:cNvPicPr/>
            <p:nvPr/>
          </p:nvPicPr>
          <p:blipFill>
            <a:blip r:embed="rId1"/>
            <a:stretch/>
          </p:blipFill>
          <p:spPr>
            <a:xfrm>
              <a:off x="1092240" y="4764240"/>
              <a:ext cx="3263760" cy="20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2" descr=""/>
            <p:cNvPicPr/>
            <p:nvPr/>
          </p:nvPicPr>
          <p:blipFill>
            <a:blip r:embed="rId2"/>
            <a:stretch/>
          </p:blipFill>
          <p:spPr>
            <a:xfrm>
              <a:off x="1172160" y="6528600"/>
              <a:ext cx="561960" cy="19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组合 2"/>
          <p:cNvGrpSpPr/>
          <p:nvPr/>
        </p:nvGrpSpPr>
        <p:grpSpPr>
          <a:xfrm>
            <a:off x="4932360" y="1693800"/>
            <a:ext cx="3183120" cy="4011840"/>
            <a:chOff x="4932360" y="1693800"/>
            <a:chExt cx="3183120" cy="4011840"/>
          </a:xfrm>
        </p:grpSpPr>
        <p:pic>
          <p:nvPicPr>
            <p:cNvPr id="675" name="图片 32780" descr=""/>
            <p:cNvPicPr/>
            <p:nvPr/>
          </p:nvPicPr>
          <p:blipFill>
            <a:blip r:embed="rId3"/>
            <a:stretch/>
          </p:blipFill>
          <p:spPr>
            <a:xfrm>
              <a:off x="4932360" y="1693800"/>
              <a:ext cx="3183120" cy="40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文本框 32781"/>
            <p:cNvSpPr/>
            <p:nvPr/>
          </p:nvSpPr>
          <p:spPr>
            <a:xfrm>
              <a:off x="7168320" y="1693800"/>
              <a:ext cx="933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袁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凯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678" name="WordArt 30"/>
          <p:cNvSpPr txBox="1"/>
          <p:nvPr/>
        </p:nvSpPr>
        <p:spPr>
          <a:xfrm>
            <a:off x="2195640" y="144360"/>
            <a:ext cx="64926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 </a:t>
            </a:r>
            <a:r>
              <a:rPr b="1" lang="zh-CN" sz="4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第三单元  资产阶级革命与中华民国的建立</a:t>
            </a:r>
            <a:endParaRPr b="1" lang="en-US" sz="44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79" name="图片 2" descr="背景.png"/>
          <p:cNvPicPr/>
          <p:nvPr/>
        </p:nvPicPr>
        <p:blipFill>
          <a:blip r:embed="rId5"/>
          <a:stretch/>
        </p:blipFill>
        <p:spPr>
          <a:xfrm>
            <a:off x="1042920" y="1700280"/>
            <a:ext cx="3313080" cy="3079800"/>
          </a:xfrm>
          <a:prstGeom prst="rect">
            <a:avLst/>
          </a:prstGeom>
          <a:ln w="0">
            <a:noFill/>
          </a:ln>
        </p:spPr>
      </p:pic>
      <p:pic>
        <p:nvPicPr>
          <p:cNvPr id="680" name="矩形 3" descr=""/>
          <p:cNvPicPr/>
          <p:nvPr/>
        </p:nvPicPr>
        <p:blipFill>
          <a:blip r:embed="rId6"/>
          <a:stretch/>
        </p:blipFill>
        <p:spPr>
          <a:xfrm>
            <a:off x="-49320" y="682560"/>
            <a:ext cx="92854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11"/>
          <p:cNvSpPr/>
          <p:nvPr/>
        </p:nvSpPr>
        <p:spPr>
          <a:xfrm>
            <a:off x="468360" y="249408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91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年，以宋教仁为首的国民党在第一届国会选举中占据了明显的优势，使袁世凯大为惊恐。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91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年春，准备北上组阁的宋教仁在上海火车站遇刺身亡。经查，此案牵涉到袁世凯本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组合 2"/>
          <p:cNvGrpSpPr/>
          <p:nvPr/>
        </p:nvGrpSpPr>
        <p:grpSpPr>
          <a:xfrm>
            <a:off x="4862520" y="1700280"/>
            <a:ext cx="4243320" cy="4880520"/>
            <a:chOff x="4862520" y="1700280"/>
            <a:chExt cx="4243320" cy="4880520"/>
          </a:xfrm>
        </p:grpSpPr>
        <p:sp>
          <p:nvSpPr>
            <p:cNvPr id="683" name="Text Box 16"/>
            <p:cNvSpPr/>
            <p:nvPr/>
          </p:nvSpPr>
          <p:spPr>
            <a:xfrm>
              <a:off x="6106320" y="5877360"/>
              <a:ext cx="170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宋教仁遇刺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4" name="Picture 19" descr="timg?image&amp;quality=80&amp;size=b9999_10000&amp;sec=1497414091284&amp;di=7b1afa5b2815def7d81cb6f0f0f99620&amp;imgtype=0&amp;src=http%3A%2F%2Fwww"/>
            <p:cNvPicPr/>
            <p:nvPr/>
          </p:nvPicPr>
          <p:blipFill>
            <a:blip r:embed="rId1"/>
            <a:stretch/>
          </p:blipFill>
          <p:spPr>
            <a:xfrm>
              <a:off x="4862520" y="1700280"/>
              <a:ext cx="4243320" cy="424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6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686" name="Picture 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Text Box 22"/>
            <p:cNvSpPr/>
            <p:nvPr/>
          </p:nvSpPr>
          <p:spPr>
            <a:xfrm>
              <a:off x="1979640" y="115920"/>
              <a:ext cx="709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1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北洋政府的黑暗统治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8" name="Picture 45" descr=""/>
          <p:cNvPicPr/>
          <p:nvPr/>
        </p:nvPicPr>
        <p:blipFill>
          <a:blip r:embed="rId3"/>
          <a:stretch/>
        </p:blipFill>
        <p:spPr>
          <a:xfrm>
            <a:off x="0" y="836640"/>
            <a:ext cx="9144000" cy="93672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49"/>
          <p:cNvSpPr/>
          <p:nvPr/>
        </p:nvSpPr>
        <p:spPr>
          <a:xfrm>
            <a:off x="468360" y="9428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隶书"/>
              </a:rPr>
              <a:t>一、二次革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矩形 1"/>
          <p:cNvSpPr/>
          <p:nvPr/>
        </p:nvSpPr>
        <p:spPr>
          <a:xfrm>
            <a:off x="885960" y="1700280"/>
            <a:ext cx="454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、</a:t>
            </a:r>
            <a:r>
              <a:rPr b="1" lang="en-US" sz="4400" spc="-1" strike="noStrike">
                <a:solidFill>
                  <a:srgbClr val="c00000"/>
                </a:solidFill>
                <a:latin typeface="黑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宋教仁案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4"/>
          <a:stretch/>
        </p:blipFill>
        <p:spPr>
          <a:xfrm>
            <a:off x="7020000" y="981000"/>
            <a:ext cx="998640" cy="7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14T02:42:24Z</dcterms:created>
  <dc:creator>免费更新微信：popo6111；淘宝店铺：泡泡教育</dc:creator>
  <dc:description>微店：http://weidian.com/s/259607770?wfr=c&amp;ifr=shopdetail</dc:description>
  <cp:keywords>微店：http://weidian.com/s/259607770?wfr=c&amp;ifr=shopdetail</cp:keywords>
  <dc:language>en-US</dc:language>
  <cp:lastModifiedBy>微软中国</cp:lastModifiedBy>
  <dcterms:modified xsi:type="dcterms:W3CDTF">2018-05-02T05:52:40Z</dcterms:modified>
  <cp:revision>42</cp:revision>
  <dc:subject>免费更新微信：popo6111；淘宝店铺：泡泡教育</dc:subject>
  <dc:title>免费更新微信：popo6111；淘宝店铺：泡泡教育</dc:title>
</cp:coreProperties>
</file>