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BBB-C483-4524-AE96-A9B0C07240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0E84-3EE3-4161-BD76-D8893916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09F-D2C4-47D4-9431-6BE3759A1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8960-80A0-44AA-BB9B-01B13815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3BF-8AED-48B3-B541-CA64CB28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7604-C52C-42F2-9D4E-8B0CEC1F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845F-FA16-4B8B-9872-1861AAE8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2B1-1EFC-41ED-B224-43737A71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0832-0CD2-40ED-B99D-238F4BD7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9237-49C8-4581-84EF-6EEF3530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25C0-8517-4130-92D2-E28719F8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55A-E64E-43F0-A3F9-D3BF6331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EDE9-EEBC-4942-B5FD-36BCEAC4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41C-1080-4E24-AB79-CDE01D89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777-6F05-4ED0-B96D-84BF1DA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F96-551F-4C58-B8E6-86FA9E55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C19-A0FD-446A-B239-91C3175B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7D6-313B-4E0F-8354-23DB474A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419-BE88-4E48-95F3-3BA5297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CBC-9D28-47E2-AF1F-71B324C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F48-09EE-4554-84C4-C60E8ABE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82E-6C70-4B2E-B1AF-00ED581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337-5062-41C6-8BA6-12D04C06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6C7-C6FF-4B85-A19F-F1665EA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77B-3656-4747-8481-691F57A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7997-D8C0-4E6A-B416-D96740DA48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6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9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987640" y="5853240"/>
            <a:ext cx="518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052640"/>
          <a:ext cx="8785440" cy="5472000"/>
        </p:xfrm>
        <a:graphic>
          <a:graphicData uri="http://schemas.openxmlformats.org/drawingml/2006/table">
            <a:tbl>
              <a:tblPr/>
              <a:tblGrid>
                <a:gridCol w="851040"/>
                <a:gridCol w="906480"/>
                <a:gridCol w="1374840"/>
                <a:gridCol w="1376280"/>
                <a:gridCol w="1449360"/>
                <a:gridCol w="1528920"/>
                <a:gridCol w="1298520"/>
              </a:tblGrid>
              <a:tr h="1964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新文化运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兴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标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口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主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代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思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阵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活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基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29">
            <a:hlinkClick r:id="rId1" action="ppaction://hlinksldjump"/>
          </p:cNvPr>
          <p:cNvSpPr/>
          <p:nvPr/>
        </p:nvSpPr>
        <p:spPr>
          <a:xfrm>
            <a:off x="1979640" y="3057480"/>
            <a:ext cx="14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陈独秀在上海创办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青年杂志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1187280" y="3213000"/>
            <a:ext cx="50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3419640" y="3645000"/>
            <a:ext cx="122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民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科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2">
            <a:hlinkClick r:id="rId2" action="ppaction://hlinksldjump"/>
          </p:cNvPr>
          <p:cNvSpPr/>
          <p:nvPr/>
        </p:nvSpPr>
        <p:spPr>
          <a:xfrm>
            <a:off x="4716360" y="3489480"/>
            <a:ext cx="151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陈独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李大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胡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6156360" y="364500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新青年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7885080" y="31305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北京大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40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57" name="Picture 4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WordArt 42"/>
            <p:cNvSpPr txBox="1"/>
            <p:nvPr/>
          </p:nvSpPr>
          <p:spPr>
            <a:xfrm>
              <a:off x="3132000" y="73080"/>
              <a:ext cx="3745080" cy="69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685800" y="762120"/>
            <a:ext cx="827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在第一次世界大战中，中国也是战胜国之一，为什么摆脱不了主权被侵犯的命运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WordArt 5"/>
          <p:cNvSpPr txBox="1"/>
          <p:nvPr/>
        </p:nvSpPr>
        <p:spPr>
          <a:xfrm rot="937800">
            <a:off x="250920" y="620640"/>
            <a:ext cx="19047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讨论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76200" y="2781360"/>
            <a:ext cx="85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当时中国综合国力仍然很弱；北洋军阀政府仍实行封建统治；帝国主义列强在华仍有很多特权；中国的社会性质仍是半殖民地半封建社会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00000" y="2354400"/>
            <a:ext cx="68724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外争国权，内惩国贼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47640" y="3213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取消“二十一条”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979640" y="414972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拒绝在和约上签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五四运动油画"/>
          <p:cNvPicPr/>
          <p:nvPr/>
        </p:nvPicPr>
        <p:blipFill>
          <a:blip r:embed="rId1"/>
          <a:stretch/>
        </p:blipFill>
        <p:spPr>
          <a:xfrm>
            <a:off x="398520" y="861840"/>
            <a:ext cx="7918560" cy="5662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900000" y="1484280"/>
            <a:ext cx="68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誓死力争，还我青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324000" y="981000"/>
            <a:ext cx="842472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919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日，北京十三所学校的三千多名学生，集会于北京天安门前，会后举行游行示威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五四运动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就此爆发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403280" y="5229360"/>
            <a:ext cx="705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惩办卖国贼曹汝霖等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84360" y="2924280"/>
            <a:ext cx="2016000" cy="720720"/>
          </a:xfrm>
          <a:prstGeom prst="wedgeRectCallout">
            <a:avLst>
              <a:gd name="adj1" fmla="val 39370"/>
              <a:gd name="adj2" fmla="val -69162"/>
            </a:avLst>
          </a:prstGeom>
          <a:solidFill>
            <a:srgbClr val="4f81bd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反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6156360" y="3141720"/>
            <a:ext cx="2987640" cy="647640"/>
          </a:xfrm>
          <a:prstGeom prst="wedgeRectCallout">
            <a:avLst>
              <a:gd name="adj1" fmla="val -38949"/>
              <a:gd name="adj2" fmla="val -9215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反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5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9"/>
          <p:cNvGraphicFramePr/>
          <p:nvPr/>
        </p:nvGraphicFramePr>
        <p:xfrm>
          <a:off x="179280" y="762120"/>
          <a:ext cx="89154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2120"/>
                    <a:ext cx="8915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"/>
          <p:cNvSpPr/>
          <p:nvPr/>
        </p:nvSpPr>
        <p:spPr>
          <a:xfrm>
            <a:off x="2209680" y="2565360"/>
            <a:ext cx="2001960" cy="1320840"/>
          </a:xfrm>
          <a:prstGeom prst="wedgeRoundRectCallout">
            <a:avLst>
              <a:gd name="adj1" fmla="val -67407"/>
              <a:gd name="adj2" fmla="val 41495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天安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5257800" y="4435560"/>
            <a:ext cx="2014560" cy="1431720"/>
          </a:xfrm>
          <a:prstGeom prst="wedgeRoundRectCallout">
            <a:avLst>
              <a:gd name="adj1" fmla="val -100865"/>
              <a:gd name="adj2" fmla="val 5185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东郊民巷请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5">
            <a:hlinkClick r:id="rId3" action="ppaction://hlinksldjump"/>
          </p:cNvPr>
          <p:cNvSpPr/>
          <p:nvPr/>
        </p:nvSpPr>
        <p:spPr>
          <a:xfrm>
            <a:off x="6095880" y="2997360"/>
            <a:ext cx="1828800" cy="1320480"/>
          </a:xfrm>
          <a:prstGeom prst="wedgeRoundRectCallout">
            <a:avLst>
              <a:gd name="adj1" fmla="val 65675"/>
              <a:gd name="adj2" fmla="val -62601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火烧赵家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00360" y="938160"/>
            <a:ext cx="457200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五四运动路线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1600200" y="2819520"/>
            <a:ext cx="6426360" cy="3225600"/>
          </a:xfrm>
          <a:custGeom>
            <a:avLst/>
            <a:gdLst>
              <a:gd name="textAreaLeft" fmla="*/ 0 w 6426360"/>
              <a:gd name="textAreaRight" fmla="*/ 6426720 w 642636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4048" h="2032">
                <a:moveTo>
                  <a:pt x="64" y="824"/>
                </a:moveTo>
                <a:cubicBezTo>
                  <a:pt x="32" y="1276"/>
                  <a:pt x="0" y="1728"/>
                  <a:pt x="16" y="1880"/>
                </a:cubicBezTo>
                <a:cubicBezTo>
                  <a:pt x="32" y="2032"/>
                  <a:pt x="136" y="1784"/>
                  <a:pt x="160" y="1736"/>
                </a:cubicBezTo>
                <a:cubicBezTo>
                  <a:pt x="184" y="1688"/>
                  <a:pt x="104" y="1616"/>
                  <a:pt x="160" y="1592"/>
                </a:cubicBezTo>
                <a:cubicBezTo>
                  <a:pt x="216" y="1568"/>
                  <a:pt x="440" y="1688"/>
                  <a:pt x="496" y="1592"/>
                </a:cubicBezTo>
                <a:cubicBezTo>
                  <a:pt x="552" y="1496"/>
                  <a:pt x="136" y="1104"/>
                  <a:pt x="496" y="1016"/>
                </a:cubicBezTo>
                <a:cubicBezTo>
                  <a:pt x="856" y="928"/>
                  <a:pt x="2296" y="1208"/>
                  <a:pt x="2656" y="1064"/>
                </a:cubicBezTo>
                <a:cubicBezTo>
                  <a:pt x="3016" y="920"/>
                  <a:pt x="2424" y="304"/>
                  <a:pt x="2656" y="152"/>
                </a:cubicBezTo>
                <a:cubicBezTo>
                  <a:pt x="2888" y="0"/>
                  <a:pt x="3816" y="152"/>
                  <a:pt x="4048" y="15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676520" y="3962520"/>
            <a:ext cx="0" cy="1676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1752480" y="5181480"/>
            <a:ext cx="76320" cy="533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905120" y="5181480"/>
            <a:ext cx="3808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86000" y="4343400"/>
            <a:ext cx="76320" cy="838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2438280" y="4343400"/>
            <a:ext cx="33530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5791320" y="2819160"/>
            <a:ext cx="75960" cy="14475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943600" y="2819520"/>
            <a:ext cx="1981080" cy="759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7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004"/>
          <p:cNvPicPr/>
          <p:nvPr/>
        </p:nvPicPr>
        <p:blipFill>
          <a:blip r:embed="rId1"/>
          <a:stretch/>
        </p:blipFill>
        <p:spPr>
          <a:xfrm>
            <a:off x="250920" y="1049400"/>
            <a:ext cx="8604000" cy="5808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2195640" y="9079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华文中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爱国何罪</a:t>
            </a:r>
            <a:r>
              <a:rPr b="1" lang="zh-CN" sz="4400" spc="-1" strike="noStrike">
                <a:solidFill>
                  <a:srgbClr val="000066"/>
                </a:solidFill>
                <a:latin typeface="华文中宋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8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1"/>
          <p:cNvSpPr/>
          <p:nvPr/>
        </p:nvSpPr>
        <p:spPr>
          <a:xfrm>
            <a:off x="4162680" y="71424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二、五四运动的扩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8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Rectangle 11"/>
          <p:cNvSpPr/>
          <p:nvPr/>
        </p:nvSpPr>
        <p:spPr>
          <a:xfrm>
            <a:off x="546120" y="1674720"/>
            <a:ext cx="82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陈独秀亲自起草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_______________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号召北京学生、商人、劳工奋起斗争，勇敢地对社会进行根本改造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284720" y="1530360"/>
            <a:ext cx="43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北京市民宣言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01480" y="3519360"/>
            <a:ext cx="82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6</a:t>
            </a:r>
            <a:r>
              <a:rPr b="1" lang="zh-CN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日本帝国主义在天津、上海、南京、汉口等地集结军舰，胁迫北洋政府取缔学生的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全国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多个城市的学生一致罢课，支持北京学生的反帝爱国斗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109960" y="4521240"/>
            <a:ext cx="26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爱国运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5837040" y="4581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"/>
          <p:cNvSpPr/>
          <p:nvPr/>
        </p:nvSpPr>
        <p:spPr>
          <a:xfrm>
            <a:off x="3236760" y="2637000"/>
            <a:ext cx="39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工人阶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49200" y="3678120"/>
            <a:ext cx="30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运动中心：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493236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0" y="551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学生罢课、商人罢市、工人罢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2050920" y="1314360"/>
            <a:ext cx="1756080" cy="1168560"/>
          </a:xfrm>
          <a:custGeom>
            <a:avLst/>
            <a:gdLst>
              <a:gd name="textAreaLeft" fmla="*/ 542520 w 1756080"/>
              <a:gd name="textAreaRight" fmla="*/ 1213560 w 1756080"/>
              <a:gd name="textAreaTop" fmla="*/ 446400 h 1168560"/>
              <a:gd name="textAreaBottom" fmla="*/ 892800 h 1168560"/>
            </a:gdLst>
            <a:ahLst/>
            <a:rect l="textAreaLeft" t="textAreaTop" r="textAreaRight" b="textAreaBottom"/>
            <a:pathLst>
              <a:path w="1755775" h="1168400">
                <a:moveTo>
                  <a:pt x="2" y="446288"/>
                </a:moveTo>
                <a:lnTo>
                  <a:pt x="670650" y="446291"/>
                </a:lnTo>
                <a:lnTo>
                  <a:pt x="877888" y="0"/>
                </a:lnTo>
                <a:lnTo>
                  <a:pt x="1085125" y="446291"/>
                </a:lnTo>
                <a:lnTo>
                  <a:pt x="1755773" y="446288"/>
                </a:lnTo>
                <a:lnTo>
                  <a:pt x="1213205" y="722107"/>
                </a:lnTo>
                <a:lnTo>
                  <a:pt x="1420452" y="1168396"/>
                </a:lnTo>
                <a:lnTo>
                  <a:pt x="877888" y="892572"/>
                </a:lnTo>
                <a:lnTo>
                  <a:pt x="335323" y="1168396"/>
                </a:lnTo>
                <a:lnTo>
                  <a:pt x="542570" y="72210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387600" y="3645000"/>
            <a:ext cx="17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北京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012000" y="3645000"/>
            <a:ext cx="211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上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1"/>
          <p:cNvSpPr/>
          <p:nvPr/>
        </p:nvSpPr>
        <p:spPr>
          <a:xfrm>
            <a:off x="4162680" y="77796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二、五四运动的扩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0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矩形 2"/>
          <p:cNvSpPr/>
          <p:nvPr/>
        </p:nvSpPr>
        <p:spPr>
          <a:xfrm>
            <a:off x="1496880" y="1714680"/>
            <a:ext cx="50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7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、</a:t>
            </a: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6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月</a:t>
            </a: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5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日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1506600" y="2637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主力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1506600" y="4686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形势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8"/>
          <p:cNvSpPr/>
          <p:nvPr/>
        </p:nvSpPr>
        <p:spPr>
          <a:xfrm>
            <a:off x="538200" y="2716200"/>
            <a:ext cx="8281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(1)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北洋军阀被迫释放被捕的学生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(2)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免去三个卖国贼的职务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(3)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中国代表拒绝在对德和约上签字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五四运动的直接目标得到实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1546200" y="1773360"/>
            <a:ext cx="31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结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1"/>
          <p:cNvSpPr/>
          <p:nvPr/>
        </p:nvSpPr>
        <p:spPr>
          <a:xfrm>
            <a:off x="4162680" y="71424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二、五四运动的扩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ws41_1"/>
          <p:cNvPicPr/>
          <p:nvPr/>
        </p:nvPicPr>
        <p:blipFill>
          <a:blip r:embed="rId1"/>
          <a:stretch/>
        </p:blipFill>
        <p:spPr>
          <a:xfrm>
            <a:off x="468360" y="838080"/>
            <a:ext cx="7991280" cy="5904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908000" y="917640"/>
            <a:ext cx="47865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上海全市工人大罢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五四运动时期南京路五芳斋门口的罢市街景。此原照由朱梦华捐献。"/>
          <p:cNvPicPr/>
          <p:nvPr/>
        </p:nvPicPr>
        <p:blipFill>
          <a:blip r:embed="rId2"/>
          <a:stretch/>
        </p:blipFill>
        <p:spPr>
          <a:xfrm>
            <a:off x="108000" y="755640"/>
            <a:ext cx="8351640" cy="6202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2124000" y="1011240"/>
            <a:ext cx="4464000" cy="764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上海商人罢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79280" y="2060640"/>
            <a:ext cx="883944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45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国事如此，无心整容，请君不必光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上海某理发馆贴出的告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603360" y="3429000"/>
            <a:ext cx="670536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45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上海商人罢市标语、口号</a:t>
            </a: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罢市救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不办卖国贼不开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为良心救国牺牲私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3581280" y="5867280"/>
            <a:ext cx="55627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爱国不止是学生的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23" name="Picture 5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左大括号 14344"/>
          <p:cNvSpPr/>
          <p:nvPr/>
        </p:nvSpPr>
        <p:spPr>
          <a:xfrm>
            <a:off x="2017800" y="595440"/>
            <a:ext cx="155520" cy="1385640"/>
          </a:xfrm>
          <a:custGeom>
            <a:avLst/>
            <a:gdLst>
              <a:gd name="textAreaLeft" fmla="*/ 99360 w 155520"/>
              <a:gd name="textAreaRight" fmla="*/ 155520 w 155520"/>
              <a:gd name="textAreaTop" fmla="*/ 13320 h 1385640"/>
              <a:gd name="textAreaBottom" fmla="*/ 1372320 h 138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6"/>
                  <a:pt x="10800" y="672"/>
                </a:cubicBezTo>
                <a:lnTo>
                  <a:pt x="10800" y="10128"/>
                </a:lnTo>
                <a:cubicBezTo>
                  <a:pt x="10800" y="10464"/>
                  <a:pt x="5400" y="10800"/>
                  <a:pt x="0" y="10800"/>
                </a:cubicBezTo>
                <a:cubicBezTo>
                  <a:pt x="5400" y="10800"/>
                  <a:pt x="10800" y="11136"/>
                  <a:pt x="10800" y="11472"/>
                </a:cubicBezTo>
                <a:lnTo>
                  <a:pt x="10800" y="20928"/>
                </a:lnTo>
                <a:cubicBezTo>
                  <a:pt x="10800" y="2126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1"/>
          <p:cNvGrpSpPr/>
          <p:nvPr/>
        </p:nvGrpSpPr>
        <p:grpSpPr>
          <a:xfrm>
            <a:off x="179280" y="873000"/>
            <a:ext cx="8750520" cy="5790960"/>
            <a:chOff x="179280" y="873000"/>
            <a:chExt cx="8750520" cy="5790960"/>
          </a:xfrm>
        </p:grpSpPr>
        <p:pic>
          <p:nvPicPr>
            <p:cNvPr id="227" name="Picture 2" descr="北高师学生欢迎“五四”被捕同学出狱"/>
            <p:cNvPicPr/>
            <p:nvPr/>
          </p:nvPicPr>
          <p:blipFill>
            <a:blip r:embed="rId1"/>
            <a:stretch/>
          </p:blipFill>
          <p:spPr>
            <a:xfrm>
              <a:off x="179280" y="873000"/>
              <a:ext cx="875052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3"/>
            <p:cNvSpPr/>
            <p:nvPr/>
          </p:nvSpPr>
          <p:spPr>
            <a:xfrm>
              <a:off x="179280" y="6021360"/>
              <a:ext cx="875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北京高师学生欢迎“五四”被捕同学出狱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3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0600" y="5950080"/>
            <a:ext cx="861048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曹汝霖、章宗祥、陆宗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图片6"/>
          <p:cNvPicPr/>
          <p:nvPr/>
        </p:nvPicPr>
        <p:blipFill>
          <a:blip r:embed="rId1"/>
          <a:stretch/>
        </p:blipFill>
        <p:spPr>
          <a:xfrm>
            <a:off x="324000" y="836640"/>
            <a:ext cx="8677080" cy="52084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3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340000" y="2060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近代化的探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16000" y="3860640"/>
            <a:ext cx="158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洋务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916360" y="3860640"/>
            <a:ext cx="158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戊戌变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746600" y="3860640"/>
            <a:ext cx="16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辛亥革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248520" y="3860640"/>
            <a:ext cx="2284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新文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8000" y="981000"/>
            <a:ext cx="8893080" cy="916920"/>
          </a:xfrm>
          <a:prstGeom prst="rect">
            <a:avLst/>
          </a:prstGeom>
          <a:solidFill>
            <a:srgbClr val="d9fff5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世纪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年代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世纪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900000" y="5587920"/>
            <a:ext cx="1656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技术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3708360" y="558792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制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6516720" y="5587920"/>
            <a:ext cx="1798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思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2843280" y="58039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5724360" y="58039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13"/>
          <p:cNvGrpSpPr/>
          <p:nvPr/>
        </p:nvGrpSpPr>
        <p:grpSpPr>
          <a:xfrm>
            <a:off x="3780000" y="4938840"/>
            <a:ext cx="1583640" cy="649080"/>
            <a:chOff x="3780000" y="4938840"/>
            <a:chExt cx="1583640" cy="649080"/>
          </a:xfrm>
        </p:grpSpPr>
        <p:sp>
          <p:nvSpPr>
            <p:cNvPr id="71" name="Line 14"/>
            <p:cNvSpPr/>
            <p:nvPr/>
          </p:nvSpPr>
          <p:spPr>
            <a:xfrm>
              <a:off x="3780000" y="4938840"/>
              <a:ext cx="720360" cy="64908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15"/>
            <p:cNvSpPr/>
            <p:nvPr/>
          </p:nvSpPr>
          <p:spPr>
            <a:xfrm flipH="1">
              <a:off x="4787640" y="4938840"/>
              <a:ext cx="576000" cy="64764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Line 16"/>
          <p:cNvSpPr/>
          <p:nvPr/>
        </p:nvSpPr>
        <p:spPr>
          <a:xfrm>
            <a:off x="1835280" y="5011560"/>
            <a:ext cx="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7308720" y="4938840"/>
            <a:ext cx="0" cy="5760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908000" y="2922480"/>
            <a:ext cx="5400720" cy="865440"/>
            <a:chOff x="1908000" y="2922480"/>
            <a:chExt cx="5400720" cy="865440"/>
          </a:xfrm>
        </p:grpSpPr>
        <p:sp>
          <p:nvSpPr>
            <p:cNvPr id="76" name="AutoShape 19"/>
            <p:cNvSpPr/>
            <p:nvPr/>
          </p:nvSpPr>
          <p:spPr>
            <a:xfrm rot="5400000">
              <a:off x="4176360" y="653760"/>
              <a:ext cx="863640" cy="5400720"/>
            </a:xfrm>
            <a:custGeom>
              <a:avLst/>
              <a:gdLst>
                <a:gd name="textAreaLeft" fmla="*/ 551880 w 863640"/>
                <a:gd name="textAreaRight" fmla="*/ 864000 w 863640"/>
                <a:gd name="textAreaTop" fmla="*/ 0 h 5400720"/>
                <a:gd name="textAreaBottom" fmla="*/ 5401080 h 54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3708360" y="335448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5580000" y="335448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80" name="Picture 2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WordArt 24"/>
            <p:cNvSpPr txBox="1"/>
            <p:nvPr/>
          </p:nvSpPr>
          <p:spPr>
            <a:xfrm>
              <a:off x="3132000" y="73080"/>
              <a:ext cx="3745080" cy="69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出席巴黎和会的中国代表拒绝在和约上签字的通告"/>
          <p:cNvPicPr/>
          <p:nvPr/>
        </p:nvPicPr>
        <p:blipFill>
          <a:blip r:embed="rId1"/>
          <a:stretch/>
        </p:blipFill>
        <p:spPr>
          <a:xfrm>
            <a:off x="216000" y="833400"/>
            <a:ext cx="8748720" cy="4827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179280" y="5675400"/>
            <a:ext cx="88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出席巴黎和会的中国代表拒绝在和约上签字的通告（右图）；其他各国代表的签字（左图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4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740720" y="494172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7"/>
          <p:cNvSpPr/>
          <p:nvPr/>
        </p:nvSpPr>
        <p:spPr>
          <a:xfrm>
            <a:off x="468360" y="16686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性质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次彻底地反对帝国主义和封建主义的爱国运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1"/>
          <p:cNvSpPr/>
          <p:nvPr/>
        </p:nvSpPr>
        <p:spPr>
          <a:xfrm>
            <a:off x="3957840" y="77796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三、五四运动的历史意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4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1042920" y="1557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9</a:t>
            </a: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意 义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611280" y="5300640"/>
            <a:ext cx="79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划时代的意义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五四运动是中国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新民主主义革命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开端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39640" y="2997360"/>
            <a:ext cx="7747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中国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无产阶级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开始登上政治舞台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发挥了主力军作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39640" y="4149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一些初步接受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马克思主义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的知识分子和青年学生，在运动中起了重要的作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136000" y="981000"/>
            <a:ext cx="90000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4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9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4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0"/>
            <a:ext cx="9144000" cy="888480"/>
            <a:chOff x="0" y="0"/>
            <a:chExt cx="9144000" cy="88848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22"/>
            <p:cNvSpPr/>
            <p:nvPr/>
          </p:nvSpPr>
          <p:spPr>
            <a:xfrm>
              <a:off x="2050920" y="136440"/>
              <a:ext cx="6050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材  料  研  读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Text Box 3"/>
          <p:cNvSpPr/>
          <p:nvPr/>
        </p:nvSpPr>
        <p:spPr>
          <a:xfrm>
            <a:off x="399960" y="907920"/>
            <a:ext cx="849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希望全国工商各界，一律起来设法开国民大会，外争主权，内除国贼。中国存亡，就在此一举了！今与全国同胞立两个信条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中国的土地可以征服而不可以断送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中国的人民可以杀戮而不可以低头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国亡了！同胞起来呀！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——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北京学界全体宣言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39640" y="4941720"/>
            <a:ext cx="8077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上面这段话最能反映五四运动怎样的性质？为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17440" y="1557360"/>
            <a:ext cx="9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四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运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华文彩云"/>
                <a:ea typeface="华文彩云"/>
              </a:rPr>
              <a:t>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3">
            <a:hlinkClick r:id="rId1" action="ppaction://hlinksldjump"/>
          </p:cNvPr>
          <p:cNvSpPr/>
          <p:nvPr/>
        </p:nvSpPr>
        <p:spPr>
          <a:xfrm>
            <a:off x="1332000" y="76500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背景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000240" y="836640"/>
            <a:ext cx="603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巴黎和会上中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外交的失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1042920" y="1181160"/>
            <a:ext cx="289080" cy="4743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88200 h 4743360"/>
              <a:gd name="textAreaBottom" fmla="*/ 4655160 h 474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2"/>
                  <a:pt x="10800" y="1284"/>
                </a:cubicBezTo>
                <a:lnTo>
                  <a:pt x="10800" y="9516"/>
                </a:lnTo>
                <a:cubicBezTo>
                  <a:pt x="10800" y="10158"/>
                  <a:pt x="5400" y="10800"/>
                  <a:pt x="0" y="10800"/>
                </a:cubicBezTo>
                <a:cubicBezTo>
                  <a:pt x="5400" y="10800"/>
                  <a:pt x="10800" y="11442"/>
                  <a:pt x="10800" y="12084"/>
                </a:cubicBezTo>
                <a:lnTo>
                  <a:pt x="10800" y="20316"/>
                </a:lnTo>
                <a:cubicBezTo>
                  <a:pt x="10800" y="20958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>
            <a:hlinkClick r:id="rId2" action="ppaction://hlinksldjump"/>
          </p:cNvPr>
          <p:cNvSpPr/>
          <p:nvPr/>
        </p:nvSpPr>
        <p:spPr>
          <a:xfrm>
            <a:off x="1271520" y="2133720"/>
            <a:ext cx="16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经过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054160" y="278136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5.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224160" y="3284640"/>
            <a:ext cx="1995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844720" y="2162160"/>
            <a:ext cx="29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北京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心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874960" y="3584520"/>
            <a:ext cx="28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学生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主力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2"/>
          <p:cNvSpPr/>
          <p:nvPr/>
        </p:nvSpPr>
        <p:spPr>
          <a:xfrm flipV="1">
            <a:off x="6283440" y="3284640"/>
            <a:ext cx="1960560" cy="25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054840" y="2133720"/>
            <a:ext cx="30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上海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心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6040440" y="359568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工人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主力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3554280" y="4437000"/>
            <a:ext cx="34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初步胜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6">
            <a:hlinkClick r:id="rId3" action="ppaction://hlinksldjump"/>
          </p:cNvPr>
          <p:cNvSpPr/>
          <p:nvPr/>
        </p:nvSpPr>
        <p:spPr>
          <a:xfrm>
            <a:off x="1225440" y="5540400"/>
            <a:ext cx="31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历史意义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1271520" y="453240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结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30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275" name="Picture 31" descr="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556416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632628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65904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18328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5040" y="2057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7"/>
          <p:cNvSpPr/>
          <p:nvPr/>
        </p:nvSpPr>
        <p:spPr>
          <a:xfrm rot="5400000">
            <a:off x="3840480" y="-808560"/>
            <a:ext cx="287280" cy="61722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6480 h 6172200"/>
              <a:gd name="textAreaBottom" fmla="*/ 598572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5"/>
                  <a:pt x="10800" y="2089"/>
                </a:cubicBezTo>
                <a:lnTo>
                  <a:pt x="10800" y="8867"/>
                </a:lnTo>
                <a:cubicBezTo>
                  <a:pt x="10800" y="9912"/>
                  <a:pt x="5400" y="10956"/>
                  <a:pt x="0" y="10956"/>
                </a:cubicBezTo>
                <a:cubicBezTo>
                  <a:pt x="5400" y="10956"/>
                  <a:pt x="10800" y="12001"/>
                  <a:pt x="10800" y="13045"/>
                </a:cubicBezTo>
                <a:lnTo>
                  <a:pt x="10800" y="19511"/>
                </a:lnTo>
                <a:cubicBezTo>
                  <a:pt x="10800" y="205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798480" y="3500280"/>
            <a:ext cx="773424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826920" y="3276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4284720" y="3276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7236000" y="3276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890800" y="83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中国近代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295920" y="24703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84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3537720" y="24703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1919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6427080" y="24703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94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2475720" y="2208600"/>
            <a:ext cx="360360" cy="325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4960 h 3257640"/>
              <a:gd name="textAreaBottom" fmla="*/ 3172680 h 32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9"/>
                </a:lnTo>
                <a:cubicBezTo>
                  <a:pt x="10800" y="9489"/>
                  <a:pt x="5400" y="10389"/>
                  <a:pt x="0" y="10389"/>
                </a:cubicBezTo>
                <a:cubicBezTo>
                  <a:pt x="5400" y="10389"/>
                  <a:pt x="10800" y="11289"/>
                  <a:pt x="10800" y="121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7"/>
          <p:cNvSpPr/>
          <p:nvPr/>
        </p:nvSpPr>
        <p:spPr>
          <a:xfrm rot="16200000">
            <a:off x="5694120" y="2449080"/>
            <a:ext cx="304920" cy="2838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800 h 2838240"/>
              <a:gd name="textAreaBottom" fmla="*/ 2764440 h 28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9"/>
                </a:lnTo>
                <a:cubicBezTo>
                  <a:pt x="10800" y="9489"/>
                  <a:pt x="5400" y="10389"/>
                  <a:pt x="0" y="10389"/>
                </a:cubicBezTo>
                <a:cubicBezTo>
                  <a:pt x="5400" y="10389"/>
                  <a:pt x="10800" y="11289"/>
                  <a:pt x="10800" y="121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1547640" y="4270320"/>
            <a:ext cx="2087640" cy="1434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旧民主主义革命时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4932360" y="4221000"/>
            <a:ext cx="2089080" cy="1434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新民主主义革命时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3257280" y="4149720"/>
            <a:ext cx="152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五四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297" name="Picture 22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9"/>
          <p:cNvSpPr/>
          <p:nvPr/>
        </p:nvSpPr>
        <p:spPr>
          <a:xfrm>
            <a:off x="395280" y="1765440"/>
            <a:ext cx="720720" cy="3649680"/>
          </a:xfrm>
          <a:prstGeom prst="rect">
            <a:avLst/>
          </a:prstGeom>
          <a:gradFill rotWithShape="0">
            <a:gsLst>
              <a:gs pos="0">
                <a:srgbClr val="ffb8b5"/>
              </a:gs>
              <a:gs pos="100000">
                <a:srgbClr val="ffe9e8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旧民主主义革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95280" y="5950080"/>
            <a:ext cx="3816360" cy="601920"/>
          </a:xfrm>
          <a:prstGeom prst="rect">
            <a:avLst/>
          </a:prstGeom>
          <a:gradFill rotWithShape="0">
            <a:gsLst>
              <a:gs pos="0">
                <a:srgbClr val="ffb8b5"/>
              </a:gs>
              <a:gs pos="100000">
                <a:srgbClr val="ffe9e8"/>
              </a:gs>
            </a:gsLst>
            <a:lin ang="5400000"/>
          </a:gradFill>
          <a:ln w="9360">
            <a:solidFill>
              <a:srgbClr val="fba7a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黑体"/>
              </a:rPr>
              <a:t>新民主主义革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692360" y="1797120"/>
            <a:ext cx="8991360" cy="3649680"/>
            <a:chOff x="1692360" y="1797120"/>
            <a:chExt cx="8991360" cy="3649680"/>
          </a:xfrm>
        </p:grpSpPr>
        <p:sp>
          <p:nvSpPr>
            <p:cNvPr id="303" name="Text Box 3"/>
            <p:cNvSpPr/>
            <p:nvPr/>
          </p:nvSpPr>
          <p:spPr>
            <a:xfrm>
              <a:off x="1692360" y="1797120"/>
              <a:ext cx="8991360" cy="36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农民阶级</a:t>
              </a:r>
              <a:r>
                <a:rPr b="1" lang="zh-CN" sz="2800" spc="-1" strike="noStrike">
                  <a:solidFill>
                    <a:srgbClr val="08022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太平天国运动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义和团运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主阶级     洋务运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戊戌变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资产阶级     辛亥革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新文化运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4" name="Group 6"/>
            <p:cNvGrpSpPr/>
            <p:nvPr/>
          </p:nvGrpSpPr>
          <p:grpSpPr>
            <a:xfrm>
              <a:off x="3292200" y="2177640"/>
              <a:ext cx="533160" cy="456840"/>
              <a:chOff x="3292200" y="2177640"/>
              <a:chExt cx="533160" cy="456840"/>
            </a:xfrm>
          </p:grpSpPr>
          <p:sp>
            <p:nvSpPr>
              <p:cNvPr id="305" name="Line 5"/>
              <p:cNvSpPr/>
              <p:nvPr/>
            </p:nvSpPr>
            <p:spPr>
              <a:xfrm>
                <a:off x="3292200" y="2177640"/>
                <a:ext cx="533160" cy="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6"/>
              <p:cNvSpPr/>
              <p:nvPr/>
            </p:nvSpPr>
            <p:spPr>
              <a:xfrm>
                <a:off x="3292200" y="2177640"/>
                <a:ext cx="456840" cy="45684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Line 8"/>
            <p:cNvSpPr/>
            <p:nvPr/>
          </p:nvSpPr>
          <p:spPr>
            <a:xfrm>
              <a:off x="3368520" y="3625560"/>
              <a:ext cx="685440" cy="0"/>
            </a:xfrm>
            <a:prstGeom prst="line">
              <a:avLst/>
            </a:prstGeom>
            <a:ln w="572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8" name="Group 10"/>
            <p:cNvGrpSpPr/>
            <p:nvPr/>
          </p:nvGrpSpPr>
          <p:grpSpPr>
            <a:xfrm>
              <a:off x="3215880" y="4311000"/>
              <a:ext cx="838080" cy="837720"/>
              <a:chOff x="3215880" y="4311000"/>
              <a:chExt cx="838080" cy="837720"/>
            </a:xfrm>
          </p:grpSpPr>
          <p:sp>
            <p:nvSpPr>
              <p:cNvPr id="309" name="Line 9"/>
              <p:cNvSpPr/>
              <p:nvPr/>
            </p:nvSpPr>
            <p:spPr>
              <a:xfrm flipV="1">
                <a:off x="3215880" y="4311000"/>
                <a:ext cx="685800" cy="38052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Line 10"/>
              <p:cNvSpPr/>
              <p:nvPr/>
            </p:nvSpPr>
            <p:spPr>
              <a:xfrm>
                <a:off x="3215880" y="4691880"/>
                <a:ext cx="762120" cy="45684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Line 11"/>
              <p:cNvSpPr/>
              <p:nvPr/>
            </p:nvSpPr>
            <p:spPr>
              <a:xfrm>
                <a:off x="3292200" y="4691880"/>
                <a:ext cx="761760" cy="7596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2" name="左大括号 43"/>
          <p:cNvSpPr/>
          <p:nvPr/>
        </p:nvSpPr>
        <p:spPr>
          <a:xfrm>
            <a:off x="1187280" y="1863720"/>
            <a:ext cx="381240" cy="3581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581280"/>
              <a:gd name="textAreaBottom" fmla="*/ 357156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15"/>
          <p:cNvGrpSpPr/>
          <p:nvPr/>
        </p:nvGrpSpPr>
        <p:grpSpPr>
          <a:xfrm>
            <a:off x="6084720" y="2011320"/>
            <a:ext cx="988920" cy="3505320"/>
            <a:chOff x="6084720" y="2011320"/>
            <a:chExt cx="988920" cy="3505320"/>
          </a:xfrm>
        </p:grpSpPr>
        <p:sp>
          <p:nvSpPr>
            <p:cNvPr id="314" name="AutoShape 13"/>
            <p:cNvSpPr/>
            <p:nvPr/>
          </p:nvSpPr>
          <p:spPr>
            <a:xfrm>
              <a:off x="6084720" y="2011320"/>
              <a:ext cx="304920" cy="35053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66"/>
              </a:solidFill>
              <a:miter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4"/>
            <p:cNvSpPr/>
            <p:nvPr/>
          </p:nvSpPr>
          <p:spPr>
            <a:xfrm>
              <a:off x="6372000" y="3306600"/>
              <a:ext cx="70164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失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AutoShape 15"/>
          <p:cNvSpPr/>
          <p:nvPr/>
        </p:nvSpPr>
        <p:spPr>
          <a:xfrm>
            <a:off x="6948360" y="3716280"/>
            <a:ext cx="457200" cy="303120"/>
          </a:xfrm>
          <a:prstGeom prst="rightArrow">
            <a:avLst>
              <a:gd name="adj1" fmla="val 50000"/>
              <a:gd name="adj2" fmla="val 377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7451640" y="2205000"/>
            <a:ext cx="1447920" cy="601920"/>
          </a:xfrm>
          <a:prstGeom prst="rect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  <a:ea typeface="黑体"/>
              </a:rPr>
              <a:t>农民、地主、资产阶级都不能救中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5221440" y="5946840"/>
            <a:ext cx="3671640" cy="652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无产阶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WordArt 21" descr=""/>
          <p:cNvPicPr/>
          <p:nvPr/>
        </p:nvPicPr>
        <p:blipFill>
          <a:blip r:embed="rId2"/>
          <a:stretch/>
        </p:blipFill>
        <p:spPr>
          <a:xfrm>
            <a:off x="2908440" y="36360"/>
            <a:ext cx="320652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88720" y="2707920"/>
            <a:ext cx="867564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爱国精神　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不屈不挠</a:t>
            </a:r>
            <a:r>
              <a:rPr b="1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敢于斗争、乐于奉献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民主和科学精神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追求真理、勇于解放精神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概括地说：</a:t>
            </a:r>
            <a:r>
              <a:rPr b="1" lang="zh-CN" sz="3700" spc="-1" strike="noStrike">
                <a:solidFill>
                  <a:srgbClr val="c00000"/>
                </a:solidFill>
                <a:latin typeface="黑体"/>
                <a:ea typeface="黑体"/>
              </a:rPr>
              <a:t>爱国、民主、科学、进步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3700" spc="-1" strike="noStrike">
                <a:solidFill>
                  <a:srgbClr val="cc0000"/>
                </a:solidFill>
                <a:latin typeface="黑体"/>
                <a:ea typeface="黑体"/>
              </a:rPr>
              <a:t>核心是：</a:t>
            </a:r>
            <a:r>
              <a:rPr b="1" lang="zh-CN" sz="4400" spc="-1" strike="noStrike">
                <a:solidFill>
                  <a:srgbClr val="000066"/>
                </a:solidFill>
                <a:latin typeface="华文彩云"/>
                <a:ea typeface="华文彩云"/>
              </a:rPr>
              <a:t>爱国主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1332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中国的土地可以征服而不可以断送！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中国的人民可以杀戮而不可以低头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2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5" name="Rectangle 10"/>
          <p:cNvSpPr/>
          <p:nvPr/>
        </p:nvSpPr>
        <p:spPr>
          <a:xfrm>
            <a:off x="1873440" y="7650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Calibri"/>
                <a:ea typeface="隶书"/>
              </a:rPr>
              <a:t>五四精神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7172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新时期的“五四精神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71280" y="2995200"/>
            <a:ext cx="73436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爱国主义     民主科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放思想     勤于学习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拓创新     勇于奉献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250920" y="83664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我们应如何继承和发扬五四精神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35" name="矩形 5"/>
          <p:cNvSpPr/>
          <p:nvPr/>
        </p:nvSpPr>
        <p:spPr>
          <a:xfrm>
            <a:off x="611280" y="820800"/>
            <a:ext cx="806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以下对五四运动与辛亥革命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同之处的讨论，正确的是（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都经过长期的起义准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一些初步接受了马克思主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的知识分子和青年学生在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动中起到了重要作用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都具有反对帝国主义和反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封建主义的性质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中国工人阶级登上了历史舞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7524720" y="155736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16000" y="907560"/>
            <a:ext cx="860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五四运动中心转移到上海后，发展成为全国性群众爱国运动。这充分说明了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上海是最早发生工人罢工的城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五四运动属于资产阶级民主革命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五四运动具有广泛的群众基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五四运动具有反封建的性质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948360" y="19890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40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dissolv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539640" y="26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它源于一场伟大的爱国运动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五四运动，它如同一颗流星划破星空，如同火炬穿透黑暗，揭开了中国革命新的篇章。今天就让一起学习第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课：五四运动，去寻找那个令无数青年热血沸腾的时代，探寻先锋足迹，体悟五四精神的精髓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6961320" y="765000"/>
            <a:ext cx="2185920" cy="20098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2"/>
            <p:cNvSpPr/>
            <p:nvPr/>
          </p:nvSpPr>
          <p:spPr>
            <a:xfrm>
              <a:off x="2050920" y="115920"/>
              <a:ext cx="6408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新   课   导   入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1"/>
          <p:cNvSpPr/>
          <p:nvPr/>
        </p:nvSpPr>
        <p:spPr>
          <a:xfrm>
            <a:off x="539640" y="836640"/>
            <a:ext cx="65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哪位同学知道五月四日是中国什么节日？这个节日是怎么来的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50560" y="900000"/>
            <a:ext cx="8605800" cy="55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五四运动能取得初步胜利，最主要的原因是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青年学生的先锋作用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工人阶级的主力军作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马克思主义理论的指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李大钊和陈独秀的指导作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7283520" y="1484280"/>
            <a:ext cx="17524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45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61552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揭开中国新民主主义革命序幕的历史事件是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(    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鸦片战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五四运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辛亥革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义和团运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7164360" y="2708280"/>
            <a:ext cx="1511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cc0000"/>
                </a:solidFill>
                <a:latin typeface="华文中宋"/>
                <a:ea typeface="华文中宋"/>
              </a:rPr>
              <a:t>B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50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77560" y="1161720"/>
            <a:ext cx="86151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五四运动的性质是（     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反封建反侵略的农民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反帝爱国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彻底的反帝反封建的爱国运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思想解放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661080" y="76500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华文中宋"/>
                <a:ea typeface="华文中宋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55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39640" y="981000"/>
            <a:ext cx="8353440" cy="44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、最能体现五四爱国运动性质的口号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外争国权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内除国贼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废除二十一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拒绝在和约上签字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还我青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6443640" y="2276640"/>
            <a:ext cx="1447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15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60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395280" y="476280"/>
            <a:ext cx="85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012000" y="23004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227640" y="2637000"/>
            <a:ext cx="5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6560" y="871560"/>
            <a:ext cx="835344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张艳同学是在今年的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青年节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那天光荣加入共产主义青年团。你知道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青年节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是为了纪念哪一历史事件吗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新文化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五四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中共成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南昌起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Group 9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67" name="Picture 10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69" name="Text Box 5"/>
          <p:cNvSpPr/>
          <p:nvPr/>
        </p:nvSpPr>
        <p:spPr>
          <a:xfrm>
            <a:off x="6012000" y="2852640"/>
            <a:ext cx="14475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pic114_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WordArt 3"/>
          <p:cNvSpPr txBox="1"/>
          <p:nvPr/>
        </p:nvSpPr>
        <p:spPr>
          <a:xfrm>
            <a:off x="757080" y="685800"/>
            <a:ext cx="77774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祝同学们学习进步！</a:t>
            </a:r>
            <a:endParaRPr b="1" lang="en-US" sz="6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2"/>
          <p:cNvSpPr/>
          <p:nvPr/>
        </p:nvSpPr>
        <p:spPr>
          <a:xfrm>
            <a:off x="0" y="880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第</a:t>
            </a:r>
            <a:r>
              <a:rPr b="1" lang="en-US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13</a:t>
            </a: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课  五四运动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2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WordArt 33"/>
          <p:cNvSpPr txBox="1"/>
          <p:nvPr/>
        </p:nvSpPr>
        <p:spPr>
          <a:xfrm>
            <a:off x="2700360" y="138240"/>
            <a:ext cx="5430960" cy="62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第四单元 新时代的曙光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91" name="Picture 2" descr="《五四运动》浮雕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94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 41"/>
          <p:cNvSpPr/>
          <p:nvPr/>
        </p:nvSpPr>
        <p:spPr>
          <a:xfrm>
            <a:off x="4162680" y="71424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一、五四运动的爆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1308240" y="300996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时间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2067120" y="3860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地点及主力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4"/>
          <p:cNvSpPr/>
          <p:nvPr/>
        </p:nvSpPr>
        <p:spPr>
          <a:xfrm>
            <a:off x="1251000" y="46530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口号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1590840" y="166068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导火线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814120" y="2997360"/>
            <a:ext cx="377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919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年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1"/>
          <p:cNvSpPr/>
          <p:nvPr/>
        </p:nvSpPr>
        <p:spPr>
          <a:xfrm>
            <a:off x="4354560" y="3860640"/>
            <a:ext cx="32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北京（学生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3"/>
          <p:cNvSpPr/>
          <p:nvPr/>
        </p:nvSpPr>
        <p:spPr>
          <a:xfrm>
            <a:off x="2075760" y="2276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Calibri"/>
                <a:ea typeface="黑体"/>
              </a:rPr>
              <a:t>巴黎和会上中国的正义要求遭到拒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4"/>
          <p:cNvSpPr/>
          <p:nvPr/>
        </p:nvSpPr>
        <p:spPr>
          <a:xfrm>
            <a:off x="0" y="537372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外争主权，内除国贼；废除二十一条；拒绝在和约签字；惩办卖国贼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596360" y="981000"/>
            <a:ext cx="123156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700360" y="4653000"/>
            <a:ext cx="9428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1045_0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0" y="5734080"/>
            <a:ext cx="9144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第一次世界大战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1914-1918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981000"/>
            <a:ext cx="201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英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258920" y="2708280"/>
            <a:ext cx="20178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法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084720" y="1413000"/>
            <a:ext cx="1872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俄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rc 8"/>
          <p:cNvSpPr/>
          <p:nvPr/>
        </p:nvSpPr>
        <p:spPr>
          <a:xfrm rot="21473400">
            <a:off x="1908000" y="836280"/>
            <a:ext cx="3997440" cy="863640"/>
          </a:xfrm>
          <a:custGeom>
            <a:avLst/>
            <a:gdLst>
              <a:gd name="textAreaLeft" fmla="*/ 0 w 3997440"/>
              <a:gd name="textAreaRight" fmla="*/ 3997800 w 3997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21034" h="21600">
                <a:moveTo>
                  <a:pt x="-1" y="0"/>
                </a:moveTo>
                <a:cubicBezTo>
                  <a:pt x="10036" y="0"/>
                  <a:pt x="18750" y="6912"/>
                  <a:pt x="21033" y="16686"/>
                </a:cubicBezTo>
              </a:path>
              <a:path stroke="0" w="21034" h="21600">
                <a:moveTo>
                  <a:pt x="-1" y="0"/>
                </a:moveTo>
                <a:cubicBezTo>
                  <a:pt x="10036" y="0"/>
                  <a:pt x="18750" y="6912"/>
                  <a:pt x="21033" y="1668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rc 9"/>
          <p:cNvSpPr/>
          <p:nvPr/>
        </p:nvSpPr>
        <p:spPr>
          <a:xfrm rot="10800000">
            <a:off x="324000" y="1699920"/>
            <a:ext cx="1079280" cy="12970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rc 10"/>
          <p:cNvSpPr/>
          <p:nvPr/>
        </p:nvSpPr>
        <p:spPr>
          <a:xfrm flipV="1">
            <a:off x="2987640" y="2275560"/>
            <a:ext cx="3240000" cy="1223640"/>
          </a:xfrm>
          <a:custGeom>
            <a:avLst/>
            <a:gdLst>
              <a:gd name="textAreaLeft" fmla="*/ 0 w 3240000"/>
              <a:gd name="textAreaRight" fmla="*/ 3240360 w 3240000"/>
              <a:gd name="textAreaTop" fmla="*/ -360 h 1223640"/>
              <a:gd name="textAreaBottom" fmla="*/ 1223640 h 1223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348000" y="2205000"/>
            <a:ext cx="1800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德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059280" y="4292640"/>
            <a:ext cx="23047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意大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724360" y="4149720"/>
            <a:ext cx="3024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奥匈帝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4284720" y="3141720"/>
            <a:ext cx="0" cy="1079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5003640" y="2924280"/>
            <a:ext cx="1729080" cy="129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5292720" y="4653000"/>
            <a:ext cx="431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132000" y="1125360"/>
            <a:ext cx="594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巴黎和会上中国外交的失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0001"/>
          <p:cNvPicPr/>
          <p:nvPr/>
        </p:nvPicPr>
        <p:blipFill>
          <a:blip r:embed="rId1"/>
          <a:srcRect l="0" t="0" r="0" b="45561"/>
          <a:stretch/>
        </p:blipFill>
        <p:spPr>
          <a:xfrm>
            <a:off x="27000" y="191628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2050920" y="1314360"/>
            <a:ext cx="1035360" cy="314280"/>
          </a:xfrm>
          <a:custGeom>
            <a:avLst/>
            <a:gdLst>
              <a:gd name="textAreaLeft" fmla="*/ 129240 w 1035360"/>
              <a:gd name="textAreaRight" fmla="*/ 906120 w 1035360"/>
              <a:gd name="textAreaTop" fmla="*/ 78480 h 314280"/>
              <a:gd name="textAreaBottom" fmla="*/ 235800 h 3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2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矩形 1"/>
          <p:cNvSpPr/>
          <p:nvPr/>
        </p:nvSpPr>
        <p:spPr>
          <a:xfrm>
            <a:off x="509040" y="1052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导火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5"/>
          <p:cNvGrpSpPr/>
          <p:nvPr/>
        </p:nvGrpSpPr>
        <p:grpSpPr>
          <a:xfrm>
            <a:off x="71280" y="836640"/>
            <a:ext cx="4500720" cy="5979240"/>
            <a:chOff x="71280" y="836640"/>
            <a:chExt cx="4500720" cy="5979240"/>
          </a:xfrm>
        </p:grpSpPr>
        <p:pic>
          <p:nvPicPr>
            <p:cNvPr id="130" name="Picture 2" descr="74h7yb00f53h"/>
            <p:cNvPicPr/>
            <p:nvPr/>
          </p:nvPicPr>
          <p:blipFill>
            <a:blip r:embed="rId1"/>
            <a:stretch/>
          </p:blipFill>
          <p:spPr>
            <a:xfrm>
              <a:off x="108000" y="836640"/>
              <a:ext cx="397188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"/>
            <p:cNvSpPr/>
            <p:nvPr/>
          </p:nvSpPr>
          <p:spPr>
            <a:xfrm>
              <a:off x="71280" y="6051600"/>
              <a:ext cx="450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  <a:ea typeface="隶书"/>
                </a:rPr>
                <a:t>中国代表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顾维钧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Text Box 4"/>
          <p:cNvSpPr/>
          <p:nvPr/>
        </p:nvSpPr>
        <p:spPr>
          <a:xfrm>
            <a:off x="4427640" y="950760"/>
            <a:ext cx="4248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中国要求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取消帝国主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在中国的一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特权。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废除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本对中国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二十一条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收回山东主权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34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e655ca71311c2abd14358c5"/>
          <p:cNvPicPr/>
          <p:nvPr/>
        </p:nvPicPr>
        <p:blipFill>
          <a:blip r:embed="rId1"/>
          <a:stretch/>
        </p:blipFill>
        <p:spPr>
          <a:xfrm>
            <a:off x="0" y="3000240"/>
            <a:ext cx="3422520" cy="3857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27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alibri"/>
                <a:ea typeface="华文新魏"/>
              </a:rPr>
              <a:t>二十一条简述（部分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48000" y="836280"/>
            <a:ext cx="558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承认日本继承德国在山东的一切权益，山东省不得让与或租借他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承认日本人有在南满和内蒙古东部居住、往来、经营工商业及开矿等项特权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旅顺、大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租借期限并南满、安奉两铁路管理期限，均延展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为限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汉冶萍公司改为中日合办，附近矿山不准公司以外的人开采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有中国沿海港湾、岛屿概不租借或让给他国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政府聘用日本人为政治、军事、财政等顾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708360" y="1844640"/>
            <a:ext cx="4606920" cy="324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libri"/>
                <a:ea typeface="华文新魏"/>
              </a:rPr>
              <a:t>卖国条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39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4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2"/>
            <p:cNvSpPr/>
            <p:nvPr/>
          </p:nvSpPr>
          <p:spPr>
            <a:xfrm>
              <a:off x="1908000" y="11592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3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 五四运动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7T10:47:39Z</dcterms:created>
  <dc:creator>免费更新微信：popo6111；淘宝店铺：泡泡教育</dc:creator>
  <dc:description>微店：http://weidian.com/s/259607770?wfr=c&amp;ifr=shopdetail</dc:description>
  <cp:keywords>微店：http://weidian.com/s/259607770?wfr=c&amp;ifr=shopdetail</cp:keywords>
  <dc:language>en-US</dc:language>
  <cp:lastModifiedBy>微软中国</cp:lastModifiedBy>
  <dcterms:modified xsi:type="dcterms:W3CDTF">2018-05-02T06:03:09Z</dcterms:modified>
  <cp:revision>30</cp:revision>
  <dc:subject>免费更新微信：popo6111；淘宝店铺：泡泡教育</dc:subject>
  <dc:title>免费更新微信：popo6111；淘宝店铺：泡泡教育</dc:title>
</cp:coreProperties>
</file>