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2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34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F490-C490-40E1-B7EA-56BE4265D9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5D52-CA83-4FE8-8FDB-13998F912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0AFE-8CC4-47A7-A5A7-B85798E2D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E1C3-C746-4E2D-806B-6E673FC12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C856-7AC1-4C5B-8EAD-7C440EDF6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764-4187-409A-9435-CBFFF399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128-8B13-4509-B24F-4A3379AE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37C-572A-4CB4-A913-F52F6DB1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187-A1F9-4D2C-A605-29DF04C4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513-2CA5-4056-8CB2-D9BAE2F7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544-788F-4DAB-96E8-7F6C4349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6DA-B3C3-4DEB-9F6A-B35F1EE9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1F3-1C00-4D4E-89C6-73C50BEB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70A-7C22-4928-B6EE-4BC135BD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D8E-7CC4-48FF-BC54-A3649BF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FB6-7A8B-48A1-86DC-7897538A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525-5D97-4AB6-8593-D6C91B08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1D91-09BE-42C4-AE26-2F88792622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" Target="slide27.xml"/><Relationship Id="rId18" Type="http://schemas.openxmlformats.org/officeDocument/2006/relationships/image" Target="../media/image28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3.xml"/><Relationship Id="rId3" Type="http://schemas.openxmlformats.org/officeDocument/2006/relationships/image" Target="../media/image1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4.gif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image" Target="../media/image1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0.xml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68360" y="16686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性质：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一次彻底地反对帝国主义和封建主义的爱国运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1"/>
          <p:cNvSpPr/>
          <p:nvPr/>
        </p:nvSpPr>
        <p:spPr>
          <a:xfrm>
            <a:off x="1824480" y="7779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五四运动的历史意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"/>
          <p:cNvSpPr/>
          <p:nvPr/>
        </p:nvSpPr>
        <p:spPr>
          <a:xfrm>
            <a:off x="611280" y="5300640"/>
            <a:ext cx="795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划时代的意义：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五四运动是中国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新民主主义革命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的开端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9640" y="2997360"/>
            <a:ext cx="7747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中国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无产阶级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开始登上政治舞台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发挥了主力军作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9640" y="41497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一些初步接受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马克思主义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的知识分子和青年学生，在运动中起了重要的作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54" name="Picture 2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24"/>
            <p:cNvSpPr txBox="1"/>
            <p:nvPr/>
          </p:nvSpPr>
          <p:spPr>
            <a:xfrm>
              <a:off x="3132000" y="73080"/>
              <a:ext cx="3745080" cy="69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温故知新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4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4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989000"/>
          <a:ext cx="8713800" cy="4638960"/>
        </p:xfrm>
        <a:graphic>
          <a:graphicData uri="http://schemas.openxmlformats.org/drawingml/2006/table">
            <a:tbl>
              <a:tblPr/>
              <a:tblGrid>
                <a:gridCol w="1258920"/>
                <a:gridCol w="7454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地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代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主要内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00000"/>
                          </a:solidFill>
                          <a:latin typeface="黑体"/>
                          <a:ea typeface="黑体"/>
                        </a:rPr>
                        <a:t>革命纲领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00000"/>
                          </a:solidFill>
                          <a:latin typeface="黑体"/>
                          <a:ea typeface="黑体"/>
                        </a:rPr>
                        <a:t>中心任务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00000"/>
                          </a:solidFill>
                          <a:latin typeface="黑体"/>
                          <a:ea typeface="黑体"/>
                        </a:rPr>
                        <a:t>中央领导机构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标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26"/>
          <p:cNvSpPr/>
          <p:nvPr/>
        </p:nvSpPr>
        <p:spPr>
          <a:xfrm>
            <a:off x="1731960" y="1916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92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1693800" y="2492280"/>
            <a:ext cx="15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上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28"/>
          <p:cNvSpPr/>
          <p:nvPr/>
        </p:nvSpPr>
        <p:spPr>
          <a:xfrm>
            <a:off x="3132000" y="287028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4713120" y="2492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嘉兴南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1517760" y="3141720"/>
            <a:ext cx="724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毛泽东、董必武、李达等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3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3564000" y="48704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领导和组织工人运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211640" y="5445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陈独秀任中央局书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1730520" y="5950080"/>
            <a:ext cx="57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国共产党诞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692360" y="3860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奋斗目标是推翻资产阶级政权，建立无产阶级专政，实现共产主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6629400" y="782640"/>
            <a:ext cx="211284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476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156" name="Picture 2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Rectangle 28"/>
          <p:cNvSpPr/>
          <p:nvPr/>
        </p:nvSpPr>
        <p:spPr>
          <a:xfrm>
            <a:off x="1547640" y="777960"/>
            <a:ext cx="70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隶书"/>
              </a:rPr>
              <a:t>二、中国共产党的成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8" descr="qi"/>
          <p:cNvPicPr/>
          <p:nvPr/>
        </p:nvPicPr>
        <p:blipFill>
          <a:blip r:embed="rId3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1908000" y="134136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华文彩云"/>
                <a:ea typeface="华文彩云"/>
              </a:rPr>
              <a:t>2</a:t>
            </a:r>
            <a:r>
              <a:rPr b="1" lang="zh-CN" sz="3600" spc="-1" strike="noStrike">
                <a:solidFill>
                  <a:srgbClr val="c00000"/>
                </a:solidFill>
                <a:latin typeface="华文彩云"/>
                <a:ea typeface="华文彩云"/>
              </a:rPr>
              <a:t>、中共一大的召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451640" y="981000"/>
            <a:ext cx="123192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2"/>
          <p:cNvSpPr/>
          <p:nvPr/>
        </p:nvSpPr>
        <p:spPr>
          <a:xfrm>
            <a:off x="755640" y="2830680"/>
            <a:ext cx="80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中国共产党的诞生，是中国历史上开天辟地的大事。自从有了中国共产党，中国的革命就焕然一新了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4871520" y="77796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二、中国共产党的成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979640" y="17240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3</a:t>
            </a:r>
            <a:r>
              <a:rPr b="1" lang="zh-CN" sz="44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意义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167" name="Picture 2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9" name="Picture 8" descr="qi"/>
          <p:cNvPicPr/>
          <p:nvPr/>
        </p:nvPicPr>
        <p:blipFill>
          <a:blip r:embed="rId3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5"/>
          <p:cNvPicPr/>
          <p:nvPr/>
        </p:nvPicPr>
        <p:blipFill>
          <a:blip r:embed="rId1"/>
          <a:stretch/>
        </p:blipFill>
        <p:spPr>
          <a:xfrm>
            <a:off x="380880" y="1574640"/>
            <a:ext cx="3962520" cy="4648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jy3"/>
          <p:cNvPicPr/>
          <p:nvPr/>
        </p:nvPicPr>
        <p:blipFill>
          <a:blip r:embed="rId2"/>
          <a:stretch/>
        </p:blipFill>
        <p:spPr>
          <a:xfrm>
            <a:off x="5006880" y="2093760"/>
            <a:ext cx="3886200" cy="46483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324000" y="5551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中共一大会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望志路１０６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788000" y="15573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ahoma"/>
                <a:ea typeface="黑体"/>
              </a:rPr>
              <a:t>大会最后一天转移到浙江嘉兴南湖上的一只游船上举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692360" y="836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共产党一大召开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921.7.23--3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25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176" name="Picture 2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22"/>
            <p:cNvSpPr/>
            <p:nvPr/>
          </p:nvSpPr>
          <p:spPr>
            <a:xfrm>
              <a:off x="1835280" y="115920"/>
              <a:ext cx="6372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相   关   史   事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8" name="Picture 8" descr="qi"/>
          <p:cNvPicPr/>
          <p:nvPr/>
        </p:nvPicPr>
        <p:blipFill>
          <a:blip r:embed="rId4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0" name="Picture 3" descr="index_13"/>
            <p:cNvPicPr/>
            <p:nvPr/>
          </p:nvPicPr>
          <p:blipFill>
            <a:blip r:embed="rId1"/>
            <a:srcRect l="0" t="0" r="0" b="32552"/>
            <a:stretch/>
          </p:blipFill>
          <p:spPr>
            <a:xfrm>
              <a:off x="4181400" y="0"/>
              <a:ext cx="49626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" descr="index_13"/>
            <p:cNvPicPr/>
            <p:nvPr/>
          </p:nvPicPr>
          <p:blipFill>
            <a:blip r:embed="rId2"/>
            <a:srcRect l="0" t="58826" r="0" b="0"/>
            <a:stretch/>
          </p:blipFill>
          <p:spPr>
            <a:xfrm>
              <a:off x="0" y="0"/>
              <a:ext cx="419112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5" descr="m1"/>
          <p:cNvPicPr/>
          <p:nvPr/>
        </p:nvPicPr>
        <p:blipFill>
          <a:blip r:embed="rId3"/>
          <a:stretch/>
        </p:blipFill>
        <p:spPr>
          <a:xfrm>
            <a:off x="0" y="762120"/>
            <a:ext cx="1460520" cy="1752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m2"/>
          <p:cNvPicPr/>
          <p:nvPr/>
        </p:nvPicPr>
        <p:blipFill>
          <a:blip r:embed="rId4"/>
          <a:stretch/>
        </p:blipFill>
        <p:spPr>
          <a:xfrm>
            <a:off x="1676520" y="838080"/>
            <a:ext cx="1396800" cy="167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m3"/>
          <p:cNvPicPr/>
          <p:nvPr/>
        </p:nvPicPr>
        <p:blipFill>
          <a:blip r:embed="rId5"/>
          <a:stretch/>
        </p:blipFill>
        <p:spPr>
          <a:xfrm>
            <a:off x="3200400" y="838080"/>
            <a:ext cx="1395360" cy="1676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m4"/>
          <p:cNvPicPr/>
          <p:nvPr/>
        </p:nvPicPr>
        <p:blipFill>
          <a:blip r:embed="rId6"/>
          <a:stretch/>
        </p:blipFill>
        <p:spPr>
          <a:xfrm>
            <a:off x="4724280" y="838080"/>
            <a:ext cx="1395360" cy="1676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m5"/>
          <p:cNvPicPr/>
          <p:nvPr/>
        </p:nvPicPr>
        <p:blipFill>
          <a:blip r:embed="rId7"/>
          <a:stretch/>
        </p:blipFill>
        <p:spPr>
          <a:xfrm>
            <a:off x="6248520" y="838080"/>
            <a:ext cx="1396800" cy="1676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m6"/>
          <p:cNvPicPr/>
          <p:nvPr/>
        </p:nvPicPr>
        <p:blipFill>
          <a:blip r:embed="rId8"/>
          <a:stretch/>
        </p:blipFill>
        <p:spPr>
          <a:xfrm>
            <a:off x="7746840" y="838080"/>
            <a:ext cx="139716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m7"/>
          <p:cNvPicPr/>
          <p:nvPr/>
        </p:nvPicPr>
        <p:blipFill>
          <a:blip r:embed="rId9"/>
          <a:stretch/>
        </p:blipFill>
        <p:spPr>
          <a:xfrm>
            <a:off x="0" y="4114800"/>
            <a:ext cx="1400040" cy="1959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m8"/>
          <p:cNvPicPr/>
          <p:nvPr/>
        </p:nvPicPr>
        <p:blipFill>
          <a:blip r:embed="rId10"/>
          <a:stretch/>
        </p:blipFill>
        <p:spPr>
          <a:xfrm>
            <a:off x="1278000" y="4114800"/>
            <a:ext cx="1400040" cy="1959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m9"/>
          <p:cNvPicPr/>
          <p:nvPr/>
        </p:nvPicPr>
        <p:blipFill>
          <a:blip r:embed="rId11"/>
          <a:stretch/>
        </p:blipFill>
        <p:spPr>
          <a:xfrm>
            <a:off x="2590920" y="4114800"/>
            <a:ext cx="1417680" cy="1981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m10"/>
          <p:cNvPicPr/>
          <p:nvPr/>
        </p:nvPicPr>
        <p:blipFill>
          <a:blip r:embed="rId12"/>
          <a:stretch/>
        </p:blipFill>
        <p:spPr>
          <a:xfrm>
            <a:off x="3917880" y="4114800"/>
            <a:ext cx="1416240" cy="198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m11"/>
          <p:cNvPicPr/>
          <p:nvPr/>
        </p:nvPicPr>
        <p:blipFill>
          <a:blip r:embed="rId13"/>
          <a:stretch/>
        </p:blipFill>
        <p:spPr>
          <a:xfrm>
            <a:off x="5191200" y="4114800"/>
            <a:ext cx="136188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m12"/>
          <p:cNvPicPr/>
          <p:nvPr/>
        </p:nvPicPr>
        <p:blipFill>
          <a:blip r:embed="rId14"/>
          <a:stretch/>
        </p:blipFill>
        <p:spPr>
          <a:xfrm>
            <a:off x="6531120" y="4114800"/>
            <a:ext cx="1361880" cy="1905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m13"/>
          <p:cNvPicPr/>
          <p:nvPr/>
        </p:nvPicPr>
        <p:blipFill>
          <a:blip r:embed="rId15"/>
          <a:stretch/>
        </p:blipFill>
        <p:spPr>
          <a:xfrm>
            <a:off x="7848720" y="4114800"/>
            <a:ext cx="1360440" cy="1905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8"/>
          <p:cNvSpPr/>
          <p:nvPr/>
        </p:nvSpPr>
        <p:spPr>
          <a:xfrm>
            <a:off x="3636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李达    李汉俊   张国焘  刘仁静   毛泽东  何叔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0" y="6165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董必武 陈潭秋 王尽美  邓恩铭 陈公博 周佛海 包惠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0" descr="dang1"/>
          <p:cNvPicPr/>
          <p:nvPr/>
        </p:nvPicPr>
        <p:blipFill>
          <a:blip r:embed="rId16"/>
          <a:stretch/>
        </p:blipFill>
        <p:spPr>
          <a:xfrm>
            <a:off x="1600200" y="2819520"/>
            <a:ext cx="1600200" cy="960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dang1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781680" y="2819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22"/>
          <p:cNvSpPr/>
          <p:nvPr/>
        </p:nvSpPr>
        <p:spPr>
          <a:xfrm>
            <a:off x="2819520" y="2895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中共一大代表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250920" y="2895120"/>
            <a:ext cx="8642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出席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一大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的有各地共产党组织选派的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12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名代表，他们是：上海的李汉俊、李达；北京的张国焘、刘仁静；长沙的毛泽东、何叔衡；汉口的董必武、陈潭秋；济南的王尽美、邓恩铭；广州的陈公博；日本的周佛海。另外陈独秀委派包惠僧代表他也参加了大会。出席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一大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的代表实际上是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13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人。他们代表着全国５０多名党员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322200" y="2323800"/>
            <a:ext cx="864252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毛泽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中国最杰出的共产主义战士。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976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月逝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董必武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历任党和国家重要领导职务。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975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月逝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何叔衡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935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日壮烈牺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邓恩铭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931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日壮烈牺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陈潭秋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943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7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日，被盛世才杀害于乌鲁木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王尽美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病逝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925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7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岁因肺病逝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2712960" y="806400"/>
            <a:ext cx="49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一大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”</a:t>
            </a: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13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位代表的迥异人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204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6" name="Picture 8" descr="qi"/>
          <p:cNvPicPr/>
          <p:nvPr/>
        </p:nvPicPr>
        <p:blipFill>
          <a:blip r:embed="rId2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89080" y="297360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李汉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党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被军阀胡宗铎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共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罪枪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李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党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经毛泽东、刘少奇介绍，重新加入了中国共产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包惠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退党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在国民党政府任职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看透黑暗。写历史回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包惠僧回忆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7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去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刘仁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托派第一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物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5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人民出版社任编辑。直到退休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8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凌晨车祸身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395280" y="806400"/>
            <a:ext cx="86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中共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一大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”</a:t>
            </a: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13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位代表的迥异人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210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Picture 8" descr="qi"/>
          <p:cNvPicPr/>
          <p:nvPr/>
        </p:nvPicPr>
        <p:blipFill>
          <a:blip r:embed="rId2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24000" y="2865600"/>
            <a:ext cx="85690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黑体"/>
                <a:ea typeface="黑体"/>
              </a:rPr>
              <a:t>11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、张国焘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叛党。长征途中非法成立的第二中央。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93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初只身投靠国民党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、陈公博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大汉奸。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94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，判处死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黑体"/>
                <a:ea typeface="黑体"/>
              </a:rPr>
              <a:t>13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、周佛海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大汉奸。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94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死于南京老虎桥监狱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80640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中共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一大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”</a:t>
            </a:r>
            <a:r>
              <a:rPr b="1" lang="en-US" sz="4400" spc="-1" strike="noStrike">
                <a:solidFill>
                  <a:srgbClr val="800000"/>
                </a:solidFill>
                <a:latin typeface="隶书"/>
                <a:ea typeface="隶书"/>
              </a:rPr>
              <a:t>13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位代表的迥异人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216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8" name="Picture 8" descr="qi"/>
          <p:cNvPicPr/>
          <p:nvPr/>
        </p:nvPicPr>
        <p:blipFill>
          <a:blip r:embed="rId2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22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22"/>
            <p:cNvSpPr/>
            <p:nvPr/>
          </p:nvSpPr>
          <p:spPr>
            <a:xfrm>
              <a:off x="2122560" y="79200"/>
              <a:ext cx="61214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动    脑    筋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Text Box 3"/>
          <p:cNvSpPr/>
          <p:nvPr/>
        </p:nvSpPr>
        <p:spPr>
          <a:xfrm>
            <a:off x="465120" y="907920"/>
            <a:ext cx="821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隶书"/>
              </a:rPr>
              <a:t>       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隶书"/>
              </a:rPr>
              <a:t>陈独秀没有参加中国共产党第一次全国代表大会，为什么被选为中央局书记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39640" y="3284640"/>
            <a:ext cx="80773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因为他在新文化运动和五四爱国运动中的巨大影响，并且他是建立共产党早期组织的发起者之一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qi"/>
          <p:cNvPicPr/>
          <p:nvPr/>
        </p:nvPicPr>
        <p:blipFill>
          <a:blip r:embed="rId2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22"/>
            <p:cNvSpPr/>
            <p:nvPr/>
          </p:nvSpPr>
          <p:spPr>
            <a:xfrm>
              <a:off x="1835280" y="115920"/>
              <a:ext cx="61214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 </a:t>
              </a: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材   料   研   读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Text Box 3"/>
          <p:cNvSpPr/>
          <p:nvPr/>
        </p:nvSpPr>
        <p:spPr>
          <a:xfrm>
            <a:off x="179280" y="836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以往搞革命的人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眼睛总是看着上层的军官、政客、议员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以为这些人掌握着权力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千方百计运动这些人来赞助革命。如今在五四群众运动的对比下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上层的社会力量显得何等的微不足道。在人民群众中所蕴藏的力量一旦得到解放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那才真正是惊天动地、无坚不摧的。     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——《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吴玉章回忆录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61880" y="5013360"/>
            <a:ext cx="80773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上面的材料说明了什么问题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"/>
          <p:cNvSpPr/>
          <p:nvPr/>
        </p:nvSpPr>
        <p:spPr>
          <a:xfrm>
            <a:off x="324000" y="893880"/>
            <a:ext cx="84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五四运动后期，知识分子看到了工人阶级所展示出来的强大力量，他们开始有意识的接触、宣传马克思主义。五四运动这种救国爱国靠自己、振兴中华靠大家的人民民主思想和精神，成为“五四”以来的光荣传统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要爱国，不再是皇帝的家天下，不再是皇帝的国家，而是人民的天下，人民的国家。救国爱国，不能靠上帝，不能靠皇帝，不能靠列强，不能靠圣人，不能靠公理，只能靠自己，只能靠人民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2446560" y="155736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92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303640" y="3068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最终奋斗目标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建设共产主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492120" y="378936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最低纲领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（民主革命纲领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     </a:t>
            </a:r>
            <a:r>
              <a:rPr b="1" lang="en-US" sz="3600" spc="-1" strike="noStrike">
                <a:solidFill>
                  <a:srgbClr val="000066"/>
                </a:solidFill>
                <a:latin typeface="华文中宋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打倒军阀，推翻帝国主义，将中国统一为真正的民主共和国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484360" y="551664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第一次提出彻底的反帝反封建的民主革命纲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032120" y="1628640"/>
            <a:ext cx="7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  <a:ea typeface="华文彩云"/>
              </a:rPr>
              <a:t>1</a:t>
            </a:r>
            <a:r>
              <a:rPr b="1" lang="zh-CN" sz="4000" spc="-1" strike="noStrike">
                <a:solidFill>
                  <a:srgbClr val="800000"/>
                </a:solidFill>
                <a:latin typeface="Calibri"/>
                <a:ea typeface="华文彩云"/>
              </a:rPr>
              <a:t>、时间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1041840" y="2349360"/>
            <a:ext cx="7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  <a:ea typeface="华文彩云"/>
              </a:rPr>
              <a:t>2</a:t>
            </a:r>
            <a:r>
              <a:rPr b="1" lang="zh-CN" sz="4000" spc="-1" strike="noStrike">
                <a:solidFill>
                  <a:srgbClr val="800000"/>
                </a:solidFill>
                <a:latin typeface="Calibri"/>
                <a:ea typeface="华文彩云"/>
              </a:rPr>
              <a:t>、地点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981360" y="3068640"/>
            <a:ext cx="7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  <a:ea typeface="华文彩云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Calibri"/>
                <a:ea typeface="华文彩云"/>
              </a:rPr>
              <a:t>、内容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1054440" y="5661000"/>
            <a:ext cx="7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  <a:ea typeface="华文彩云"/>
              </a:rPr>
              <a:t>4</a:t>
            </a:r>
            <a:r>
              <a:rPr b="1" lang="zh-CN" sz="4000" spc="-1" strike="noStrike">
                <a:solidFill>
                  <a:srgbClr val="800000"/>
                </a:solidFill>
                <a:latin typeface="Calibri"/>
                <a:ea typeface="华文彩云"/>
              </a:rPr>
              <a:t>、意义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13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7"/>
          <p:cNvSpPr/>
          <p:nvPr/>
        </p:nvSpPr>
        <p:spPr>
          <a:xfrm>
            <a:off x="3831480" y="826920"/>
            <a:ext cx="23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隶书"/>
              </a:rPr>
              <a:t>三、中国共产党“二大”的召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8">
            <a:hlinkClick r:id="rId2" action="ppaction://hlinksldjump"/>
          </p:cNvPr>
          <p:cNvSpPr/>
          <p:nvPr/>
        </p:nvSpPr>
        <p:spPr>
          <a:xfrm>
            <a:off x="2639880" y="2295360"/>
            <a:ext cx="40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上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243" name="Picture 2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8" descr="qi"/>
          <p:cNvPicPr/>
          <p:nvPr/>
        </p:nvPicPr>
        <p:blipFill>
          <a:blip r:embed="rId4"/>
          <a:stretch/>
        </p:blipFill>
        <p:spPr>
          <a:xfrm>
            <a:off x="34920" y="44280"/>
            <a:ext cx="136512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340000" y="2060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近代化的探索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116000" y="3860640"/>
            <a:ext cx="1584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洋务运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843280" y="3860640"/>
            <a:ext cx="1584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戊戌变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46600" y="3860640"/>
            <a:ext cx="1697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辛亥革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175440" y="3860640"/>
            <a:ext cx="2284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新文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运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08000" y="1052640"/>
            <a:ext cx="8893080" cy="916920"/>
          </a:xfrm>
          <a:prstGeom prst="rect">
            <a:avLst/>
          </a:prstGeom>
          <a:solidFill>
            <a:srgbClr val="d9fff5"/>
          </a:solidFill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黑体"/>
                <a:ea typeface="黑体"/>
              </a:rPr>
              <a:t>19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世纪</a:t>
            </a:r>
            <a:r>
              <a:rPr b="1" lang="en-US" sz="5400" spc="-1" strike="noStrike">
                <a:solidFill>
                  <a:srgbClr val="ff0066"/>
                </a:solidFill>
                <a:latin typeface="黑体"/>
                <a:ea typeface="黑体"/>
              </a:rPr>
              <a:t>60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年代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en-US" sz="5400" spc="-1" strike="noStrike">
                <a:solidFill>
                  <a:srgbClr val="ff0066"/>
                </a:solidFill>
                <a:latin typeface="黑体"/>
                <a:ea typeface="黑体"/>
              </a:rPr>
              <a:t>20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世纪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900000" y="5587920"/>
            <a:ext cx="1656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技术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3708360" y="558792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制度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6516720" y="5587920"/>
            <a:ext cx="1798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思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2843280" y="58039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5724360" y="58039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13"/>
          <p:cNvGrpSpPr/>
          <p:nvPr/>
        </p:nvGrpSpPr>
        <p:grpSpPr>
          <a:xfrm>
            <a:off x="3780000" y="4938840"/>
            <a:ext cx="1583640" cy="649080"/>
            <a:chOff x="3780000" y="4938840"/>
            <a:chExt cx="1583640" cy="649080"/>
          </a:xfrm>
        </p:grpSpPr>
        <p:sp>
          <p:nvSpPr>
            <p:cNvPr id="68" name="Line 14"/>
            <p:cNvSpPr/>
            <p:nvPr/>
          </p:nvSpPr>
          <p:spPr>
            <a:xfrm>
              <a:off x="3780000" y="4938840"/>
              <a:ext cx="720360" cy="649080"/>
            </a:xfrm>
            <a:prstGeom prst="line">
              <a:avLst/>
            </a:prstGeom>
            <a:ln w="63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15"/>
            <p:cNvSpPr/>
            <p:nvPr/>
          </p:nvSpPr>
          <p:spPr>
            <a:xfrm flipH="1">
              <a:off x="4787640" y="4938840"/>
              <a:ext cx="576000" cy="647640"/>
            </a:xfrm>
            <a:prstGeom prst="line">
              <a:avLst/>
            </a:prstGeom>
            <a:ln w="63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Line 16"/>
          <p:cNvSpPr/>
          <p:nvPr/>
        </p:nvSpPr>
        <p:spPr>
          <a:xfrm>
            <a:off x="1835280" y="5011560"/>
            <a:ext cx="0" cy="5763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7308720" y="4938840"/>
            <a:ext cx="0" cy="57600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oup 18"/>
          <p:cNvGrpSpPr/>
          <p:nvPr/>
        </p:nvGrpSpPr>
        <p:grpSpPr>
          <a:xfrm>
            <a:off x="1908000" y="2922480"/>
            <a:ext cx="5400720" cy="865440"/>
            <a:chOff x="1908000" y="2922480"/>
            <a:chExt cx="5400720" cy="865440"/>
          </a:xfrm>
        </p:grpSpPr>
        <p:sp>
          <p:nvSpPr>
            <p:cNvPr id="73" name="AutoShape 19"/>
            <p:cNvSpPr/>
            <p:nvPr/>
          </p:nvSpPr>
          <p:spPr>
            <a:xfrm rot="5400000">
              <a:off x="4176360" y="653760"/>
              <a:ext cx="863640" cy="5400720"/>
            </a:xfrm>
            <a:custGeom>
              <a:avLst/>
              <a:gdLst>
                <a:gd name="textAreaLeft" fmla="*/ 551880 w 863640"/>
                <a:gd name="textAreaRight" fmla="*/ 864000 w 863640"/>
                <a:gd name="textAreaTop" fmla="*/ 0 h 5400720"/>
                <a:gd name="textAreaBottom" fmla="*/ 5401080 h 54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0"/>
            <p:cNvSpPr/>
            <p:nvPr/>
          </p:nvSpPr>
          <p:spPr>
            <a:xfrm>
              <a:off x="3708360" y="3354480"/>
              <a:ext cx="0" cy="4334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21"/>
            <p:cNvSpPr/>
            <p:nvPr/>
          </p:nvSpPr>
          <p:spPr>
            <a:xfrm>
              <a:off x="5580000" y="3354480"/>
              <a:ext cx="0" cy="4334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77" name="Picture 2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WordArt 24"/>
            <p:cNvSpPr txBox="1"/>
            <p:nvPr/>
          </p:nvSpPr>
          <p:spPr>
            <a:xfrm>
              <a:off x="3132000" y="73080"/>
              <a:ext cx="3745080" cy="69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温故知新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593640" y="3860640"/>
            <a:ext cx="801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、从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192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年初到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1923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月全国掀起了第一次工人运动高潮，共举行大小罢工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多次，参加人数达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万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以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623880" y="1646280"/>
            <a:ext cx="776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、中国共产党成立后，设立中国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____________________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，集中领导全国的工人运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13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7"/>
          <p:cNvSpPr/>
          <p:nvPr/>
        </p:nvSpPr>
        <p:spPr>
          <a:xfrm>
            <a:off x="4047480" y="8269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隶书"/>
              </a:rPr>
              <a:t>四、全国工人运动的高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251" name="Picture 2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8" descr="qi"/>
          <p:cNvPicPr/>
          <p:nvPr/>
        </p:nvPicPr>
        <p:blipFill>
          <a:blip r:embed="rId3"/>
          <a:stretch/>
        </p:blipFill>
        <p:spPr>
          <a:xfrm>
            <a:off x="34920" y="44280"/>
            <a:ext cx="1365120" cy="1189080"/>
          </a:xfrm>
          <a:prstGeom prst="rect">
            <a:avLst/>
          </a:prstGeom>
          <a:ln w="0">
            <a:noFill/>
          </a:ln>
        </p:spPr>
      </p:pic>
      <p:sp>
        <p:nvSpPr>
          <p:cNvPr id="254" name="矩形 1"/>
          <p:cNvSpPr/>
          <p:nvPr/>
        </p:nvSpPr>
        <p:spPr>
          <a:xfrm>
            <a:off x="1324080" y="2289240"/>
            <a:ext cx="519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国劳动组合书记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1"/>
          <p:cNvSpPr/>
          <p:nvPr/>
        </p:nvSpPr>
        <p:spPr>
          <a:xfrm>
            <a:off x="4886640" y="5516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将第一次工人运动推向高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13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7"/>
          <p:cNvSpPr/>
          <p:nvPr/>
        </p:nvSpPr>
        <p:spPr>
          <a:xfrm>
            <a:off x="4047480" y="8269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隶书"/>
              </a:rPr>
              <a:t>四、全国工人运动的高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259" name="Picture 2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Picture 8" descr="qi"/>
          <p:cNvPicPr/>
          <p:nvPr/>
        </p:nvPicPr>
        <p:blipFill>
          <a:blip r:embed="rId3"/>
          <a:stretch/>
        </p:blipFill>
        <p:spPr>
          <a:xfrm>
            <a:off x="34920" y="44280"/>
            <a:ext cx="1365120" cy="1189080"/>
          </a:xfrm>
          <a:prstGeom prst="rect">
            <a:avLst/>
          </a:prstGeom>
          <a:ln w="0">
            <a:noFill/>
          </a:ln>
        </p:spPr>
      </p:pic>
      <p:sp>
        <p:nvSpPr>
          <p:cNvPr id="262" name="矩形 1"/>
          <p:cNvSpPr/>
          <p:nvPr/>
        </p:nvSpPr>
        <p:spPr>
          <a:xfrm>
            <a:off x="1547640" y="1628640"/>
            <a:ext cx="677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京汉铁路工人大罢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2"/>
          <p:cNvSpPr/>
          <p:nvPr/>
        </p:nvSpPr>
        <p:spPr>
          <a:xfrm>
            <a:off x="813240" y="2600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彩云"/>
                <a:ea typeface="华文彩云"/>
              </a:rPr>
              <a:t>时间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2185200" y="2598840"/>
            <a:ext cx="267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2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4"/>
          <p:cNvSpPr/>
          <p:nvPr/>
        </p:nvSpPr>
        <p:spPr>
          <a:xfrm>
            <a:off x="813240" y="3451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彩云"/>
                <a:ea typeface="华文彩云"/>
              </a:rPr>
              <a:t>口号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2252520" y="3513240"/>
            <a:ext cx="662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自由而战，为人权而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813240" y="4459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彩云"/>
                <a:ea typeface="华文彩云"/>
              </a:rPr>
              <a:t>结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13"/>
          <p:cNvSpPr/>
          <p:nvPr/>
        </p:nvSpPr>
        <p:spPr>
          <a:xfrm>
            <a:off x="1908000" y="452124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被帝国主义和军阀吴佩孚镇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4"/>
          <p:cNvSpPr/>
          <p:nvPr/>
        </p:nvSpPr>
        <p:spPr>
          <a:xfrm>
            <a:off x="807480" y="5467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彩云"/>
                <a:ea typeface="华文彩云"/>
              </a:rPr>
              <a:t>意义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3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7"/>
          <p:cNvSpPr/>
          <p:nvPr/>
        </p:nvSpPr>
        <p:spPr>
          <a:xfrm>
            <a:off x="4524480" y="8269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隶书"/>
              </a:rPr>
              <a:t>四、全国工人运动的高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273" name="Picture 2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5" name="Picture 8" descr="qi"/>
          <p:cNvPicPr/>
          <p:nvPr/>
        </p:nvPicPr>
        <p:blipFill>
          <a:blip r:embed="rId3"/>
          <a:stretch/>
        </p:blipFill>
        <p:spPr>
          <a:xfrm>
            <a:off x="34920" y="44280"/>
            <a:ext cx="1365120" cy="1189080"/>
          </a:xfrm>
          <a:prstGeom prst="rect">
            <a:avLst/>
          </a:prstGeom>
          <a:ln w="0">
            <a:noFill/>
          </a:ln>
        </p:spPr>
      </p:pic>
      <p:sp>
        <p:nvSpPr>
          <p:cNvPr id="276" name="矩形 17"/>
          <p:cNvSpPr/>
          <p:nvPr/>
        </p:nvSpPr>
        <p:spPr>
          <a:xfrm>
            <a:off x="395280" y="166212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、第一次工人运动失败教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5"/>
          <p:cNvSpPr/>
          <p:nvPr/>
        </p:nvSpPr>
        <p:spPr>
          <a:xfrm>
            <a:off x="611280" y="27496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单枪匹马不能取得革命的胜利。必须团结一切可能的同盟者，才能战胜强大的敌人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5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79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22"/>
            <p:cNvSpPr/>
            <p:nvPr/>
          </p:nvSpPr>
          <p:spPr>
            <a:xfrm>
              <a:off x="2139840" y="115920"/>
              <a:ext cx="5961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相   关   史   事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组合 1"/>
          <p:cNvGrpSpPr/>
          <p:nvPr/>
        </p:nvGrpSpPr>
        <p:grpSpPr>
          <a:xfrm>
            <a:off x="250920" y="836640"/>
            <a:ext cx="8678880" cy="5832360"/>
            <a:chOff x="250920" y="836640"/>
            <a:chExt cx="8678880" cy="5832360"/>
          </a:xfrm>
        </p:grpSpPr>
        <p:pic>
          <p:nvPicPr>
            <p:cNvPr id="282" name="Picture 7" descr="t0136a5530b34a191c2"/>
            <p:cNvPicPr/>
            <p:nvPr/>
          </p:nvPicPr>
          <p:blipFill>
            <a:blip r:embed="rId2"/>
            <a:stretch/>
          </p:blipFill>
          <p:spPr>
            <a:xfrm>
              <a:off x="250920" y="836640"/>
              <a:ext cx="8678880" cy="583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组合 2"/>
          <p:cNvGrpSpPr/>
          <p:nvPr/>
        </p:nvGrpSpPr>
        <p:grpSpPr>
          <a:xfrm>
            <a:off x="684360" y="863640"/>
            <a:ext cx="7632720" cy="5986440"/>
            <a:chOff x="684360" y="863640"/>
            <a:chExt cx="7632720" cy="5986440"/>
          </a:xfrm>
        </p:grpSpPr>
        <p:pic>
          <p:nvPicPr>
            <p:cNvPr id="284" name="Picture 5" descr="t01b47e3574ae26bde3"/>
            <p:cNvPicPr/>
            <p:nvPr/>
          </p:nvPicPr>
          <p:blipFill>
            <a:blip r:embed="rId3"/>
            <a:stretch/>
          </p:blipFill>
          <p:spPr>
            <a:xfrm>
              <a:off x="684360" y="863640"/>
              <a:ext cx="7632720" cy="59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9"/>
            <p:cNvSpPr/>
            <p:nvPr/>
          </p:nvSpPr>
          <p:spPr>
            <a:xfrm>
              <a:off x="5236560" y="6093360"/>
              <a:ext cx="231444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林祥谦英勇就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6" name="Picture 8" descr="qi"/>
          <p:cNvPicPr/>
          <p:nvPr/>
        </p:nvPicPr>
        <p:blipFill>
          <a:blip r:embed="rId4"/>
          <a:stretch/>
        </p:blipFill>
        <p:spPr>
          <a:xfrm>
            <a:off x="34920" y="44280"/>
            <a:ext cx="1152360" cy="1003320"/>
          </a:xfrm>
          <a:prstGeom prst="rect">
            <a:avLst/>
          </a:prstGeom>
          <a:ln w="0">
            <a:noFill/>
          </a:ln>
        </p:spPr>
      </p:pic>
      <p:grpSp>
        <p:nvGrpSpPr>
          <p:cNvPr id="287" name="组合 3"/>
          <p:cNvGrpSpPr/>
          <p:nvPr/>
        </p:nvGrpSpPr>
        <p:grpSpPr>
          <a:xfrm>
            <a:off x="250920" y="835200"/>
            <a:ext cx="8678880" cy="5997240"/>
            <a:chOff x="250920" y="835200"/>
            <a:chExt cx="8678880" cy="5997240"/>
          </a:xfrm>
        </p:grpSpPr>
        <p:pic>
          <p:nvPicPr>
            <p:cNvPr id="288" name="Picture 10" descr="t0133c7bd57f861a2db"/>
            <p:cNvPicPr/>
            <p:nvPr/>
          </p:nvPicPr>
          <p:blipFill>
            <a:blip r:embed="rId5"/>
            <a:stretch/>
          </p:blipFill>
          <p:spPr>
            <a:xfrm>
              <a:off x="250920" y="835200"/>
              <a:ext cx="8678880" cy="59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12"/>
            <p:cNvSpPr/>
            <p:nvPr/>
          </p:nvSpPr>
          <p:spPr>
            <a:xfrm>
              <a:off x="7976880" y="903240"/>
              <a:ext cx="771480" cy="43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郑州二七纪念塔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组合 16"/>
          <p:cNvGrpSpPr/>
          <p:nvPr/>
        </p:nvGrpSpPr>
        <p:grpSpPr>
          <a:xfrm>
            <a:off x="0" y="1158840"/>
            <a:ext cx="9144000" cy="5294520"/>
            <a:chOff x="0" y="1158840"/>
            <a:chExt cx="9144000" cy="5294520"/>
          </a:xfrm>
        </p:grpSpPr>
        <p:pic>
          <p:nvPicPr>
            <p:cNvPr id="291" name="Picture 5" descr="施洋"/>
            <p:cNvPicPr/>
            <p:nvPr/>
          </p:nvPicPr>
          <p:blipFill>
            <a:blip r:embed="rId6"/>
            <a:stretch/>
          </p:blipFill>
          <p:spPr>
            <a:xfrm>
              <a:off x="0" y="1163160"/>
              <a:ext cx="4656600" cy="528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it"/>
            <p:cNvPicPr/>
            <p:nvPr/>
          </p:nvPicPr>
          <p:blipFill>
            <a:blip r:embed="rId7"/>
            <a:stretch/>
          </p:blipFill>
          <p:spPr>
            <a:xfrm>
              <a:off x="4656600" y="1158840"/>
              <a:ext cx="4487400" cy="529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8"/>
            <p:cNvSpPr/>
            <p:nvPr/>
          </p:nvSpPr>
          <p:spPr>
            <a:xfrm>
              <a:off x="4036320" y="1158840"/>
              <a:ext cx="1399320" cy="20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林祥谦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37440" y="1367280"/>
              <a:ext cx="78984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施 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4223200" y="9400222440"/>
            <a:ext cx="7831266120" cy="118738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京汉铁路工人大罢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24000" y="49417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全国工人运动的高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108000" y="2060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中国共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党的诞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AutoShape 19"/>
          <p:cNvSpPr/>
          <p:nvPr/>
        </p:nvSpPr>
        <p:spPr>
          <a:xfrm>
            <a:off x="2268360" y="1122480"/>
            <a:ext cx="287640" cy="3149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74880 h 3149640"/>
              <a:gd name="textAreaBottom" fmla="*/ 3074760 h 314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2"/>
                  <a:pt x="10800" y="1643"/>
                </a:cubicBezTo>
                <a:lnTo>
                  <a:pt x="10800" y="9157"/>
                </a:lnTo>
                <a:cubicBezTo>
                  <a:pt x="10800" y="9979"/>
                  <a:pt x="5400" y="10800"/>
                  <a:pt x="0" y="10800"/>
                </a:cubicBezTo>
                <a:cubicBezTo>
                  <a:pt x="5400" y="10800"/>
                  <a:pt x="10800" y="11622"/>
                  <a:pt x="10800" y="12443"/>
                </a:cubicBezTo>
                <a:lnTo>
                  <a:pt x="10800" y="19957"/>
                </a:lnTo>
                <a:cubicBezTo>
                  <a:pt x="10800" y="2077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20">
            <a:hlinkClick r:id="rId1" action="ppaction://hlinksldjump"/>
          </p:cNvPr>
          <p:cNvSpPr/>
          <p:nvPr/>
        </p:nvSpPr>
        <p:spPr>
          <a:xfrm>
            <a:off x="2556000" y="801720"/>
            <a:ext cx="20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诞生条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2473200" y="1700280"/>
            <a:ext cx="36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大和党的成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5940360" y="1182600"/>
            <a:ext cx="432000" cy="15987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24560 h 1598760"/>
              <a:gd name="textAreaBottom" fmla="*/ 1474200 h 159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92"/>
                  <a:pt x="10800" y="5383"/>
                </a:cubicBezTo>
                <a:lnTo>
                  <a:pt x="10800" y="5417"/>
                </a:lnTo>
                <a:cubicBezTo>
                  <a:pt x="10800" y="8109"/>
                  <a:pt x="5400" y="10800"/>
                  <a:pt x="0" y="10800"/>
                </a:cubicBezTo>
                <a:cubicBezTo>
                  <a:pt x="5400" y="10800"/>
                  <a:pt x="10800" y="13492"/>
                  <a:pt x="10800" y="16183"/>
                </a:cubicBezTo>
                <a:lnTo>
                  <a:pt x="10800" y="16217"/>
                </a:lnTo>
                <a:cubicBezTo>
                  <a:pt x="10800" y="1890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6445080" y="7714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时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6445080" y="19242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代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25">
            <a:hlinkClick r:id="rId2" action="ppaction://hlinksldjump"/>
          </p:cNvPr>
          <p:cNvSpPr/>
          <p:nvPr/>
        </p:nvSpPr>
        <p:spPr>
          <a:xfrm>
            <a:off x="6445080" y="13478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地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6445080" y="25002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内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28">
            <a:hlinkClick r:id="rId3" action="ppaction://hlinksldjump"/>
          </p:cNvPr>
          <p:cNvSpPr/>
          <p:nvPr/>
        </p:nvSpPr>
        <p:spPr>
          <a:xfrm>
            <a:off x="2473200" y="31478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大和民主革命纲领的制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29"/>
          <p:cNvSpPr/>
          <p:nvPr/>
        </p:nvSpPr>
        <p:spPr>
          <a:xfrm>
            <a:off x="2473200" y="395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历史意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30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09" name="Picture 31" descr="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WordArt 3"/>
            <p:cNvSpPr txBox="1"/>
            <p:nvPr/>
          </p:nvSpPr>
          <p:spPr>
            <a:xfrm>
              <a:off x="3132000" y="44280"/>
              <a:ext cx="3889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本课小结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11" name="矩形 1"/>
          <p:cNvSpPr/>
          <p:nvPr/>
        </p:nvSpPr>
        <p:spPr>
          <a:xfrm>
            <a:off x="2700360" y="4965840"/>
            <a:ext cx="6048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、京汉铁路工人大罢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、失败教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8" descr="qi"/>
          <p:cNvPicPr/>
          <p:nvPr/>
        </p:nvPicPr>
        <p:blipFill>
          <a:blip r:embed="rId5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5564160" y="24382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6326280" y="24382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4"/>
          <p:cNvSpPr/>
          <p:nvPr/>
        </p:nvSpPr>
        <p:spPr>
          <a:xfrm>
            <a:off x="3659040" y="24382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183280" y="1981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945040" y="2057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7"/>
          <p:cNvSpPr/>
          <p:nvPr/>
        </p:nvSpPr>
        <p:spPr>
          <a:xfrm rot="5400000">
            <a:off x="4078440" y="-808560"/>
            <a:ext cx="287280" cy="61722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86480 h 6172200"/>
              <a:gd name="textAreaBottom" fmla="*/ 5985720 h 61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5"/>
                  <a:pt x="10800" y="2089"/>
                </a:cubicBezTo>
                <a:lnTo>
                  <a:pt x="10800" y="8867"/>
                </a:lnTo>
                <a:cubicBezTo>
                  <a:pt x="10800" y="9912"/>
                  <a:pt x="5400" y="10956"/>
                  <a:pt x="0" y="10956"/>
                </a:cubicBezTo>
                <a:cubicBezTo>
                  <a:pt x="5400" y="10956"/>
                  <a:pt x="10800" y="12001"/>
                  <a:pt x="10800" y="13045"/>
                </a:cubicBezTo>
                <a:lnTo>
                  <a:pt x="10800" y="19511"/>
                </a:lnTo>
                <a:cubicBezTo>
                  <a:pt x="10800" y="2055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8"/>
          <p:cNvSpPr/>
          <p:nvPr/>
        </p:nvSpPr>
        <p:spPr>
          <a:xfrm flipV="1">
            <a:off x="798480" y="3500280"/>
            <a:ext cx="773424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826920" y="3276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Line 10"/>
          <p:cNvSpPr/>
          <p:nvPr/>
        </p:nvSpPr>
        <p:spPr>
          <a:xfrm>
            <a:off x="4284720" y="3276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7236000" y="3276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3129120" y="83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中国近代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295920" y="2470320"/>
            <a:ext cx="17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184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3537720" y="2470320"/>
            <a:ext cx="17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1919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6427080" y="2470320"/>
            <a:ext cx="17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1949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16"/>
          <p:cNvSpPr/>
          <p:nvPr/>
        </p:nvSpPr>
        <p:spPr>
          <a:xfrm rot="16200000">
            <a:off x="2475720" y="2208600"/>
            <a:ext cx="360360" cy="325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4960 h 3257640"/>
              <a:gd name="textAreaBottom" fmla="*/ 3172680 h 32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89"/>
                </a:lnTo>
                <a:cubicBezTo>
                  <a:pt x="10800" y="9489"/>
                  <a:pt x="5400" y="10389"/>
                  <a:pt x="0" y="10389"/>
                </a:cubicBezTo>
                <a:cubicBezTo>
                  <a:pt x="5400" y="10389"/>
                  <a:pt x="10800" y="11289"/>
                  <a:pt x="10800" y="121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17"/>
          <p:cNvSpPr/>
          <p:nvPr/>
        </p:nvSpPr>
        <p:spPr>
          <a:xfrm rot="16200000">
            <a:off x="5694120" y="2449080"/>
            <a:ext cx="304920" cy="2838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800 h 2838240"/>
              <a:gd name="textAreaBottom" fmla="*/ 2764440 h 283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89"/>
                </a:lnTo>
                <a:cubicBezTo>
                  <a:pt x="10800" y="9489"/>
                  <a:pt x="5400" y="10389"/>
                  <a:pt x="0" y="10389"/>
                </a:cubicBezTo>
                <a:cubicBezTo>
                  <a:pt x="5400" y="10389"/>
                  <a:pt x="10800" y="11289"/>
                  <a:pt x="10800" y="121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1547640" y="4270320"/>
            <a:ext cx="2087640" cy="1434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旧民主主义革命时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932360" y="4221000"/>
            <a:ext cx="2089080" cy="1434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新民主主义革命时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3257280" y="4149720"/>
            <a:ext cx="152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五四运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oup 21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33" name="Picture 22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WordArt 3"/>
            <p:cNvSpPr txBox="1"/>
            <p:nvPr/>
          </p:nvSpPr>
          <p:spPr>
            <a:xfrm>
              <a:off x="3132000" y="44280"/>
              <a:ext cx="3889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本课小结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335" name="Picture 8" descr="qi"/>
          <p:cNvPicPr/>
          <p:nvPr/>
        </p:nvPicPr>
        <p:blipFill>
          <a:blip r:embed="rId2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3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9"/>
          <p:cNvSpPr/>
          <p:nvPr/>
        </p:nvSpPr>
        <p:spPr>
          <a:xfrm>
            <a:off x="395280" y="1765440"/>
            <a:ext cx="720720" cy="3649680"/>
          </a:xfrm>
          <a:prstGeom prst="rect">
            <a:avLst/>
          </a:prstGeom>
          <a:gradFill rotWithShape="0">
            <a:gsLst>
              <a:gs pos="0">
                <a:srgbClr val="ffb8b5"/>
              </a:gs>
              <a:gs pos="100000">
                <a:srgbClr val="ffe9e8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黑体"/>
              </a:rPr>
              <a:t>旧民主主义革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395280" y="6059520"/>
            <a:ext cx="3816360" cy="601920"/>
          </a:xfrm>
          <a:prstGeom prst="rect">
            <a:avLst/>
          </a:prstGeom>
          <a:gradFill rotWithShape="0">
            <a:gsLst>
              <a:gs pos="0">
                <a:srgbClr val="ffb8b5"/>
              </a:gs>
              <a:gs pos="100000">
                <a:srgbClr val="ffe9e8"/>
              </a:gs>
            </a:gsLst>
            <a:lin ang="5400000"/>
          </a:gradFill>
          <a:ln w="9360">
            <a:solidFill>
              <a:srgbClr val="fba7a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黑体"/>
              </a:rPr>
              <a:t>新民主主义革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692360" y="1797120"/>
            <a:ext cx="8991360" cy="3649680"/>
            <a:chOff x="1692360" y="1797120"/>
            <a:chExt cx="8991360" cy="3649680"/>
          </a:xfrm>
        </p:grpSpPr>
        <p:sp>
          <p:nvSpPr>
            <p:cNvPr id="340" name="Text Box 3"/>
            <p:cNvSpPr/>
            <p:nvPr/>
          </p:nvSpPr>
          <p:spPr>
            <a:xfrm>
              <a:off x="1692360" y="1797120"/>
              <a:ext cx="8991360" cy="36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农民阶级</a:t>
              </a:r>
              <a:r>
                <a:rPr b="1" lang="zh-CN" sz="2800" spc="-1" strike="noStrike">
                  <a:solidFill>
                    <a:srgbClr val="08022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太平天国运动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义和团运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地主阶级     洋务运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戊戌变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资产阶级     辛亥革命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新文化运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1" name="Group 6"/>
            <p:cNvGrpSpPr/>
            <p:nvPr/>
          </p:nvGrpSpPr>
          <p:grpSpPr>
            <a:xfrm>
              <a:off x="3292200" y="2177640"/>
              <a:ext cx="533160" cy="456840"/>
              <a:chOff x="3292200" y="2177640"/>
              <a:chExt cx="533160" cy="456840"/>
            </a:xfrm>
          </p:grpSpPr>
          <p:sp>
            <p:nvSpPr>
              <p:cNvPr id="342" name="Line 5"/>
              <p:cNvSpPr/>
              <p:nvPr/>
            </p:nvSpPr>
            <p:spPr>
              <a:xfrm>
                <a:off x="3292200" y="2177640"/>
                <a:ext cx="533160" cy="0"/>
              </a:xfrm>
              <a:prstGeom prst="line">
                <a:avLst/>
              </a:prstGeom>
              <a:ln w="5724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Line 6"/>
              <p:cNvSpPr/>
              <p:nvPr/>
            </p:nvSpPr>
            <p:spPr>
              <a:xfrm>
                <a:off x="3292200" y="2177640"/>
                <a:ext cx="456840" cy="456840"/>
              </a:xfrm>
              <a:prstGeom prst="line">
                <a:avLst/>
              </a:prstGeom>
              <a:ln w="5724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Line 8"/>
            <p:cNvSpPr/>
            <p:nvPr/>
          </p:nvSpPr>
          <p:spPr>
            <a:xfrm>
              <a:off x="3368520" y="3625560"/>
              <a:ext cx="685440" cy="0"/>
            </a:xfrm>
            <a:prstGeom prst="line">
              <a:avLst/>
            </a:prstGeom>
            <a:ln w="572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5" name="Group 10"/>
            <p:cNvGrpSpPr/>
            <p:nvPr/>
          </p:nvGrpSpPr>
          <p:grpSpPr>
            <a:xfrm>
              <a:off x="3215880" y="4311000"/>
              <a:ext cx="838080" cy="837720"/>
              <a:chOff x="3215880" y="4311000"/>
              <a:chExt cx="838080" cy="837720"/>
            </a:xfrm>
          </p:grpSpPr>
          <p:sp>
            <p:nvSpPr>
              <p:cNvPr id="346" name="Line 9"/>
              <p:cNvSpPr/>
              <p:nvPr/>
            </p:nvSpPr>
            <p:spPr>
              <a:xfrm flipV="1">
                <a:off x="3215880" y="4311000"/>
                <a:ext cx="685800" cy="380520"/>
              </a:xfrm>
              <a:prstGeom prst="line">
                <a:avLst/>
              </a:prstGeom>
              <a:ln w="5724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Line 10"/>
              <p:cNvSpPr/>
              <p:nvPr/>
            </p:nvSpPr>
            <p:spPr>
              <a:xfrm>
                <a:off x="3215880" y="4691880"/>
                <a:ext cx="762120" cy="456840"/>
              </a:xfrm>
              <a:prstGeom prst="line">
                <a:avLst/>
              </a:prstGeom>
              <a:ln w="5724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Line 11"/>
              <p:cNvSpPr/>
              <p:nvPr/>
            </p:nvSpPr>
            <p:spPr>
              <a:xfrm>
                <a:off x="3292200" y="4691880"/>
                <a:ext cx="761760" cy="75960"/>
              </a:xfrm>
              <a:prstGeom prst="line">
                <a:avLst/>
              </a:prstGeom>
              <a:ln w="5724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9" name="左大括号 43"/>
          <p:cNvSpPr/>
          <p:nvPr/>
        </p:nvSpPr>
        <p:spPr>
          <a:xfrm>
            <a:off x="1187280" y="1863720"/>
            <a:ext cx="381240" cy="3581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581280"/>
              <a:gd name="textAreaBottom" fmla="*/ 357156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0" name="Group 15"/>
          <p:cNvGrpSpPr/>
          <p:nvPr/>
        </p:nvGrpSpPr>
        <p:grpSpPr>
          <a:xfrm>
            <a:off x="6156360" y="2011320"/>
            <a:ext cx="1006560" cy="3505320"/>
            <a:chOff x="6156360" y="2011320"/>
            <a:chExt cx="1006560" cy="3505320"/>
          </a:xfrm>
        </p:grpSpPr>
        <p:sp>
          <p:nvSpPr>
            <p:cNvPr id="351" name="AutoShape 13"/>
            <p:cNvSpPr/>
            <p:nvPr/>
          </p:nvSpPr>
          <p:spPr>
            <a:xfrm>
              <a:off x="6156360" y="2011320"/>
              <a:ext cx="304920" cy="35053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0066"/>
              </a:solidFill>
              <a:miter/>
            </a:ln>
            <a:effectLst>
              <a:outerShdw dist="2304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6461280" y="3306600"/>
              <a:ext cx="70164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失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败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AutoShape 15"/>
          <p:cNvSpPr/>
          <p:nvPr/>
        </p:nvSpPr>
        <p:spPr>
          <a:xfrm>
            <a:off x="7093080" y="3716280"/>
            <a:ext cx="457200" cy="303120"/>
          </a:xfrm>
          <a:prstGeom prst="rightArrow">
            <a:avLst>
              <a:gd name="adj1" fmla="val 50000"/>
              <a:gd name="adj2" fmla="val 377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7596360" y="2205000"/>
            <a:ext cx="1447560" cy="601920"/>
          </a:xfrm>
          <a:prstGeom prst="rect">
            <a:avLst/>
          </a:prstGeom>
          <a:solidFill>
            <a:srgbClr val="ffcc66">
              <a:alpha val="50000"/>
            </a:srgbClr>
          </a:solidFill>
          <a:ln w="381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  <a:ea typeface="黑体"/>
              </a:rPr>
              <a:t>农民、地主、资产阶级都不能救中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29"/>
          <p:cNvSpPr/>
          <p:nvPr/>
        </p:nvSpPr>
        <p:spPr>
          <a:xfrm>
            <a:off x="5221440" y="5997600"/>
            <a:ext cx="3671640" cy="6526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无产阶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WordArt 21" descr=""/>
          <p:cNvPicPr/>
          <p:nvPr/>
        </p:nvPicPr>
        <p:blipFill>
          <a:blip r:embed="rId2"/>
          <a:stretch/>
        </p:blipFill>
        <p:spPr>
          <a:xfrm>
            <a:off x="2908440" y="109440"/>
            <a:ext cx="3206520" cy="1176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qi"/>
          <p:cNvPicPr/>
          <p:nvPr/>
        </p:nvPicPr>
        <p:blipFill>
          <a:blip r:embed="rId3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4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5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361" name=""/>
          <p:cNvGraphicFramePr/>
          <p:nvPr/>
        </p:nvGraphicFramePr>
        <p:xfrm>
          <a:off x="468360" y="1628640"/>
          <a:ext cx="8280360" cy="4753080"/>
        </p:xfrm>
        <a:graphic>
          <a:graphicData uri="http://schemas.openxmlformats.org/drawingml/2006/table">
            <a:tbl>
              <a:tblPr/>
              <a:tblGrid>
                <a:gridCol w="2374920"/>
                <a:gridCol w="5905440"/>
              </a:tblGrid>
              <a:tr h="15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思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基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阶级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基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组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基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矩形 2"/>
          <p:cNvSpPr/>
          <p:nvPr/>
        </p:nvSpPr>
        <p:spPr>
          <a:xfrm>
            <a:off x="4622400" y="85896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、中国共产党成立的条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3003480" y="2060640"/>
            <a:ext cx="56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马克思主义在中国传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2870280" y="353052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工人阶级登上历史的舞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32"/>
          <p:cNvSpPr/>
          <p:nvPr/>
        </p:nvSpPr>
        <p:spPr>
          <a:xfrm>
            <a:off x="2843280" y="522936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共产党早期组织的建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8" descr="qi"/>
          <p:cNvPicPr/>
          <p:nvPr/>
        </p:nvPicPr>
        <p:blipFill>
          <a:blip r:embed="rId2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6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70" name="Text Box 2"/>
          <p:cNvSpPr/>
          <p:nvPr/>
        </p:nvSpPr>
        <p:spPr>
          <a:xfrm>
            <a:off x="142920" y="1557360"/>
            <a:ext cx="8893080" cy="825120"/>
          </a:xfrm>
          <a:prstGeom prst="rect">
            <a:avLst/>
          </a:prstGeom>
          <a:solidFill>
            <a:srgbClr val="ccff99">
              <a:alpha val="50000"/>
            </a:srgbClr>
          </a:solidFill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黑体"/>
              </a:rPr>
              <a:t>2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、中国共产党的成立使中国革命的面貌发生了怎样的变化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755640" y="4221000"/>
            <a:ext cx="75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隶书"/>
                <a:ea typeface="隶书"/>
              </a:rPr>
              <a:t>指导思想：马克思主义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684360" y="532296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隶书"/>
                <a:ea typeface="隶书"/>
              </a:rPr>
              <a:t>奋斗目标：实现共产主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826920" y="3213000"/>
            <a:ext cx="736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隶书"/>
                <a:ea typeface="隶书"/>
              </a:rPr>
              <a:t>领导核心：中国共产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8" descr="qi"/>
          <p:cNvPicPr/>
          <p:nvPr/>
        </p:nvPicPr>
        <p:blipFill>
          <a:blip r:embed="rId2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3"/>
          <p:cNvSpPr/>
          <p:nvPr/>
        </p:nvSpPr>
        <p:spPr>
          <a:xfrm>
            <a:off x="755640" y="836640"/>
            <a:ext cx="78818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中国共产党“一大”确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的党的中心工作是（　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　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A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领导工人运动　　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B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领导农民运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　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C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建立统一战线　　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D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开展武装斗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6588000" y="2025720"/>
            <a:ext cx="176400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78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2"/>
          <p:cNvSpPr/>
          <p:nvPr/>
        </p:nvSpPr>
        <p:spPr>
          <a:xfrm>
            <a:off x="0" y="907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第</a:t>
            </a:r>
            <a:r>
              <a:rPr b="1" lang="en-US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14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课 中国共产党诞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2" descr=""/>
          <p:cNvPicPr/>
          <p:nvPr/>
        </p:nvPicPr>
        <p:blipFill>
          <a:blip r:embed="rId1"/>
          <a:stretch/>
        </p:blipFill>
        <p:spPr>
          <a:xfrm>
            <a:off x="-34920" y="-2700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81" name="WordArt 33"/>
          <p:cNvSpPr txBox="1"/>
          <p:nvPr/>
        </p:nvSpPr>
        <p:spPr>
          <a:xfrm>
            <a:off x="2843280" y="115920"/>
            <a:ext cx="543060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第四单元 新时代的曙光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pic>
        <p:nvPicPr>
          <p:cNvPr id="82" name="Picture 2" descr="《五四运动》浮雕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3"/>
          <p:cNvSpPr/>
          <p:nvPr/>
        </p:nvSpPr>
        <p:spPr>
          <a:xfrm>
            <a:off x="757080" y="836640"/>
            <a:ext cx="741528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中共“一大”选出的中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局书记是（   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A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李大钊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B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陈独秀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C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毛泽东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D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张国焘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5580000" y="2181600"/>
            <a:ext cx="194472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83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684360" y="907920"/>
            <a:ext cx="777528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中国第一个共产主义小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建立于（   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A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北京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B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广州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C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长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D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上海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5219640" y="1865520"/>
            <a:ext cx="2808360" cy="43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7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88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W020080923384489726777"/>
          <p:cNvPicPr/>
          <p:nvPr/>
        </p:nvPicPr>
        <p:blipFill>
          <a:blip r:embed="rId1"/>
          <a:stretch/>
        </p:blipFill>
        <p:spPr>
          <a:xfrm>
            <a:off x="5560920" y="836640"/>
            <a:ext cx="3583080" cy="38862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"/>
          <p:cNvSpPr/>
          <p:nvPr/>
        </p:nvSpPr>
        <p:spPr>
          <a:xfrm>
            <a:off x="250920" y="836640"/>
            <a:ext cx="856908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、右面是一部反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国革命影片的宣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画，你认为以下选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最符合这一片名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历史事件是（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黑体"/>
              </a:rPr>
              <a:t>  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国共产党的成立 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黑体"/>
              </a:rPr>
              <a:t>       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南昌起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井冈山根据地的建立 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黑体"/>
              </a:rPr>
              <a:t>      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红军长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6508800" y="4508640"/>
            <a:ext cx="1447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Group 5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94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8540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中国共产党第一次提出反帝反封建的革命纲领是在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黑体"/>
              </a:rPr>
              <a:t> 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（　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．中共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一大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　　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．中共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二大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．中共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三大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　　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．国民党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一大</a:t>
            </a:r>
            <a:r>
              <a:rPr b="1" lang="zh-CN" sz="4400" spc="-1" strike="noStrike">
                <a:solidFill>
                  <a:srgbClr val="0000cc"/>
                </a:solidFill>
                <a:latin typeface="华文中宋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6012000" y="2852640"/>
            <a:ext cx="14475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6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399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WordArt 3"/>
            <p:cNvSpPr txBox="1"/>
            <p:nvPr/>
          </p:nvSpPr>
          <p:spPr>
            <a:xfrm>
              <a:off x="3203640" y="44280"/>
              <a:ext cx="381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练习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pic114_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WordArt 3"/>
          <p:cNvSpPr txBox="1"/>
          <p:nvPr/>
        </p:nvSpPr>
        <p:spPr>
          <a:xfrm>
            <a:off x="757080" y="685800"/>
            <a:ext cx="77774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祝同学们学习进步！</a:t>
            </a:r>
            <a:endParaRPr b="1" lang="en-US" sz="6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85" name="Picture 2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Rectangle 28"/>
          <p:cNvSpPr/>
          <p:nvPr/>
        </p:nvSpPr>
        <p:spPr>
          <a:xfrm>
            <a:off x="1547640" y="777960"/>
            <a:ext cx="709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一、马克思主义的传播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0"/>
          <p:cNvSpPr/>
          <p:nvPr/>
        </p:nvSpPr>
        <p:spPr>
          <a:xfrm>
            <a:off x="324000" y="184464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1917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年十月社会主义革命的胜利，使中国先进知识分子看到了曙光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qi"/>
          <p:cNvPicPr/>
          <p:nvPr/>
        </p:nvPicPr>
        <p:blipFill>
          <a:blip r:embed="rId3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0"/>
          <p:cNvSpPr/>
          <p:nvPr/>
        </p:nvSpPr>
        <p:spPr>
          <a:xfrm>
            <a:off x="395280" y="3645000"/>
            <a:ext cx="842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、经过五四运动，宣传新思想、新文化的刊物大量涌现，越来越多的先进知识分子开始关注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___________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5582520" y="51084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Calibri"/>
                <a:ea typeface="黑体"/>
              </a:rPr>
              <a:t>马克思主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217000" y="1700280"/>
            <a:ext cx="92700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95" name="Picture 2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Rectangle 28"/>
          <p:cNvSpPr/>
          <p:nvPr/>
        </p:nvSpPr>
        <p:spPr>
          <a:xfrm>
            <a:off x="1547640" y="777960"/>
            <a:ext cx="709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一、马克思主义的传播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324000" y="1628640"/>
            <a:ext cx="8569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1919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新青年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出版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黑体"/>
              </a:rPr>
              <a:t>马克思主义研究专号”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，刊载了李大钊的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《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__________________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，对马克思主义作了较为系统的介绍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8" descr="qi"/>
          <p:cNvPicPr/>
          <p:nvPr/>
        </p:nvPicPr>
        <p:blipFill>
          <a:blip r:embed="rId3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0"/>
          <p:cNvSpPr/>
          <p:nvPr/>
        </p:nvSpPr>
        <p:spPr>
          <a:xfrm>
            <a:off x="468360" y="4941720"/>
            <a:ext cx="842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、建立了研究和宣传马克思主义的团体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1042920" y="3141720"/>
            <a:ext cx="467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黑体"/>
              </a:rPr>
              <a:t>我的马克思主义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104" name="Picture 2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Rectangle 28"/>
          <p:cNvSpPr/>
          <p:nvPr/>
        </p:nvSpPr>
        <p:spPr>
          <a:xfrm>
            <a:off x="1547640" y="777960"/>
            <a:ext cx="709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一、马克思主义的传播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0"/>
          <p:cNvSpPr/>
          <p:nvPr/>
        </p:nvSpPr>
        <p:spPr>
          <a:xfrm>
            <a:off x="250920" y="162864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     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黑体"/>
              </a:rPr>
              <a:t>5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黑体"/>
              </a:rPr>
              <a:t>、马克思主义与工人运动相结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8" descr="qi"/>
          <p:cNvPicPr/>
          <p:nvPr/>
        </p:nvPicPr>
        <p:blipFill>
          <a:blip r:embed="rId3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  <p:sp>
        <p:nvSpPr>
          <p:cNvPr id="109" name="矩形 1"/>
          <p:cNvSpPr/>
          <p:nvPr/>
        </p:nvSpPr>
        <p:spPr>
          <a:xfrm>
            <a:off x="179280" y="2498760"/>
            <a:ext cx="896472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五四运动的胜利发展，使中国先进知识分子认识到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工人阶级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的伟大力量。不少知识分子开始走向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工人群众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。他们帮工人组织工会，开办劳动补习学校和工人识字班，出版反映工人生活的刊物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向工人宣传马克思主义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李大钊"/>
          <p:cNvPicPr/>
          <p:nvPr/>
        </p:nvPicPr>
        <p:blipFill>
          <a:blip r:embed="rId1"/>
          <a:stretch/>
        </p:blipFill>
        <p:spPr>
          <a:xfrm>
            <a:off x="34920" y="836640"/>
            <a:ext cx="9074160" cy="6067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5580000" y="993600"/>
            <a:ext cx="23767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李大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113" name="Picture 2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2"/>
            <p:cNvSpPr/>
            <p:nvPr/>
          </p:nvSpPr>
          <p:spPr>
            <a:xfrm>
              <a:off x="2232000" y="115920"/>
              <a:ext cx="5796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人  物  扫  描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" name="Picture 8" descr="qi"/>
          <p:cNvPicPr/>
          <p:nvPr/>
        </p:nvPicPr>
        <p:blipFill>
          <a:blip r:embed="rId3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780000" y="5516640"/>
            <a:ext cx="123156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17520" y="907920"/>
            <a:ext cx="63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马克思主义的传播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609480" y="990720"/>
            <a:ext cx="8240760" cy="5486400"/>
            <a:chOff x="609480" y="990720"/>
            <a:chExt cx="8240760" cy="5486400"/>
          </a:xfrm>
        </p:grpSpPr>
        <p:pic>
          <p:nvPicPr>
            <p:cNvPr id="119" name="Picture 4" descr="《劳动界》"/>
            <p:cNvPicPr/>
            <p:nvPr/>
          </p:nvPicPr>
          <p:blipFill>
            <a:blip r:embed="rId1"/>
            <a:stretch/>
          </p:blipFill>
          <p:spPr>
            <a:xfrm>
              <a:off x="4495680" y="990720"/>
              <a:ext cx="43545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5"/>
            <p:cNvSpPr/>
            <p:nvPr/>
          </p:nvSpPr>
          <p:spPr>
            <a:xfrm>
              <a:off x="609480" y="2492280"/>
              <a:ext cx="3746520" cy="764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劳动界</a:t>
              </a: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专门为工人创办的刊物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6"/>
          <p:cNvGrpSpPr/>
          <p:nvPr/>
        </p:nvGrpSpPr>
        <p:grpSpPr>
          <a:xfrm>
            <a:off x="179280" y="863640"/>
            <a:ext cx="8077320" cy="5994360"/>
            <a:chOff x="179280" y="863640"/>
            <a:chExt cx="8077320" cy="5994360"/>
          </a:xfrm>
        </p:grpSpPr>
        <p:pic>
          <p:nvPicPr>
            <p:cNvPr id="122" name="Picture 7" descr="《共产党月刊》封面"/>
            <p:cNvPicPr/>
            <p:nvPr/>
          </p:nvPicPr>
          <p:blipFill>
            <a:blip r:embed="rId2"/>
            <a:stretch/>
          </p:blipFill>
          <p:spPr>
            <a:xfrm>
              <a:off x="179280" y="863640"/>
              <a:ext cx="4183200" cy="59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8"/>
            <p:cNvSpPr/>
            <p:nvPr/>
          </p:nvSpPr>
          <p:spPr>
            <a:xfrm>
              <a:off x="4751280" y="1844640"/>
              <a:ext cx="3505320" cy="22874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共产党月刊</a:t>
              </a:r>
              <a:r>
                <a:rPr b="1" lang="en-US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上海共产主义小组发起出版的理论刊物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324000" y="712800"/>
            <a:ext cx="8605800" cy="6045120"/>
            <a:chOff x="324000" y="712800"/>
            <a:chExt cx="8605800" cy="6045120"/>
          </a:xfrm>
        </p:grpSpPr>
        <p:pic>
          <p:nvPicPr>
            <p:cNvPr id="125" name="Picture 10" descr="陈望道翻译的《共产党宣言》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751640" y="712800"/>
              <a:ext cx="4178160" cy="60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1"/>
            <p:cNvSpPr/>
            <p:nvPr/>
          </p:nvSpPr>
          <p:spPr>
            <a:xfrm>
              <a:off x="324000" y="1844640"/>
              <a:ext cx="3960720" cy="21049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20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陈望道翻译了马克思、恩格斯合著的</a:t>
              </a: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共产党宣言</a:t>
              </a: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是同年</a:t>
              </a: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的再版本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128" name="Picture 26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5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132" name="Picture 2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22"/>
            <p:cNvSpPr/>
            <p:nvPr/>
          </p:nvSpPr>
          <p:spPr>
            <a:xfrm>
              <a:off x="2016000" y="189000"/>
              <a:ext cx="7093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4</a:t>
              </a:r>
              <a:r>
                <a:rPr b="1" lang="zh-CN" sz="4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  中国共产党诞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Rectangle 28"/>
          <p:cNvSpPr/>
          <p:nvPr/>
        </p:nvSpPr>
        <p:spPr>
          <a:xfrm>
            <a:off x="1547640" y="777960"/>
            <a:ext cx="709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二、中国共产党的成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8" descr="qi"/>
          <p:cNvPicPr/>
          <p:nvPr/>
        </p:nvPicPr>
        <p:blipFill>
          <a:blip r:embed="rId3"/>
          <a:stretch/>
        </p:blipFill>
        <p:spPr>
          <a:xfrm>
            <a:off x="34920" y="44280"/>
            <a:ext cx="1657440" cy="1441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324000" y="2565360"/>
            <a:ext cx="3627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01480" y="1628640"/>
            <a:ext cx="399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、共产党早期组织的建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24000" y="2924280"/>
            <a:ext cx="409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920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年夏，在共产国际的帮助下，陈独秀在上海建立第一个共产党早期组织。接着，北京、长沙、武昌等地也先后建立共产党早期组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2"/>
          <p:cNvGrpSpPr/>
          <p:nvPr/>
        </p:nvGrpSpPr>
        <p:grpSpPr>
          <a:xfrm>
            <a:off x="4859280" y="1628640"/>
            <a:ext cx="3703680" cy="5034240"/>
            <a:chOff x="4859280" y="1628640"/>
            <a:chExt cx="3703680" cy="5034240"/>
          </a:xfrm>
        </p:grpSpPr>
        <p:pic>
          <p:nvPicPr>
            <p:cNvPr id="140" name="Picture 4" descr="陈独秀"/>
            <p:cNvPicPr/>
            <p:nvPr/>
          </p:nvPicPr>
          <p:blipFill>
            <a:blip r:embed="rId4"/>
            <a:stretch/>
          </p:blipFill>
          <p:spPr>
            <a:xfrm>
              <a:off x="4859280" y="1628640"/>
              <a:ext cx="3703680" cy="448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5"/>
            <p:cNvSpPr/>
            <p:nvPr/>
          </p:nvSpPr>
          <p:spPr>
            <a:xfrm>
              <a:off x="5589000" y="5992200"/>
              <a:ext cx="22233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陈独秀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Picture 33" descr="TU"/>
          <p:cNvPicPr/>
          <p:nvPr/>
        </p:nvPicPr>
        <p:blipFill>
          <a:blip r:embed="rId5"/>
          <a:stretch/>
        </p:blipFill>
        <p:spPr>
          <a:xfrm>
            <a:off x="4284720" y="1628640"/>
            <a:ext cx="4824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7T10:47:39Z</dcterms:created>
  <dc:creator>免费更新微信：popo6111；淘宝店铺：泡泡教育</dc:creator>
  <dc:description>微店：http://weidian.com/s/259607770?wfr=c&amp;ifr=shopdetail</dc:description>
  <cp:keywords>微店：http://weidian.com/s/259607770?wfr=c&amp;ifr=shopdetail</cp:keywords>
  <dc:language>en-US</dc:language>
  <cp:lastModifiedBy>微软中国</cp:lastModifiedBy>
  <dcterms:modified xsi:type="dcterms:W3CDTF">2018-05-02T06:06:57Z</dcterms:modified>
  <cp:revision>37</cp:revision>
  <dc:subject>免费更新微信：popo6111；淘宝店铺：泡泡教育</dc:subject>
  <dc:title>免费更新微信：popo6111；淘宝店铺：泡泡教育</dc:title>
</cp:coreProperties>
</file>