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42.png" ContentType="image/png"/>
  <Override PartName="/ppt/media/image23.jpeg" ContentType="image/jpeg"/>
  <Override PartName="/ppt/media/image21.jpeg" ContentType="image/jpeg"/>
  <Override PartName="/ppt/media/image29.png" ContentType="image/png"/>
  <Override PartName="/ppt/media/chimes.wav" ContentType="audio/x-wav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explode.wav" ContentType="audio/x-wav"/>
  <Override PartName="/ppt/media/image16.gif" ContentType="image/gif"/>
  <Override PartName="/ppt/media/image15.jpeg" ContentType="image/jpeg"/>
  <Override PartName="/ppt/media/image14.jpeg" ContentType="image/jpeg"/>
  <Override PartName="/ppt/media/image1.png" ContentType="image/png"/>
  <Override PartName="/ppt/media/image31.png" ContentType="image/png"/>
  <Override PartName="/ppt/media/image24.jpeg" ContentType="image/jpeg"/>
  <Override PartName="/ppt/media/image3.jpeg" ContentType="image/jpeg"/>
  <Override PartName="/ppt/media/image30.png" ContentType="image/png"/>
  <Override PartName="/ppt/media/image25.png" ContentType="image/png"/>
  <Override PartName="/ppt/media/image11.jpeg" ContentType="image/jpeg"/>
  <Override PartName="/ppt/media/image40.png" ContentType="image/png"/>
  <Override PartName="/ppt/media/bomb.wav" ContentType="audio/x-wav"/>
  <Override PartName="/ppt/media/image41.png" ContentType="image/png"/>
  <Override PartName="/ppt/media/image38.jpeg" ContentType="image/jpeg"/>
  <Override PartName="/ppt/media/image13.gif" ContentType="image/gif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27.jpeg" ContentType="image/jpeg"/>
  <Override PartName="/ppt/media/image46.png" ContentType="image/png"/>
  <Override PartName="/ppt/media/image47.gif" ContentType="image/gif"/>
  <Override PartName="/ppt/media/image48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9.png" ContentType="image/png"/>
  <Override PartName="/ppt/media/image22.jpeg" ContentType="image/jpeg"/>
  <Override PartName="/ppt/media/image2.png" ContentType="image/png"/>
  <Override PartName="/ppt/media/image32.png" ContentType="image/png"/>
  <Override PartName="/ppt/media/image36.png" ContentType="image/png"/>
  <Override PartName="/ppt/media/image6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39.jpeg" ContentType="image/jpeg"/>
  <Override PartName="/ppt/media/image8.jpeg" ContentType="image/jpeg"/>
  <Override PartName="/ppt/media/image1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DFFDE-E7A2-4F28-9B0A-0D93AFDDC14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84AE7-B0F3-4BA8-99D7-698A737A2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4567-3BA9-4093-85E8-0B9830BEF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522C-77A4-4CF1-91FA-151F811BB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7A87-9C2C-46E6-B44B-AB3016202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A947-03DA-4F89-B81E-013C5F03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AF36A-B552-4C87-A48A-A4D4846A8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F19F5-E540-4102-80A1-4CF47640E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7D50-6140-428F-84EE-13549BD4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44188-073E-4D2C-820D-438A6EF3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A8267-72B9-456A-A56D-D5B77CCF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A1665-A11F-4539-BDA3-FDEF38BDE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A04F-5356-46E7-A406-6CBDB0C2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55FB-72E8-4A6D-975D-EBB292BFD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08B2-739D-4FE5-BA13-2888B866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F8B02-6463-48D9-8FB3-763E192F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4C5D9-F43F-4BB0-B6A5-DAA63EF77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CB76D-AC97-4170-8841-FCA2D399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C9138-E21A-4C9C-B4C9-F6F09CF99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E575A8-43AC-4B31-A809-2FD86EE17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4AEC2-20EC-4ABF-9875-716E0CD3F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5AAFD-1C64-47FB-859E-08ED2C86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669AC-E98C-4844-BB54-95CC92E22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9C755-2C60-4E4F-B957-613F4CC7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658B-1A7E-44BC-B99F-BE6847265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E59A7-48D6-404C-A315-B7EADE69A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CB99C4-BE7C-47AB-A236-B91BA4BD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98271-03BC-41C2-ADE8-AB685C59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BD198-A86E-4B56-9E5C-D8C922EB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B9F9A-5988-4363-830A-9D483987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C2241-B340-44D2-9014-2F3994220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4E9C9-1E26-4702-A856-9974DE32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BB5A-FBE8-4145-8E0B-33670A90D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CF0B-EA49-4308-8D6D-FAADF3DFD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99E9-7DBD-4691-BD52-BD435248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2876-D03C-4187-A04F-BDC8E2D5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5CD6-759F-4A31-8442-824E3D5BA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CFCE-5AF9-441E-B527-E36A9494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345A-A42D-4D52-85AF-70C50EBFD2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CF4A3-5B97-4A1B-8181-EC52493A05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BCF49-E9AA-4CF2-A514-4528DE0878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3lian.com/gif/DetailView.htm?Detail=http://img4.3lian.com/sucai2/img15/57/129.gif" TargetMode="External"/><Relationship Id="rId3" Type="http://schemas.openxmlformats.org/officeDocument/2006/relationships/image" Target="../media/image16.gif"/><Relationship Id="rId4" Type="http://schemas.openxmlformats.org/officeDocument/2006/relationships/image" Target="../media/image1.png"/><Relationship Id="rId5" Type="http://schemas.openxmlformats.org/officeDocument/2006/relationships/audio" Target="../media/explode.wav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.png"/><Relationship Id="rId4" Type="http://schemas.openxmlformats.org/officeDocument/2006/relationships/audio" Target="../media/bomb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image" Target="../media/image42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43.png"/><Relationship Id="rId3" Type="http://schemas.openxmlformats.org/officeDocument/2006/relationships/slide" Target="slide2.xml"/><Relationship Id="rId4" Type="http://schemas.openxmlformats.org/officeDocument/2006/relationships/image" Target="../media/image44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6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13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 Box 22"/>
            <p:cNvSpPr/>
            <p:nvPr/>
          </p:nvSpPr>
          <p:spPr>
            <a:xfrm>
              <a:off x="2484360" y="115920"/>
              <a:ext cx="612000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新课导入</a:t>
              </a:r>
              <a:r>
                <a:rPr b="1" lang="en-US" sz="5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(</a:t>
              </a:r>
              <a:r>
                <a:rPr b="1" lang="zh-CN" sz="5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知识拓展</a:t>
              </a:r>
              <a:r>
                <a:rPr b="1" lang="en-US" sz="5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)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3" name="导入松花江上.wmv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7883280" cy="5992920"/>
          </a:xfrm>
          <a:prstGeom prst="rect">
            <a:avLst/>
          </a:prstGeom>
          <a:ln w="0">
            <a:noFill/>
          </a:ln>
        </p:spPr>
      </p:pic>
      <p:sp>
        <p:nvSpPr>
          <p:cNvPr id="134" name="WordArt 8"/>
          <p:cNvSpPr txBox="1"/>
          <p:nvPr/>
        </p:nvSpPr>
        <p:spPr>
          <a:xfrm>
            <a:off x="504720" y="2684520"/>
            <a:ext cx="824400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黑体"/>
              </a:rPr>
              <a:t>中华民族到了最危险的时候</a:t>
            </a:r>
            <a:endParaRPr b="1" lang="en-US" sz="1800" spc="1" strike="noStrike">
              <a:ln w="190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37527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矩形 6"/>
          <p:cNvSpPr/>
          <p:nvPr/>
        </p:nvSpPr>
        <p:spPr>
          <a:xfrm>
            <a:off x="433440" y="2054160"/>
            <a:ext cx="8710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929—193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资本主义世界发生了严重的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经济危机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，日本通过侵略中国东北摆脱国内危机的困扰；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438120" y="5000760"/>
            <a:ext cx="844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蒋介石“围剿”红军，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国共内战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给日本可乘之机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矩形 1"/>
          <p:cNvSpPr/>
          <p:nvPr/>
        </p:nvSpPr>
        <p:spPr>
          <a:xfrm>
            <a:off x="1836720" y="907920"/>
            <a:ext cx="520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华文琥珀"/>
                <a:ea typeface="华文琥珀"/>
              </a:rPr>
              <a:t>1931</a:t>
            </a:r>
            <a:r>
              <a:rPr b="1" lang="zh-CN" sz="5400" spc="-1" strike="noStrike">
                <a:solidFill>
                  <a:srgbClr val="800000"/>
                </a:solidFill>
                <a:latin typeface="华文琥珀"/>
                <a:ea typeface="华文琥珀"/>
              </a:rPr>
              <a:t>年日本侵华原因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矩形 5"/>
          <p:cNvSpPr/>
          <p:nvPr/>
        </p:nvSpPr>
        <p:spPr>
          <a:xfrm>
            <a:off x="1438560" y="198900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、国际形势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矩形 7"/>
          <p:cNvSpPr/>
          <p:nvPr/>
        </p:nvSpPr>
        <p:spPr>
          <a:xfrm>
            <a:off x="1509840" y="4292640"/>
            <a:ext cx="82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华文琥珀"/>
                <a:ea typeface="华文琥珀"/>
              </a:rPr>
              <a:t>、国内形势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1" name="Group 6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222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22"/>
            <p:cNvSpPr/>
            <p:nvPr/>
          </p:nvSpPr>
          <p:spPr>
            <a:xfrm>
              <a:off x="1943280" y="115920"/>
              <a:ext cx="64450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相   关   史   事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3" descr="九一八031 复制"/>
          <p:cNvPicPr/>
          <p:nvPr/>
        </p:nvPicPr>
        <p:blipFill>
          <a:blip r:embed="rId1">
            <a:lum contrast="42000"/>
          </a:blip>
          <a:srcRect l="3256" t="2684" r="2845" b="1450"/>
          <a:stretch/>
        </p:blipFill>
        <p:spPr>
          <a:xfrm>
            <a:off x="250920" y="789120"/>
            <a:ext cx="8820000" cy="6068880"/>
          </a:xfrm>
          <a:prstGeom prst="rect">
            <a:avLst/>
          </a:prstGeom>
          <a:ln w="0">
            <a:noFill/>
          </a:ln>
        </p:spPr>
      </p:pic>
      <p:sp>
        <p:nvSpPr>
          <p:cNvPr id="225" name="Oval 4"/>
          <p:cNvSpPr/>
          <p:nvPr/>
        </p:nvSpPr>
        <p:spPr>
          <a:xfrm>
            <a:off x="3851280" y="1844640"/>
            <a:ext cx="1800360" cy="720720"/>
          </a:xfrm>
          <a:prstGeom prst="ellipse">
            <a:avLst/>
          </a:prstGeom>
          <a:noFill/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5"/>
          <p:cNvSpPr/>
          <p:nvPr/>
        </p:nvSpPr>
        <p:spPr>
          <a:xfrm>
            <a:off x="0" y="5457960"/>
            <a:ext cx="91440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琥珀"/>
                <a:ea typeface="华文琥珀"/>
              </a:rPr>
              <a:t>为给侵略战争制造借口，欺骗世界舆论</a:t>
            </a:r>
            <a:r>
              <a:rPr b="1" lang="en-US" sz="4000" spc="-1" strike="noStrike">
                <a:solidFill>
                  <a:srgbClr val="ffffff"/>
                </a:solidFill>
                <a:latin typeface="华文琥珀"/>
                <a:ea typeface="华文琥珀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7" name="组合 1"/>
          <p:cNvGrpSpPr/>
          <p:nvPr/>
        </p:nvGrpSpPr>
        <p:grpSpPr>
          <a:xfrm>
            <a:off x="698400" y="64080"/>
            <a:ext cx="6697080" cy="5731560"/>
            <a:chOff x="698400" y="64080"/>
            <a:chExt cx="6697080" cy="5731560"/>
          </a:xfrm>
        </p:grpSpPr>
        <p:sp>
          <p:nvSpPr>
            <p:cNvPr id="228" name="未知"/>
            <p:cNvSpPr/>
            <p:nvPr/>
          </p:nvSpPr>
          <p:spPr>
            <a:xfrm rot="10399200">
              <a:off x="971280" y="404640"/>
              <a:ext cx="6151320" cy="5050080"/>
            </a:xfrm>
            <a:custGeom>
              <a:avLst/>
              <a:gdLst>
                <a:gd name="textAreaLeft" fmla="*/ 0 w 6151320"/>
                <a:gd name="textAreaRight" fmla="*/ 6151680 w 6151320"/>
                <a:gd name="textAreaTop" fmla="*/ 0 h 5050080"/>
                <a:gd name="textAreaBottom" fmla="*/ 5050440 h 5050080"/>
              </a:gdLst>
              <a:ahLst/>
              <a:rect l="textAreaLeft" t="textAreaTop" r="textAreaRight" b="textAreaBottom"/>
              <a:pathLst>
                <a:path w="3831" h="1492">
                  <a:moveTo>
                    <a:pt x="271" y="118"/>
                  </a:moveTo>
                  <a:cubicBezTo>
                    <a:pt x="202" y="126"/>
                    <a:pt x="167" y="119"/>
                    <a:pt x="114" y="157"/>
                  </a:cubicBezTo>
                  <a:cubicBezTo>
                    <a:pt x="99" y="168"/>
                    <a:pt x="86" y="182"/>
                    <a:pt x="74" y="197"/>
                  </a:cubicBezTo>
                  <a:cubicBezTo>
                    <a:pt x="55" y="222"/>
                    <a:pt x="22" y="275"/>
                    <a:pt x="22" y="275"/>
                  </a:cubicBezTo>
                  <a:cubicBezTo>
                    <a:pt x="33" y="414"/>
                    <a:pt x="0" y="444"/>
                    <a:pt x="114" y="472"/>
                  </a:cubicBezTo>
                  <a:cubicBezTo>
                    <a:pt x="118" y="511"/>
                    <a:pt x="121" y="550"/>
                    <a:pt x="127" y="589"/>
                  </a:cubicBezTo>
                  <a:cubicBezTo>
                    <a:pt x="129" y="603"/>
                    <a:pt x="138" y="615"/>
                    <a:pt x="140" y="629"/>
                  </a:cubicBezTo>
                  <a:cubicBezTo>
                    <a:pt x="147" y="690"/>
                    <a:pt x="129" y="756"/>
                    <a:pt x="153" y="812"/>
                  </a:cubicBezTo>
                  <a:cubicBezTo>
                    <a:pt x="164" y="837"/>
                    <a:pt x="231" y="838"/>
                    <a:pt x="231" y="838"/>
                  </a:cubicBezTo>
                  <a:cubicBezTo>
                    <a:pt x="303" y="907"/>
                    <a:pt x="399" y="896"/>
                    <a:pt x="493" y="904"/>
                  </a:cubicBezTo>
                  <a:cubicBezTo>
                    <a:pt x="529" y="959"/>
                    <a:pt x="520" y="986"/>
                    <a:pt x="585" y="1008"/>
                  </a:cubicBezTo>
                  <a:cubicBezTo>
                    <a:pt x="2030" y="984"/>
                    <a:pt x="2084" y="1492"/>
                    <a:pt x="2208" y="864"/>
                  </a:cubicBezTo>
                  <a:cubicBezTo>
                    <a:pt x="2307" y="876"/>
                    <a:pt x="2367" y="900"/>
                    <a:pt x="2457" y="930"/>
                  </a:cubicBezTo>
                  <a:cubicBezTo>
                    <a:pt x="2552" y="962"/>
                    <a:pt x="2674" y="961"/>
                    <a:pt x="2771" y="969"/>
                  </a:cubicBezTo>
                  <a:cubicBezTo>
                    <a:pt x="2875" y="1004"/>
                    <a:pt x="2909" y="1020"/>
                    <a:pt x="3072" y="969"/>
                  </a:cubicBezTo>
                  <a:cubicBezTo>
                    <a:pt x="3098" y="961"/>
                    <a:pt x="3098" y="891"/>
                    <a:pt x="3098" y="891"/>
                  </a:cubicBezTo>
                  <a:cubicBezTo>
                    <a:pt x="3211" y="900"/>
                    <a:pt x="3364" y="941"/>
                    <a:pt x="3452" y="851"/>
                  </a:cubicBezTo>
                  <a:cubicBezTo>
                    <a:pt x="3462" y="821"/>
                    <a:pt x="3456" y="782"/>
                    <a:pt x="3478" y="760"/>
                  </a:cubicBezTo>
                  <a:cubicBezTo>
                    <a:pt x="3491" y="747"/>
                    <a:pt x="3513" y="751"/>
                    <a:pt x="3530" y="747"/>
                  </a:cubicBezTo>
                  <a:cubicBezTo>
                    <a:pt x="3556" y="756"/>
                    <a:pt x="3583" y="764"/>
                    <a:pt x="3609" y="773"/>
                  </a:cubicBezTo>
                  <a:cubicBezTo>
                    <a:pt x="3622" y="777"/>
                    <a:pt x="3648" y="786"/>
                    <a:pt x="3648" y="786"/>
                  </a:cubicBezTo>
                  <a:cubicBezTo>
                    <a:pt x="3718" y="699"/>
                    <a:pt x="3692" y="747"/>
                    <a:pt x="3727" y="642"/>
                  </a:cubicBezTo>
                  <a:cubicBezTo>
                    <a:pt x="3744" y="592"/>
                    <a:pt x="3725" y="530"/>
                    <a:pt x="3753" y="485"/>
                  </a:cubicBezTo>
                  <a:cubicBezTo>
                    <a:pt x="3762" y="470"/>
                    <a:pt x="3788" y="476"/>
                    <a:pt x="3805" y="472"/>
                  </a:cubicBezTo>
                  <a:cubicBezTo>
                    <a:pt x="3814" y="454"/>
                    <a:pt x="3831" y="439"/>
                    <a:pt x="3831" y="419"/>
                  </a:cubicBezTo>
                  <a:cubicBezTo>
                    <a:pt x="3831" y="364"/>
                    <a:pt x="3768" y="340"/>
                    <a:pt x="3727" y="328"/>
                  </a:cubicBezTo>
                  <a:cubicBezTo>
                    <a:pt x="3584" y="288"/>
                    <a:pt x="3546" y="285"/>
                    <a:pt x="3373" y="275"/>
                  </a:cubicBezTo>
                  <a:cubicBezTo>
                    <a:pt x="3326" y="181"/>
                    <a:pt x="3292" y="189"/>
                    <a:pt x="3203" y="157"/>
                  </a:cubicBezTo>
                  <a:cubicBezTo>
                    <a:pt x="3014" y="165"/>
                    <a:pt x="2904" y="121"/>
                    <a:pt x="2771" y="210"/>
                  </a:cubicBezTo>
                  <a:cubicBezTo>
                    <a:pt x="2762" y="192"/>
                    <a:pt x="2759" y="171"/>
                    <a:pt x="2745" y="157"/>
                  </a:cubicBezTo>
                  <a:cubicBezTo>
                    <a:pt x="2716" y="128"/>
                    <a:pt x="2626" y="107"/>
                    <a:pt x="2588" y="105"/>
                  </a:cubicBezTo>
                  <a:cubicBezTo>
                    <a:pt x="2448" y="98"/>
                    <a:pt x="2309" y="96"/>
                    <a:pt x="2169" y="92"/>
                  </a:cubicBezTo>
                  <a:cubicBezTo>
                    <a:pt x="2047" y="61"/>
                    <a:pt x="2087" y="66"/>
                    <a:pt x="1868" y="92"/>
                  </a:cubicBezTo>
                  <a:cubicBezTo>
                    <a:pt x="1840" y="95"/>
                    <a:pt x="1789" y="118"/>
                    <a:pt x="1789" y="118"/>
                  </a:cubicBezTo>
                  <a:cubicBezTo>
                    <a:pt x="1653" y="107"/>
                    <a:pt x="1634" y="125"/>
                    <a:pt x="1527" y="53"/>
                  </a:cubicBezTo>
                  <a:cubicBezTo>
                    <a:pt x="1514" y="44"/>
                    <a:pt x="1502" y="33"/>
                    <a:pt x="1488" y="27"/>
                  </a:cubicBezTo>
                  <a:cubicBezTo>
                    <a:pt x="1463" y="16"/>
                    <a:pt x="1410" y="0"/>
                    <a:pt x="1410" y="0"/>
                  </a:cubicBezTo>
                  <a:cubicBezTo>
                    <a:pt x="1254" y="104"/>
                    <a:pt x="1180" y="73"/>
                    <a:pt x="951" y="92"/>
                  </a:cubicBezTo>
                  <a:cubicBezTo>
                    <a:pt x="852" y="291"/>
                    <a:pt x="583" y="134"/>
                    <a:pt x="415" y="92"/>
                  </a:cubicBezTo>
                  <a:cubicBezTo>
                    <a:pt x="377" y="68"/>
                    <a:pt x="304" y="20"/>
                    <a:pt x="258" y="66"/>
                  </a:cubicBezTo>
                  <a:cubicBezTo>
                    <a:pt x="245" y="79"/>
                    <a:pt x="267" y="101"/>
                    <a:pt x="271" y="118"/>
                  </a:cubicBezTo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Text Box 7"/>
            <p:cNvSpPr/>
            <p:nvPr/>
          </p:nvSpPr>
          <p:spPr>
            <a:xfrm>
              <a:off x="1688040" y="2519640"/>
              <a:ext cx="534744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日本侵略军侵略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中国东北，为什么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先制造柳条湖事件呢？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0" name="Picture 8" descr="12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500720" y="1773360"/>
            <a:ext cx="676080" cy="952200"/>
          </a:xfrm>
          <a:prstGeom prst="rect">
            <a:avLst/>
          </a:prstGeom>
          <a:ln w="0">
            <a:noFill/>
          </a:ln>
        </p:spPr>
      </p:pic>
      <p:grpSp>
        <p:nvGrpSpPr>
          <p:cNvPr id="231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232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0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Text Box 3"/>
          <p:cNvSpPr/>
          <p:nvPr/>
        </p:nvSpPr>
        <p:spPr>
          <a:xfrm>
            <a:off x="395280" y="4076640"/>
            <a:ext cx="7848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黑体"/>
              </a:rPr>
              <a:t>　</a:t>
            </a:r>
            <a:r>
              <a:rPr b="1" lang="zh-CN" sz="4800" spc="-1" strike="noStrike">
                <a:solidFill>
                  <a:srgbClr val="000099"/>
                </a:solidFill>
                <a:latin typeface="Times New Roman"/>
                <a:ea typeface="黑体"/>
              </a:rPr>
              <a:t>　这说明蒋介石对日本的侵略采取什么政策？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2698920" y="5661000"/>
            <a:ext cx="5833800" cy="1008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华文琥珀"/>
                <a:ea typeface="华文琥珀"/>
              </a:rPr>
              <a:t>不抵抗政策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AutoShape 5"/>
          <p:cNvSpPr/>
          <p:nvPr/>
        </p:nvSpPr>
        <p:spPr>
          <a:xfrm>
            <a:off x="108000" y="907920"/>
            <a:ext cx="7848720" cy="3168720"/>
          </a:xfrm>
          <a:prstGeom prst="flowChartAlternateProcess">
            <a:avLst/>
          </a:prstGeom>
          <a:solidFill>
            <a:srgbClr val="4f81bd"/>
          </a:solidFill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Times New Roman"/>
                <a:ea typeface="隶书"/>
              </a:rPr>
              <a:t>        </a:t>
            </a: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隶书"/>
              </a:rPr>
              <a:t>无论日本军队此后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隶书"/>
              </a:rPr>
              <a:t>何在东北寻衅，我方应予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00"/>
                </a:solidFill>
                <a:latin typeface="Times New Roman"/>
                <a:ea typeface="隶书"/>
              </a:rPr>
              <a:t>不抵抗，力避冲突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800000"/>
                </a:solidFill>
                <a:latin typeface="Times New Roman"/>
              </a:rPr>
              <a:t>　</a:t>
            </a:r>
            <a:r>
              <a:rPr b="0" lang="en-US" sz="4800" spc="-1" strike="noStrike">
                <a:solidFill>
                  <a:srgbClr val="800000"/>
                </a:solidFill>
                <a:latin typeface="华文琥珀"/>
                <a:ea typeface="华文琥珀"/>
              </a:rPr>
              <a:t>——</a:t>
            </a:r>
            <a:r>
              <a:rPr b="0" lang="zh-CN" sz="4400" spc="-1" strike="noStrike">
                <a:solidFill>
                  <a:srgbClr val="800000"/>
                </a:solidFill>
                <a:latin typeface="华文琥珀"/>
                <a:ea typeface="华文琥珀"/>
              </a:rPr>
              <a:t>蒋介石给张学良密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Picture 6" descr="shou"/>
          <p:cNvPicPr/>
          <p:nvPr/>
        </p:nvPicPr>
        <p:blipFill>
          <a:blip r:embed="rId1"/>
          <a:stretch/>
        </p:blipFill>
        <p:spPr>
          <a:xfrm>
            <a:off x="7246800" y="836640"/>
            <a:ext cx="1897200" cy="2663640"/>
          </a:xfrm>
          <a:prstGeom prst="rect">
            <a:avLst/>
          </a:prstGeom>
          <a:ln w="0">
            <a:noFill/>
          </a:ln>
        </p:spPr>
      </p:pic>
      <p:grpSp>
        <p:nvGrpSpPr>
          <p:cNvPr id="238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239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77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3" dur="770" fill="hold"/>
                                        <p:tgtEl>
                                          <p:spTgt spid="23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5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1" name="Group 2"/>
          <p:cNvGrpSpPr/>
          <p:nvPr/>
        </p:nvGrpSpPr>
        <p:grpSpPr>
          <a:xfrm>
            <a:off x="826920" y="822240"/>
            <a:ext cx="6697800" cy="5953320"/>
            <a:chOff x="826920" y="822240"/>
            <a:chExt cx="6697800" cy="5953320"/>
          </a:xfrm>
        </p:grpSpPr>
        <p:pic>
          <p:nvPicPr>
            <p:cNvPr id="242" name="Picture 3" descr="九一八01"/>
            <p:cNvPicPr/>
            <p:nvPr/>
          </p:nvPicPr>
          <p:blipFill>
            <a:blip r:embed="rId1"/>
            <a:srcRect l="2749" t="2203" r="2749" b="3690"/>
            <a:stretch/>
          </p:blipFill>
          <p:spPr>
            <a:xfrm>
              <a:off x="826920" y="822240"/>
              <a:ext cx="6697800" cy="5953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Picture 4" descr="九一八01"/>
            <p:cNvPicPr/>
            <p:nvPr/>
          </p:nvPicPr>
          <p:blipFill>
            <a:blip r:embed="rId2"/>
            <a:srcRect l="63572" t="5154" r="4617" b="82171"/>
            <a:stretch/>
          </p:blipFill>
          <p:spPr>
            <a:xfrm>
              <a:off x="842760" y="952560"/>
              <a:ext cx="2454120" cy="801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4" name="Picture 5" descr="未标题-1 复制"/>
          <p:cNvPicPr/>
          <p:nvPr/>
        </p:nvPicPr>
        <p:blipFill>
          <a:blip r:embed="rId3"/>
          <a:stretch/>
        </p:blipFill>
        <p:spPr>
          <a:xfrm>
            <a:off x="1763640" y="836640"/>
            <a:ext cx="5616720" cy="58323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6"/>
          <p:cNvSpPr/>
          <p:nvPr/>
        </p:nvSpPr>
        <p:spPr>
          <a:xfrm>
            <a:off x="2309400" y="981000"/>
            <a:ext cx="219132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华文琥珀"/>
                <a:ea typeface="华文琥珀"/>
              </a:rPr>
              <a:t>东北三省沦陷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6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247" name="Picture 5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0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9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Picture 2" descr="在辽宁铁岭龙尾山，日军刺杀我幼童之后，集薪待焚"/>
          <p:cNvPicPr/>
          <p:nvPr/>
        </p:nvPicPr>
        <p:blipFill>
          <a:blip r:embed="rId1"/>
          <a:stretch/>
        </p:blipFill>
        <p:spPr>
          <a:xfrm>
            <a:off x="57240" y="1546200"/>
            <a:ext cx="4654440" cy="202716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3" descr="日军虐杀中国平民"/>
          <p:cNvPicPr/>
          <p:nvPr/>
        </p:nvPicPr>
        <p:blipFill>
          <a:blip r:embed="rId2"/>
          <a:stretch/>
        </p:blipFill>
        <p:spPr>
          <a:xfrm>
            <a:off x="4711680" y="808200"/>
            <a:ext cx="4267080" cy="26874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4" descr="日军对中国平民的大屠杀"/>
          <p:cNvPicPr/>
          <p:nvPr/>
        </p:nvPicPr>
        <p:blipFill>
          <a:blip r:embed="rId3"/>
          <a:stretch/>
        </p:blipFill>
        <p:spPr>
          <a:xfrm>
            <a:off x="-19080" y="3505320"/>
            <a:ext cx="2960640" cy="33526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5" descr="日军残杀东北义勇军"/>
          <p:cNvPicPr/>
          <p:nvPr/>
        </p:nvPicPr>
        <p:blipFill>
          <a:blip r:embed="rId4"/>
          <a:stretch/>
        </p:blipFill>
        <p:spPr>
          <a:xfrm>
            <a:off x="3747960" y="4086360"/>
            <a:ext cx="4137120" cy="274320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7"/>
          <p:cNvSpPr/>
          <p:nvPr/>
        </p:nvSpPr>
        <p:spPr>
          <a:xfrm>
            <a:off x="4932360" y="3429000"/>
            <a:ext cx="310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日军虐杀中国平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8"/>
          <p:cNvSpPr/>
          <p:nvPr/>
        </p:nvSpPr>
        <p:spPr>
          <a:xfrm>
            <a:off x="762120" y="4038480"/>
            <a:ext cx="35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 Box 9"/>
          <p:cNvSpPr/>
          <p:nvPr/>
        </p:nvSpPr>
        <p:spPr>
          <a:xfrm>
            <a:off x="263520" y="765000"/>
            <a:ext cx="429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在辽宁铁岭龙尾山，日军刺杀我幼童之后，集薪待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Text Box 10"/>
          <p:cNvSpPr/>
          <p:nvPr/>
        </p:nvSpPr>
        <p:spPr>
          <a:xfrm>
            <a:off x="3747960" y="4876920"/>
            <a:ext cx="671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Text Box 11"/>
          <p:cNvSpPr/>
          <p:nvPr/>
        </p:nvSpPr>
        <p:spPr>
          <a:xfrm>
            <a:off x="3057480" y="3548160"/>
            <a:ext cx="68580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299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日军对中国平民的大屠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文本框 1"/>
          <p:cNvSpPr/>
          <p:nvPr/>
        </p:nvSpPr>
        <p:spPr>
          <a:xfrm>
            <a:off x="7964640" y="3236400"/>
            <a:ext cx="546120" cy="40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日军残杀东北义勇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9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260" name="Picture 5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8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63" name="矩形 1" descr=""/>
          <p:cNvPicPr/>
          <p:nvPr/>
        </p:nvPicPr>
        <p:blipFill>
          <a:blip r:embed="rId2"/>
          <a:stretch/>
        </p:blipFill>
        <p:spPr>
          <a:xfrm>
            <a:off x="1542960" y="549360"/>
            <a:ext cx="6265800" cy="1236600"/>
          </a:xfrm>
          <a:prstGeom prst="rect">
            <a:avLst/>
          </a:prstGeom>
          <a:ln w="0">
            <a:noFill/>
          </a:ln>
        </p:spPr>
      </p:pic>
      <p:sp>
        <p:nvSpPr>
          <p:cNvPr id="264" name="文本框 11"/>
          <p:cNvSpPr/>
          <p:nvPr/>
        </p:nvSpPr>
        <p:spPr>
          <a:xfrm>
            <a:off x="4430520" y="183204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、伪满洲国的建立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矩形 3"/>
          <p:cNvSpPr/>
          <p:nvPr/>
        </p:nvSpPr>
        <p:spPr>
          <a:xfrm>
            <a:off x="5254560" y="2637000"/>
            <a:ext cx="37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黑体"/>
                <a:ea typeface="黑体"/>
              </a:rPr>
              <a:t>1932</a:t>
            </a:r>
            <a:r>
              <a:rPr b="1" lang="zh-CN" sz="3600" spc="-1" strike="noStrike">
                <a:solidFill>
                  <a:srgbClr val="000066"/>
                </a:solidFill>
                <a:latin typeface="黑体"/>
                <a:ea typeface="黑体"/>
              </a:rPr>
              <a:t>年春，日本扶植早已退位的清朝末代皇帝溥仪，在长春建立伪满洲国，企图把东北从中国分裂出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267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9" name="Picture 5" descr="t01b1003c0f54f4109a"/>
          <p:cNvPicPr/>
          <p:nvPr/>
        </p:nvPicPr>
        <p:blipFill>
          <a:blip r:embed="rId4"/>
          <a:stretch/>
        </p:blipFill>
        <p:spPr>
          <a:xfrm>
            <a:off x="0" y="2602080"/>
            <a:ext cx="5111640" cy="42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8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71" name="矩形 2" descr=""/>
          <p:cNvPicPr/>
          <p:nvPr/>
        </p:nvPicPr>
        <p:blipFill>
          <a:blip r:embed="rId2"/>
          <a:stretch/>
        </p:blipFill>
        <p:spPr>
          <a:xfrm>
            <a:off x="1542960" y="549360"/>
            <a:ext cx="6265800" cy="1236600"/>
          </a:xfrm>
          <a:prstGeom prst="rect">
            <a:avLst/>
          </a:prstGeom>
          <a:ln w="0">
            <a:noFill/>
          </a:ln>
        </p:spPr>
      </p:pic>
      <p:sp>
        <p:nvSpPr>
          <p:cNvPr id="272" name="文本框 11"/>
          <p:cNvSpPr/>
          <p:nvPr/>
        </p:nvSpPr>
        <p:spPr>
          <a:xfrm>
            <a:off x="2764440" y="1700280"/>
            <a:ext cx="355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5</a:t>
            </a: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、一</a:t>
            </a: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.</a:t>
            </a: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二八事变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3" name="Group 6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274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Text Box 22"/>
            <p:cNvSpPr/>
            <p:nvPr/>
          </p:nvSpPr>
          <p:spPr>
            <a:xfrm>
              <a:off x="2160720" y="115920"/>
              <a:ext cx="6156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相   关   史   事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6" name="文本框 9"/>
          <p:cNvSpPr/>
          <p:nvPr/>
        </p:nvSpPr>
        <p:spPr>
          <a:xfrm>
            <a:off x="740880" y="264492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华文彩云"/>
                <a:ea typeface="华文彩云"/>
              </a:rPr>
              <a:t>时间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文本框 9"/>
          <p:cNvSpPr/>
          <p:nvPr/>
        </p:nvSpPr>
        <p:spPr>
          <a:xfrm>
            <a:off x="702720" y="350028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华文彩云"/>
                <a:ea typeface="华文彩云"/>
              </a:rPr>
              <a:t>人物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文本框 9"/>
          <p:cNvSpPr/>
          <p:nvPr/>
        </p:nvSpPr>
        <p:spPr>
          <a:xfrm>
            <a:off x="740880" y="508464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华文彩云"/>
                <a:ea typeface="华文彩云"/>
              </a:rPr>
              <a:t>结果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10"/>
          <p:cNvSpPr/>
          <p:nvPr/>
        </p:nvSpPr>
        <p:spPr>
          <a:xfrm>
            <a:off x="1957320" y="2637000"/>
            <a:ext cx="420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932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28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11"/>
          <p:cNvSpPr/>
          <p:nvPr/>
        </p:nvSpPr>
        <p:spPr>
          <a:xfrm>
            <a:off x="4441680" y="4292640"/>
            <a:ext cx="436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蒋光鼐、蔡廷锴国民党第十九路军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矩形 12"/>
          <p:cNvSpPr/>
          <p:nvPr/>
        </p:nvSpPr>
        <p:spPr>
          <a:xfrm>
            <a:off x="2251800" y="5732640"/>
            <a:ext cx="4886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中日双方签订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淞沪停战协定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2" descr=""/>
          <p:cNvPicPr/>
          <p:nvPr/>
        </p:nvPicPr>
        <p:blipFill>
          <a:blip r:embed="rId1"/>
          <a:stretch/>
        </p:blipFill>
        <p:spPr>
          <a:xfrm>
            <a:off x="216000" y="863640"/>
            <a:ext cx="8820000" cy="5864040"/>
          </a:xfrm>
          <a:prstGeom prst="rect">
            <a:avLst/>
          </a:prstGeom>
          <a:ln w="0">
            <a:noFill/>
          </a:ln>
        </p:spPr>
      </p:pic>
      <p:grpSp>
        <p:nvGrpSpPr>
          <p:cNvPr id="283" name="Group 6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284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22"/>
            <p:cNvSpPr/>
            <p:nvPr/>
          </p:nvSpPr>
          <p:spPr>
            <a:xfrm>
              <a:off x="2160720" y="115920"/>
              <a:ext cx="6156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相   关   史   事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12"/>
          <p:cNvSpPr/>
          <p:nvPr/>
        </p:nvSpPr>
        <p:spPr>
          <a:xfrm>
            <a:off x="108000" y="2421000"/>
            <a:ext cx="90360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九一八事变激起了全国人民的抗日怒潮。东北民众与未撤走的东北军组织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抗日义勇军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，抵抗日寇的侵略。中国共产党派杨靖宇等人在东北组织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游击队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，开展抗日游击战争。</a:t>
            </a:r>
            <a:r>
              <a:rPr b="1" lang="en-US" sz="4000" spc="-1" strike="noStrike">
                <a:solidFill>
                  <a:srgbClr val="c00000"/>
                </a:solidFill>
                <a:latin typeface="黑体"/>
                <a:ea typeface="黑体"/>
              </a:rPr>
              <a:t>1936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年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初，东北各抗日部队改编为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东北抗日联军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AutoShape 26"/>
          <p:cNvSpPr/>
          <p:nvPr/>
        </p:nvSpPr>
        <p:spPr>
          <a:xfrm rot="10674000">
            <a:off x="3961800" y="3429000"/>
            <a:ext cx="223560" cy="914400"/>
          </a:xfrm>
          <a:custGeom>
            <a:avLst/>
            <a:gdLst>
              <a:gd name="textAreaLeft" fmla="*/ 142920 w 223560"/>
              <a:gd name="textAreaRight" fmla="*/ 223920 w 22356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220"/>
                </a:lnTo>
                <a:cubicBezTo>
                  <a:pt x="10800" y="9120"/>
                  <a:pt x="5400" y="10020"/>
                  <a:pt x="0" y="10020"/>
                </a:cubicBezTo>
                <a:cubicBezTo>
                  <a:pt x="5400" y="10020"/>
                  <a:pt x="10800" y="10920"/>
                  <a:pt x="10800" y="1182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8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289" name="矩形 12" descr=""/>
          <p:cNvPicPr/>
          <p:nvPr/>
        </p:nvPicPr>
        <p:blipFill>
          <a:blip r:embed="rId2"/>
          <a:stretch/>
        </p:blipFill>
        <p:spPr>
          <a:xfrm>
            <a:off x="1542960" y="549360"/>
            <a:ext cx="6265800" cy="1236600"/>
          </a:xfrm>
          <a:prstGeom prst="rect">
            <a:avLst/>
          </a:prstGeom>
          <a:ln w="0">
            <a:noFill/>
          </a:ln>
        </p:spPr>
      </p:pic>
      <p:sp>
        <p:nvSpPr>
          <p:cNvPr id="290" name="文本框 11"/>
          <p:cNvSpPr/>
          <p:nvPr/>
        </p:nvSpPr>
        <p:spPr>
          <a:xfrm>
            <a:off x="4302000" y="170028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6</a:t>
            </a: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、中国人民的局部抗战开始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Group 6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292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Text Box 22"/>
            <p:cNvSpPr/>
            <p:nvPr/>
          </p:nvSpPr>
          <p:spPr>
            <a:xfrm>
              <a:off x="2160720" y="115920"/>
              <a:ext cx="6156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相   关   史   事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15"/>
          <p:cNvGrpSpPr/>
          <p:nvPr/>
        </p:nvGrpSpPr>
        <p:grpSpPr>
          <a:xfrm>
            <a:off x="325440" y="880920"/>
            <a:ext cx="3309480" cy="2727000"/>
            <a:chOff x="325440" y="880920"/>
            <a:chExt cx="3309480" cy="2727000"/>
          </a:xfrm>
        </p:grpSpPr>
        <p:pic>
          <p:nvPicPr>
            <p:cNvPr id="295" name="Picture 5" descr="yangjingyu"/>
            <p:cNvPicPr/>
            <p:nvPr/>
          </p:nvPicPr>
          <p:blipFill>
            <a:blip r:embed="rId1"/>
            <a:stretch/>
          </p:blipFill>
          <p:spPr>
            <a:xfrm>
              <a:off x="325440" y="880920"/>
              <a:ext cx="2504160" cy="272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Text Box 6"/>
            <p:cNvSpPr/>
            <p:nvPr/>
          </p:nvSpPr>
          <p:spPr>
            <a:xfrm>
              <a:off x="2834640" y="1004760"/>
              <a:ext cx="800280" cy="21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0000"/>
                  </a:solidFill>
                  <a:latin typeface="Arial"/>
                  <a:ea typeface="隶书"/>
                </a:rPr>
                <a:t>杨靖宇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97" name="Group 16"/>
          <p:cNvGrpSpPr/>
          <p:nvPr/>
        </p:nvGrpSpPr>
        <p:grpSpPr>
          <a:xfrm>
            <a:off x="34920" y="3459240"/>
            <a:ext cx="8856360" cy="3398760"/>
            <a:chOff x="34920" y="3459240"/>
            <a:chExt cx="8856360" cy="3398760"/>
          </a:xfrm>
        </p:grpSpPr>
        <p:pic>
          <p:nvPicPr>
            <p:cNvPr id="298" name="Picture 8" descr="杨靖宇将军牺牲后，敌人残暴地用铡刀铡下他的头颅，剖开他的腹部，发现胃中没有一粒粮食，全是草根、树皮、棉絮时，使在场的日军极为震惊。他们惊呼：“杨靖宇是头颅构造特殊的人物，中国的大大的英雄。”"/>
            <p:cNvPicPr/>
            <p:nvPr/>
          </p:nvPicPr>
          <p:blipFill>
            <a:blip r:embed="rId2"/>
            <a:stretch/>
          </p:blipFill>
          <p:spPr>
            <a:xfrm>
              <a:off x="34920" y="3459240"/>
              <a:ext cx="3495960" cy="33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Text Box 9"/>
            <p:cNvSpPr/>
            <p:nvPr/>
          </p:nvSpPr>
          <p:spPr>
            <a:xfrm>
              <a:off x="3530880" y="3573360"/>
              <a:ext cx="53604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  <a:ea typeface="黑体"/>
                </a:rPr>
                <a:t>杨靖宇牺牲后，日军残忍的割下他的头颅，剖开他的腹部，在胃里没有找到一粒粮食，只有未消化的草根与棉絮。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WordArt 17"/>
          <p:cNvSpPr txBox="1"/>
          <p:nvPr/>
        </p:nvSpPr>
        <p:spPr>
          <a:xfrm>
            <a:off x="4097160" y="1197000"/>
            <a:ext cx="4435560" cy="165564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38160">
                  <a:solidFill>
                    <a:srgbClr val="ffff00"/>
                  </a:solidFill>
                  <a:miter/>
                </a:ln>
                <a:solidFill>
                  <a:srgbClr val="c000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隶书"/>
              </a:rPr>
              <a:t>烈士英魂永存</a:t>
            </a:r>
            <a:endParaRPr b="1" lang="en-US" sz="5400" spc="1" strike="noStrike">
              <a:ln w="38160">
                <a:solidFill>
                  <a:srgbClr val="ffff00"/>
                </a:solidFill>
                <a:miter/>
              </a:ln>
              <a:solidFill>
                <a:srgbClr val="c000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301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302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2c3134b2c14974e4d8335a76"/>
          <p:cNvPicPr/>
          <p:nvPr/>
        </p:nvPicPr>
        <p:blipFill>
          <a:blip r:embed="rId1"/>
          <a:stretch/>
        </p:blipFill>
        <p:spPr>
          <a:xfrm>
            <a:off x="-36360" y="836640"/>
            <a:ext cx="9180360" cy="5975280"/>
          </a:xfrm>
          <a:prstGeom prst="rect">
            <a:avLst/>
          </a:prstGeom>
          <a:ln w="0">
            <a:noFill/>
          </a:ln>
        </p:spPr>
      </p:pic>
      <p:pic>
        <p:nvPicPr>
          <p:cNvPr id="136" name="Text Box 22" descr=""/>
          <p:cNvPicPr/>
          <p:nvPr/>
        </p:nvPicPr>
        <p:blipFill>
          <a:blip r:embed="rId2"/>
          <a:stretch/>
        </p:blipFill>
        <p:spPr>
          <a:xfrm>
            <a:off x="-103320" y="579600"/>
            <a:ext cx="9399600" cy="10238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2" descr=""/>
          <p:cNvPicPr/>
          <p:nvPr/>
        </p:nvPicPr>
        <p:blipFill>
          <a:blip r:embed="rId3"/>
          <a:stretch/>
        </p:blipFill>
        <p:spPr>
          <a:xfrm>
            <a:off x="-34920" y="-27000"/>
            <a:ext cx="9178920" cy="836640"/>
          </a:xfrm>
          <a:prstGeom prst="rect">
            <a:avLst/>
          </a:prstGeom>
          <a:ln w="0">
            <a:noFill/>
          </a:ln>
        </p:spPr>
      </p:pic>
      <p:pic>
        <p:nvPicPr>
          <p:cNvPr id="138" name="矩形 3" descr=""/>
          <p:cNvPicPr/>
          <p:nvPr/>
        </p:nvPicPr>
        <p:blipFill>
          <a:blip r:embed="rId4"/>
          <a:stretch/>
        </p:blipFill>
        <p:spPr>
          <a:xfrm>
            <a:off x="2225520" y="19080"/>
            <a:ext cx="6802560" cy="74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8" descr="http://hiphotos.baidu.com/kanglian0451/pic/item/50d539f192edd48b0b46e021.jpg"/>
          <p:cNvPicPr/>
          <p:nvPr/>
        </p:nvPicPr>
        <p:blipFill>
          <a:blip r:embed="rId1"/>
          <a:stretch/>
        </p:blipFill>
        <p:spPr>
          <a:xfrm>
            <a:off x="12600" y="820800"/>
            <a:ext cx="9128160" cy="3976560"/>
          </a:xfrm>
          <a:prstGeom prst="rect">
            <a:avLst/>
          </a:prstGeom>
          <a:ln w="0">
            <a:noFill/>
          </a:ln>
        </p:spPr>
      </p:pic>
      <p:sp>
        <p:nvSpPr>
          <p:cNvPr id="305" name="TextBox 3"/>
          <p:cNvSpPr/>
          <p:nvPr/>
        </p:nvSpPr>
        <p:spPr>
          <a:xfrm>
            <a:off x="395280" y="4869000"/>
            <a:ext cx="8569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“</a:t>
            </a:r>
            <a:r>
              <a:rPr b="0" lang="zh-CN" sz="4800" spc="-1" strike="noStrike">
                <a:solidFill>
                  <a:srgbClr val="ff0000"/>
                </a:solidFill>
                <a:latin typeface="华文琥珀"/>
                <a:ea typeface="华文琥珀"/>
              </a:rPr>
              <a:t>八女投江”的事迹更显示了抗联战士视死如归的英雄气节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4479840" y="540072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7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30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0" name="Group 9"/>
          <p:cNvGrpSpPr/>
          <p:nvPr/>
        </p:nvGrpSpPr>
        <p:grpSpPr>
          <a:xfrm>
            <a:off x="684360" y="844560"/>
            <a:ext cx="8351640" cy="5916600"/>
            <a:chOff x="684360" y="844560"/>
            <a:chExt cx="8351640" cy="5916600"/>
          </a:xfrm>
        </p:grpSpPr>
        <p:pic>
          <p:nvPicPr>
            <p:cNvPr id="311" name="Picture 10" descr="九一八01"/>
            <p:cNvPicPr/>
            <p:nvPr/>
          </p:nvPicPr>
          <p:blipFill>
            <a:blip r:embed="rId1">
              <a:lum contrast="24000"/>
            </a:blip>
            <a:srcRect l="2749" t="2203" r="2749" b="3690"/>
            <a:stretch/>
          </p:blipFill>
          <p:spPr>
            <a:xfrm>
              <a:off x="684360" y="844560"/>
              <a:ext cx="8351640" cy="591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11" descr="九一八01"/>
            <p:cNvPicPr/>
            <p:nvPr/>
          </p:nvPicPr>
          <p:blipFill>
            <a:blip r:embed="rId2">
              <a:lum contrast="24000"/>
            </a:blip>
            <a:srcRect l="63572" t="5154" r="4617" b="82171"/>
            <a:stretch/>
          </p:blipFill>
          <p:spPr>
            <a:xfrm>
              <a:off x="826920" y="979920"/>
              <a:ext cx="2952000" cy="65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3" name="Text Box 2"/>
          <p:cNvSpPr/>
          <p:nvPr/>
        </p:nvSpPr>
        <p:spPr>
          <a:xfrm>
            <a:off x="34920" y="920880"/>
            <a:ext cx="91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中华民族到了最危险的时刻”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 Box 8"/>
          <p:cNvSpPr/>
          <p:nvPr/>
        </p:nvSpPr>
        <p:spPr>
          <a:xfrm>
            <a:off x="1816200" y="29527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 Box 12"/>
          <p:cNvSpPr/>
          <p:nvPr/>
        </p:nvSpPr>
        <p:spPr>
          <a:xfrm>
            <a:off x="2463840" y="511344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AutoShape 13"/>
          <p:cNvSpPr/>
          <p:nvPr/>
        </p:nvSpPr>
        <p:spPr>
          <a:xfrm rot="2128800">
            <a:off x="-468000" y="2862360"/>
            <a:ext cx="6997680" cy="2798640"/>
          </a:xfrm>
          <a:prstGeom prst="irregularSeal2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黑体"/>
                <a:ea typeface="黑体"/>
              </a:rPr>
              <a:t>华北危急</a:t>
            </a:r>
            <a:r>
              <a:rPr b="1" lang="zh-CN" sz="6000" spc="-1" strike="noStrike">
                <a:solidFill>
                  <a:srgbClr val="0066ff"/>
                </a:solidFill>
                <a:latin typeface="黑体"/>
                <a:ea typeface="黑体"/>
              </a:rPr>
              <a:t>！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 Box 14"/>
          <p:cNvSpPr/>
          <p:nvPr/>
        </p:nvSpPr>
        <p:spPr>
          <a:xfrm>
            <a:off x="3327480" y="424800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Group 15"/>
          <p:cNvGrpSpPr/>
          <p:nvPr/>
        </p:nvGrpSpPr>
        <p:grpSpPr>
          <a:xfrm>
            <a:off x="1667160" y="4853160"/>
            <a:ext cx="2224080" cy="1762560"/>
            <a:chOff x="1667160" y="4853160"/>
            <a:chExt cx="2224080" cy="1762560"/>
          </a:xfrm>
        </p:grpSpPr>
        <p:sp>
          <p:nvSpPr>
            <p:cNvPr id="319" name="未知"/>
            <p:cNvSpPr/>
            <p:nvPr/>
          </p:nvSpPr>
          <p:spPr>
            <a:xfrm rot="20983800">
              <a:off x="1711440" y="4995360"/>
              <a:ext cx="1655640" cy="647640"/>
            </a:xfrm>
            <a:custGeom>
              <a:avLst/>
              <a:gdLst>
                <a:gd name="textAreaLeft" fmla="*/ 0 w 1655640"/>
                <a:gd name="textAreaRight" fmla="*/ 1656000 w 1655640"/>
                <a:gd name="textAreaTop" fmla="*/ 0 h 647640"/>
                <a:gd name="textAreaBottom" fmla="*/ 648000 h 647640"/>
              </a:gdLst>
              <a:ahLst/>
              <a:rect l="textAreaLeft" t="textAreaTop" r="textAreaRight" b="textAreaBottom"/>
              <a:pathLst>
                <a:path w="862" h="408">
                  <a:moveTo>
                    <a:pt x="816" y="0"/>
                  </a:moveTo>
                  <a:lnTo>
                    <a:pt x="227" y="181"/>
                  </a:lnTo>
                  <a:lnTo>
                    <a:pt x="272" y="0"/>
                  </a:lnTo>
                  <a:lnTo>
                    <a:pt x="0" y="317"/>
                  </a:lnTo>
                  <a:lnTo>
                    <a:pt x="317" y="408"/>
                  </a:lnTo>
                  <a:lnTo>
                    <a:pt x="227" y="317"/>
                  </a:lnTo>
                  <a:lnTo>
                    <a:pt x="862" y="317"/>
                  </a:lnTo>
                  <a:lnTo>
                    <a:pt x="816" y="0"/>
                  </a:lnTo>
                  <a:close/>
                </a:path>
              </a:pathLst>
            </a:custGeom>
            <a:solidFill>
              <a:srgbClr val="1f497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未知"/>
            <p:cNvSpPr/>
            <p:nvPr/>
          </p:nvSpPr>
          <p:spPr>
            <a:xfrm rot="20605800">
              <a:off x="2498760" y="5487480"/>
              <a:ext cx="1281240" cy="965160"/>
            </a:xfrm>
            <a:custGeom>
              <a:avLst/>
              <a:gdLst>
                <a:gd name="textAreaLeft" fmla="*/ 0 w 1281240"/>
                <a:gd name="textAreaRight" fmla="*/ 1281600 w 1281240"/>
                <a:gd name="textAreaTop" fmla="*/ 0 h 965160"/>
                <a:gd name="textAreaBottom" fmla="*/ 965160 h 965160"/>
              </a:gdLst>
              <a:ahLst/>
              <a:rect l="textAreaLeft" t="textAreaTop" r="textAreaRight" b="textAreaBottom"/>
              <a:pathLst>
                <a:path w="590" h="590">
                  <a:moveTo>
                    <a:pt x="454" y="0"/>
                  </a:moveTo>
                  <a:lnTo>
                    <a:pt x="182" y="363"/>
                  </a:lnTo>
                  <a:lnTo>
                    <a:pt x="182" y="137"/>
                  </a:lnTo>
                  <a:lnTo>
                    <a:pt x="0" y="590"/>
                  </a:lnTo>
                  <a:lnTo>
                    <a:pt x="363" y="545"/>
                  </a:lnTo>
                  <a:lnTo>
                    <a:pt x="227" y="454"/>
                  </a:lnTo>
                  <a:lnTo>
                    <a:pt x="590" y="182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" name="Text Box 19"/>
          <p:cNvSpPr/>
          <p:nvPr/>
        </p:nvSpPr>
        <p:spPr>
          <a:xfrm>
            <a:off x="2319480" y="720720"/>
            <a:ext cx="183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2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32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" presetSubtype="4">
                                  <p:stCondLst>
                                    <p:cond delay="75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75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75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5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75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75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500"/>
                            </p:stCondLst>
                            <p:childTnLst>
                              <p:par>
                                <p:cTn id="25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8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26" name="矩形 4" descr=""/>
          <p:cNvPicPr/>
          <p:nvPr/>
        </p:nvPicPr>
        <p:blipFill>
          <a:blip r:embed="rId2"/>
          <a:stretch/>
        </p:blipFill>
        <p:spPr>
          <a:xfrm>
            <a:off x="128520" y="689040"/>
            <a:ext cx="8790120" cy="1017360"/>
          </a:xfrm>
          <a:prstGeom prst="rect">
            <a:avLst/>
          </a:prstGeom>
          <a:ln w="0">
            <a:noFill/>
          </a:ln>
        </p:spPr>
      </p:pic>
      <p:grpSp>
        <p:nvGrpSpPr>
          <p:cNvPr id="327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328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0" name="文本框 11"/>
          <p:cNvSpPr/>
          <p:nvPr/>
        </p:nvSpPr>
        <p:spPr>
          <a:xfrm>
            <a:off x="611280" y="1700280"/>
            <a:ext cx="424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、长城抗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矩形 1"/>
          <p:cNvSpPr/>
          <p:nvPr/>
        </p:nvSpPr>
        <p:spPr>
          <a:xfrm>
            <a:off x="684360" y="2565360"/>
            <a:ext cx="806436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1933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年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月日军攻占山海关，向南推进。中国军队奋起抵抗，在长城一线、察哈尔等地与日军作战，收复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______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等地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矩形 2"/>
          <p:cNvSpPr/>
          <p:nvPr/>
        </p:nvSpPr>
        <p:spPr>
          <a:xfrm>
            <a:off x="1250640" y="56610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多伦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Picture 8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34" name="矩形 4" descr=""/>
          <p:cNvPicPr/>
          <p:nvPr/>
        </p:nvPicPr>
        <p:blipFill>
          <a:blip r:embed="rId2"/>
          <a:stretch/>
        </p:blipFill>
        <p:spPr>
          <a:xfrm>
            <a:off x="128520" y="689040"/>
            <a:ext cx="8790120" cy="1017360"/>
          </a:xfrm>
          <a:prstGeom prst="rect">
            <a:avLst/>
          </a:prstGeom>
          <a:ln w="0">
            <a:noFill/>
          </a:ln>
        </p:spPr>
      </p:pic>
      <p:grpSp>
        <p:nvGrpSpPr>
          <p:cNvPr id="335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336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7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8" name="文本框 11"/>
          <p:cNvSpPr/>
          <p:nvPr/>
        </p:nvSpPr>
        <p:spPr>
          <a:xfrm>
            <a:off x="3047760" y="1700280"/>
            <a:ext cx="339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、日本策划“华北自治运动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矩形 1"/>
          <p:cNvSpPr/>
          <p:nvPr/>
        </p:nvSpPr>
        <p:spPr>
          <a:xfrm>
            <a:off x="468360" y="2349360"/>
            <a:ext cx="8056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1935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年下半年，日本策动所谓“华北自治运动”，妄图使华北五省脱离中国版图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国民党政府对日采取不抵抗的妥协政策，中华民族面临亡国灭种的危险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8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41" name="矩形 5" descr=""/>
          <p:cNvPicPr/>
          <p:nvPr/>
        </p:nvPicPr>
        <p:blipFill>
          <a:blip r:embed="rId2"/>
          <a:stretch/>
        </p:blipFill>
        <p:spPr>
          <a:xfrm>
            <a:off x="128520" y="689040"/>
            <a:ext cx="8790120" cy="1017360"/>
          </a:xfrm>
          <a:prstGeom prst="rect">
            <a:avLst/>
          </a:prstGeom>
          <a:ln w="0">
            <a:noFill/>
          </a:ln>
        </p:spPr>
      </p:pic>
      <p:grpSp>
        <p:nvGrpSpPr>
          <p:cNvPr id="342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34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4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5" name="文本框 11"/>
          <p:cNvSpPr/>
          <p:nvPr/>
        </p:nvSpPr>
        <p:spPr>
          <a:xfrm>
            <a:off x="1625400" y="1628640"/>
            <a:ext cx="372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、一二</a:t>
            </a:r>
            <a:r>
              <a:rPr b="1" lang="en-US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·</a:t>
            </a:r>
            <a:r>
              <a:rPr b="1" lang="zh-CN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九运动的爆发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矩形 1"/>
          <p:cNvSpPr/>
          <p:nvPr/>
        </p:nvSpPr>
        <p:spPr>
          <a:xfrm>
            <a:off x="1228680" y="2360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华文彩云"/>
                <a:ea typeface="华文彩云"/>
              </a:rPr>
              <a:t>背景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2"/>
          <p:cNvSpPr/>
          <p:nvPr/>
        </p:nvSpPr>
        <p:spPr>
          <a:xfrm>
            <a:off x="1213560" y="2997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华文彩云"/>
                <a:ea typeface="华文彩云"/>
              </a:rPr>
              <a:t>时间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3"/>
          <p:cNvSpPr/>
          <p:nvPr/>
        </p:nvSpPr>
        <p:spPr>
          <a:xfrm>
            <a:off x="2843280" y="2349360"/>
            <a:ext cx="454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华北危机日益严重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矩形 13"/>
          <p:cNvSpPr/>
          <p:nvPr/>
        </p:nvSpPr>
        <p:spPr>
          <a:xfrm>
            <a:off x="2971800" y="299736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1935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年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1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月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9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矩形 14"/>
          <p:cNvSpPr/>
          <p:nvPr/>
        </p:nvSpPr>
        <p:spPr>
          <a:xfrm>
            <a:off x="1213560" y="36450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华文彩云"/>
                <a:ea typeface="华文彩云"/>
              </a:rPr>
              <a:t>地点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矩形 15"/>
          <p:cNvSpPr/>
          <p:nvPr/>
        </p:nvSpPr>
        <p:spPr>
          <a:xfrm>
            <a:off x="3296520" y="36450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北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矩形 16"/>
          <p:cNvSpPr/>
          <p:nvPr/>
        </p:nvSpPr>
        <p:spPr>
          <a:xfrm>
            <a:off x="1141200" y="44704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华文彩云"/>
                <a:ea typeface="华文彩云"/>
              </a:rPr>
              <a:t>口号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矩形 17"/>
          <p:cNvSpPr/>
          <p:nvPr/>
        </p:nvSpPr>
        <p:spPr>
          <a:xfrm>
            <a:off x="2411280" y="4316400"/>
            <a:ext cx="619308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反对华北自治”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停止内战，一致抗日”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矩形 18"/>
          <p:cNvSpPr/>
          <p:nvPr/>
        </p:nvSpPr>
        <p:spPr>
          <a:xfrm>
            <a:off x="1146240" y="56736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华文彩云"/>
                <a:ea typeface="华文彩云"/>
              </a:rPr>
              <a:t>意义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矩形 19"/>
          <p:cNvSpPr/>
          <p:nvPr/>
        </p:nvSpPr>
        <p:spPr>
          <a:xfrm>
            <a:off x="2411280" y="551664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促进了全国抗日救亡运动新高潮的到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7380360" y="1773360"/>
            <a:ext cx="12319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8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58" name="矩形 4" descr=""/>
          <p:cNvPicPr/>
          <p:nvPr/>
        </p:nvPicPr>
        <p:blipFill>
          <a:blip r:embed="rId2"/>
          <a:stretch/>
        </p:blipFill>
        <p:spPr>
          <a:xfrm>
            <a:off x="128520" y="689040"/>
            <a:ext cx="8790120" cy="1017360"/>
          </a:xfrm>
          <a:prstGeom prst="rect">
            <a:avLst/>
          </a:prstGeom>
          <a:ln w="0">
            <a:noFill/>
          </a:ln>
        </p:spPr>
      </p:pic>
      <p:grpSp>
        <p:nvGrpSpPr>
          <p:cNvPr id="359" name="Group 6"/>
          <p:cNvGrpSpPr/>
          <p:nvPr/>
        </p:nvGrpSpPr>
        <p:grpSpPr>
          <a:xfrm>
            <a:off x="0" y="0"/>
            <a:ext cx="9144000" cy="867960"/>
            <a:chOff x="0" y="0"/>
            <a:chExt cx="9144000" cy="867960"/>
          </a:xfrm>
        </p:grpSpPr>
        <p:pic>
          <p:nvPicPr>
            <p:cNvPr id="360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Text Box 22"/>
            <p:cNvSpPr/>
            <p:nvPr/>
          </p:nvSpPr>
          <p:spPr>
            <a:xfrm>
              <a:off x="2268360" y="115920"/>
              <a:ext cx="58327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相  关  史  事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2" name="文本框 11"/>
          <p:cNvSpPr/>
          <p:nvPr/>
        </p:nvSpPr>
        <p:spPr>
          <a:xfrm>
            <a:off x="1950120" y="1700280"/>
            <a:ext cx="432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、八一宣言与瓦窑堡会议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矩形 14"/>
          <p:cNvSpPr/>
          <p:nvPr/>
        </p:nvSpPr>
        <p:spPr>
          <a:xfrm>
            <a:off x="1501560" y="46656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华文彩云"/>
                <a:ea typeface="华文彩云"/>
              </a:rPr>
              <a:t>主张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矩形 15"/>
          <p:cNvSpPr/>
          <p:nvPr/>
        </p:nvSpPr>
        <p:spPr>
          <a:xfrm>
            <a:off x="1506600" y="25034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华文彩云"/>
                <a:ea typeface="华文彩云"/>
              </a:rPr>
              <a:t>时间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矩形 16"/>
          <p:cNvSpPr/>
          <p:nvPr/>
        </p:nvSpPr>
        <p:spPr>
          <a:xfrm>
            <a:off x="2700360" y="4665600"/>
            <a:ext cx="62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建立抗日民族统一战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2994120" y="2492280"/>
            <a:ext cx="445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1935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年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8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矩形 18"/>
          <p:cNvSpPr/>
          <p:nvPr/>
        </p:nvSpPr>
        <p:spPr>
          <a:xfrm>
            <a:off x="1506600" y="32511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华文彩云"/>
                <a:ea typeface="华文彩云"/>
              </a:rPr>
              <a:t>内容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矩形 19"/>
          <p:cNvSpPr/>
          <p:nvPr/>
        </p:nvSpPr>
        <p:spPr>
          <a:xfrm>
            <a:off x="5235120" y="321300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号召停止内战一致抗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矩形 20"/>
          <p:cNvSpPr/>
          <p:nvPr/>
        </p:nvSpPr>
        <p:spPr>
          <a:xfrm>
            <a:off x="701640" y="393372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华文彩云"/>
                <a:ea typeface="华文彩云"/>
              </a:rPr>
              <a:t>时间地点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矩形 21"/>
          <p:cNvSpPr/>
          <p:nvPr/>
        </p:nvSpPr>
        <p:spPr>
          <a:xfrm>
            <a:off x="2843280" y="4005360"/>
            <a:ext cx="619272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1935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年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1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月瓦窑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矩形 22"/>
          <p:cNvSpPr/>
          <p:nvPr/>
        </p:nvSpPr>
        <p:spPr>
          <a:xfrm>
            <a:off x="888840" y="53132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华文彩云"/>
                <a:ea typeface="华文彩云"/>
              </a:rPr>
              <a:t>报告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矩形 23"/>
          <p:cNvSpPr/>
          <p:nvPr/>
        </p:nvSpPr>
        <p:spPr>
          <a:xfrm>
            <a:off x="1762200" y="5313240"/>
            <a:ext cx="721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《</a:t>
            </a:r>
            <a:r>
              <a:rPr b="1" lang="zh-CN" sz="3600" spc="-1" strike="noStrike">
                <a:solidFill>
                  <a:srgbClr val="0000cc"/>
                </a:solidFill>
                <a:latin typeface="黑体"/>
                <a:ea typeface="黑体"/>
              </a:rPr>
              <a:t>论反对日本帝国主义的策略</a:t>
            </a:r>
            <a:r>
              <a:rPr b="1" lang="en-US" sz="3600" spc="-1" strike="noStrike">
                <a:solidFill>
                  <a:srgbClr val="0000cc"/>
                </a:solidFill>
                <a:latin typeface="黑体"/>
                <a:ea typeface="黑体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矩形 24"/>
          <p:cNvSpPr/>
          <p:nvPr/>
        </p:nvSpPr>
        <p:spPr>
          <a:xfrm>
            <a:off x="781920" y="59612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00000"/>
                </a:solidFill>
                <a:latin typeface="华文彩云"/>
                <a:ea typeface="华文彩云"/>
              </a:rPr>
              <a:t>任务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矩形 25"/>
          <p:cNvSpPr/>
          <p:nvPr/>
        </p:nvSpPr>
        <p:spPr>
          <a:xfrm>
            <a:off x="1870200" y="6073920"/>
            <a:ext cx="721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建立由中国共产党领导的抗日民族统一战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0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600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80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8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76" name="矩形 1" descr=""/>
          <p:cNvPicPr/>
          <p:nvPr/>
        </p:nvPicPr>
        <p:blipFill>
          <a:blip r:embed="rId2"/>
          <a:stretch/>
        </p:blipFill>
        <p:spPr>
          <a:xfrm>
            <a:off x="1163520" y="536400"/>
            <a:ext cx="5608800" cy="1256040"/>
          </a:xfrm>
          <a:prstGeom prst="rect">
            <a:avLst/>
          </a:prstGeom>
          <a:ln w="0">
            <a:noFill/>
          </a:ln>
        </p:spPr>
      </p:pic>
      <p:sp>
        <p:nvSpPr>
          <p:cNvPr id="377" name="文本框 10"/>
          <p:cNvSpPr/>
          <p:nvPr/>
        </p:nvSpPr>
        <p:spPr>
          <a:xfrm>
            <a:off x="2928600" y="1641600"/>
            <a:ext cx="95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1</a:t>
            </a:r>
            <a:r>
              <a:rPr b="1" lang="zh-CN" sz="4800" spc="-1" strike="noStrike">
                <a:solidFill>
                  <a:srgbClr val="ff0000"/>
                </a:solidFill>
                <a:latin typeface="华文彩云"/>
                <a:ea typeface="华文彩云"/>
              </a:rPr>
              <a:t>、背景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452520" y="2558880"/>
            <a:ext cx="828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）东北沦亡、华北危急，中日民族矛盾上升为最主要矛盾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392040" y="4186080"/>
            <a:ext cx="828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en-US" sz="4400" spc="-1" strike="noStrike">
                <a:solidFill>
                  <a:srgbClr val="0000cc"/>
                </a:solidFill>
                <a:latin typeface="黑体"/>
                <a:ea typeface="黑体"/>
              </a:rPr>
              <a:t>(2)</a:t>
            </a: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中共抗日民族统一战线政策的感召下，张学良和杨虎城要求蒋介石联共抗日，多次恳求无望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0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381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732720" y="1052640"/>
            <a:ext cx="12319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12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12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2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Picture 8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385" name="矩形 1" descr=""/>
          <p:cNvPicPr/>
          <p:nvPr/>
        </p:nvPicPr>
        <p:blipFill>
          <a:blip r:embed="rId2"/>
          <a:stretch/>
        </p:blipFill>
        <p:spPr>
          <a:xfrm>
            <a:off x="96840" y="585720"/>
            <a:ext cx="5499000" cy="1200240"/>
          </a:xfrm>
          <a:prstGeom prst="rect">
            <a:avLst/>
          </a:prstGeom>
          <a:ln w="0">
            <a:noFill/>
          </a:ln>
        </p:spPr>
      </p:pic>
      <p:sp>
        <p:nvSpPr>
          <p:cNvPr id="386" name="文本框 10"/>
          <p:cNvSpPr/>
          <p:nvPr/>
        </p:nvSpPr>
        <p:spPr>
          <a:xfrm>
            <a:off x="1186560" y="162864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、过程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Text Box 5"/>
          <p:cNvSpPr/>
          <p:nvPr/>
        </p:nvSpPr>
        <p:spPr>
          <a:xfrm>
            <a:off x="2673360" y="1601640"/>
            <a:ext cx="29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华文彩云"/>
                <a:ea typeface="华文彩云"/>
              </a:rPr>
              <a:t>(1)</a:t>
            </a:r>
            <a:r>
              <a:rPr b="1" lang="zh-CN" sz="4800" spc="-1" strike="noStrike">
                <a:solidFill>
                  <a:srgbClr val="c00000"/>
                </a:solidFill>
                <a:latin typeface="华文彩云"/>
                <a:ea typeface="华文彩云"/>
              </a:rPr>
              <a:t>时间：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 Box 6"/>
          <p:cNvSpPr/>
          <p:nvPr/>
        </p:nvSpPr>
        <p:spPr>
          <a:xfrm>
            <a:off x="611280" y="2503440"/>
            <a:ext cx="262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华文彩云"/>
                <a:ea typeface="华文彩云"/>
              </a:rPr>
              <a:t>(2)</a:t>
            </a:r>
            <a:r>
              <a:rPr b="1" lang="zh-CN" sz="4800" spc="-1" strike="noStrike">
                <a:solidFill>
                  <a:srgbClr val="c00000"/>
                </a:solidFill>
                <a:latin typeface="华文彩云"/>
                <a:ea typeface="华文彩云"/>
              </a:rPr>
              <a:t>人物</a:t>
            </a:r>
            <a:r>
              <a:rPr b="1" lang="en-US" sz="4800" spc="-1" strike="noStrike">
                <a:solidFill>
                  <a:srgbClr val="c00000"/>
                </a:solidFill>
                <a:latin typeface="华文彩云"/>
                <a:ea typeface="华文彩云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7"/>
          <p:cNvSpPr/>
          <p:nvPr/>
        </p:nvSpPr>
        <p:spPr>
          <a:xfrm>
            <a:off x="611280" y="3513240"/>
            <a:ext cx="262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华文彩云"/>
                <a:ea typeface="华文彩云"/>
              </a:rPr>
              <a:t>(3)</a:t>
            </a:r>
            <a:r>
              <a:rPr b="1" lang="zh-CN" sz="4800" spc="-1" strike="noStrike">
                <a:solidFill>
                  <a:srgbClr val="c00000"/>
                </a:solidFill>
                <a:latin typeface="华文彩云"/>
                <a:ea typeface="华文彩云"/>
              </a:rPr>
              <a:t>目的</a:t>
            </a:r>
            <a:r>
              <a:rPr b="1" lang="en-US" sz="4800" spc="-1" strike="noStrike">
                <a:solidFill>
                  <a:srgbClr val="c00000"/>
                </a:solidFill>
                <a:latin typeface="华文彩云"/>
                <a:ea typeface="华文彩云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 Box 8"/>
          <p:cNvSpPr/>
          <p:nvPr/>
        </p:nvSpPr>
        <p:spPr>
          <a:xfrm>
            <a:off x="5133960" y="1724040"/>
            <a:ext cx="4140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1936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年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1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月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12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日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 Box 9"/>
          <p:cNvSpPr/>
          <p:nvPr/>
        </p:nvSpPr>
        <p:spPr>
          <a:xfrm>
            <a:off x="3419640" y="256536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张学良</a:t>
            </a:r>
            <a:r>
              <a:rPr b="1" lang="en-US" sz="4800" spc="-1" strike="noStrike">
                <a:solidFill>
                  <a:srgbClr val="0000cc"/>
                </a:solidFill>
                <a:latin typeface="黑体"/>
                <a:ea typeface="黑体"/>
              </a:rPr>
              <a:t>.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杨虎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 Box 10"/>
          <p:cNvSpPr/>
          <p:nvPr/>
        </p:nvSpPr>
        <p:spPr>
          <a:xfrm>
            <a:off x="3259080" y="3635280"/>
            <a:ext cx="570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黑体"/>
                <a:ea typeface="黑体"/>
              </a:rPr>
              <a:t>为了逼迫蒋介石抗日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 Box 11"/>
          <p:cNvSpPr/>
          <p:nvPr/>
        </p:nvSpPr>
        <p:spPr>
          <a:xfrm>
            <a:off x="627120" y="4406760"/>
            <a:ext cx="2624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00000"/>
                </a:solidFill>
                <a:latin typeface="华文彩云"/>
                <a:ea typeface="华文彩云"/>
              </a:rPr>
              <a:t>(4)</a:t>
            </a:r>
            <a:r>
              <a:rPr b="1" lang="zh-CN" sz="4800" spc="-1" strike="noStrike">
                <a:solidFill>
                  <a:srgbClr val="c00000"/>
                </a:solidFill>
                <a:latin typeface="华文彩云"/>
                <a:ea typeface="华文彩云"/>
              </a:rPr>
              <a:t>经过</a:t>
            </a:r>
            <a:r>
              <a:rPr b="1" lang="en-US" sz="4800" spc="-1" strike="noStrike">
                <a:solidFill>
                  <a:srgbClr val="c00000"/>
                </a:solidFill>
                <a:latin typeface="华文彩云"/>
                <a:ea typeface="华文彩云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 Box 12"/>
          <p:cNvSpPr/>
          <p:nvPr/>
        </p:nvSpPr>
        <p:spPr>
          <a:xfrm>
            <a:off x="3220920" y="4587840"/>
            <a:ext cx="57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张、杨扣蒋，实行“兵谏”；通电全国，要求停止内战，联共抗日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Text Box 33"/>
          <p:cNvSpPr/>
          <p:nvPr/>
        </p:nvSpPr>
        <p:spPr>
          <a:xfrm>
            <a:off x="5219640" y="836640"/>
            <a:ext cx="390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(</a:t>
            </a:r>
            <a:r>
              <a:rPr b="1" lang="zh-CN" sz="4400" spc="-1" strike="noStrike">
                <a:solidFill>
                  <a:srgbClr val="ff0000"/>
                </a:solidFill>
                <a:latin typeface="隶书"/>
                <a:ea typeface="隶书"/>
              </a:rPr>
              <a:t>双十二事变</a:t>
            </a:r>
            <a:r>
              <a:rPr b="1" lang="en-US" sz="4400" spc="-1" strike="noStrike">
                <a:solidFill>
                  <a:srgbClr val="ff0000"/>
                </a:solidFill>
                <a:latin typeface="隶书"/>
                <a:ea typeface="隶书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397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0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385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7" dur="385" fill="hold"/>
                                        <p:tgtEl>
                                          <p:spTgt spid="3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0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09" dur="385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1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11" dur="385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Picture 8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00" name="矩形 1" descr=""/>
          <p:cNvPicPr/>
          <p:nvPr/>
        </p:nvPicPr>
        <p:blipFill>
          <a:blip r:embed="rId2"/>
          <a:stretch/>
        </p:blipFill>
        <p:spPr>
          <a:xfrm>
            <a:off x="1176480" y="585720"/>
            <a:ext cx="5499000" cy="1200240"/>
          </a:xfrm>
          <a:prstGeom prst="rect">
            <a:avLst/>
          </a:prstGeom>
          <a:ln w="0">
            <a:noFill/>
          </a:ln>
        </p:spPr>
      </p:pic>
      <p:sp>
        <p:nvSpPr>
          <p:cNvPr id="401" name="文本框 10"/>
          <p:cNvSpPr/>
          <p:nvPr/>
        </p:nvSpPr>
        <p:spPr>
          <a:xfrm>
            <a:off x="980280" y="1803240"/>
            <a:ext cx="2444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华文彩云"/>
                <a:ea typeface="华文彩云"/>
              </a:rPr>
              <a:t>（</a:t>
            </a:r>
            <a:r>
              <a:rPr b="1" lang="en-US" sz="4400" spc="-1" strike="noStrike">
                <a:solidFill>
                  <a:srgbClr val="c00000"/>
                </a:solidFill>
                <a:latin typeface="华文彩云"/>
                <a:ea typeface="华文彩云"/>
              </a:rPr>
              <a:t>5</a:t>
            </a:r>
            <a:r>
              <a:rPr b="1" lang="zh-CN" sz="4400" spc="-1" strike="noStrike">
                <a:solidFill>
                  <a:srgbClr val="c00000"/>
                </a:solidFill>
                <a:latin typeface="华文彩云"/>
                <a:ea typeface="华文彩云"/>
              </a:rPr>
              <a:t>）结果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矩形 2"/>
          <p:cNvSpPr/>
          <p:nvPr/>
        </p:nvSpPr>
        <p:spPr>
          <a:xfrm>
            <a:off x="395280" y="2857680"/>
            <a:ext cx="84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蒋介石被迫接受停止内战，联共抗日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3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404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8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407" name="矩形 1" descr=""/>
          <p:cNvPicPr/>
          <p:nvPr/>
        </p:nvPicPr>
        <p:blipFill>
          <a:blip r:embed="rId2"/>
          <a:stretch/>
        </p:blipFill>
        <p:spPr>
          <a:xfrm>
            <a:off x="1176480" y="585720"/>
            <a:ext cx="5499000" cy="1200240"/>
          </a:xfrm>
          <a:prstGeom prst="rect">
            <a:avLst/>
          </a:prstGeom>
          <a:ln w="0">
            <a:noFill/>
          </a:ln>
        </p:spPr>
      </p:pic>
      <p:sp>
        <p:nvSpPr>
          <p:cNvPr id="408" name="矩形 2"/>
          <p:cNvSpPr/>
          <p:nvPr/>
        </p:nvSpPr>
        <p:spPr>
          <a:xfrm>
            <a:off x="395280" y="2637000"/>
            <a:ext cx="842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揭开了国共两党由内战到联合抗日的序幕，成为扭转时局的关键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十年内战基本结束，抗日民族统一战线初步形成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9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410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2" name="文本框 10"/>
          <p:cNvSpPr/>
          <p:nvPr/>
        </p:nvSpPr>
        <p:spPr>
          <a:xfrm>
            <a:off x="3381480" y="1700280"/>
            <a:ext cx="89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3</a:t>
            </a:r>
            <a:r>
              <a:rPr b="1" lang="zh-CN" sz="4400" spc="-1" strike="noStrike">
                <a:solidFill>
                  <a:srgbClr val="ff0000"/>
                </a:solidFill>
                <a:latin typeface="华文彩云"/>
                <a:ea typeface="华文彩云"/>
              </a:rPr>
              <a:t>、历史意义：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7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4">
            <a:hlinkClick r:id="rId1" action="ppaction://hlinksldjump"/>
          </p:cNvPr>
          <p:cNvSpPr/>
          <p:nvPr/>
        </p:nvSpPr>
        <p:spPr>
          <a:xfrm>
            <a:off x="223920" y="2646360"/>
            <a:ext cx="860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es-ES" sz="6000" spc="-1" strike="noStrike">
                <a:solidFill>
                  <a:srgbClr val="000066"/>
                </a:solidFill>
                <a:latin typeface="黑体"/>
                <a:ea typeface="黑体"/>
              </a:rPr>
              <a:t>1931</a:t>
            </a:r>
            <a:r>
              <a:rPr b="1" lang="zh-CN" sz="6000" spc="-1" strike="noStrike">
                <a:solidFill>
                  <a:srgbClr val="000066"/>
                </a:solidFill>
                <a:latin typeface="黑体"/>
                <a:ea typeface="黑体"/>
              </a:rPr>
              <a:t>年</a:t>
            </a:r>
            <a:r>
              <a:rPr b="1" lang="es-ES" sz="6000" spc="-1" strike="noStrike">
                <a:solidFill>
                  <a:srgbClr val="000066"/>
                </a:solidFill>
                <a:latin typeface="黑体"/>
                <a:ea typeface="黑体"/>
              </a:rPr>
              <a:t>9</a:t>
            </a:r>
            <a:r>
              <a:rPr b="1" lang="zh-CN" sz="6000" spc="-1" strike="noStrike">
                <a:solidFill>
                  <a:srgbClr val="000066"/>
                </a:solidFill>
                <a:latin typeface="黑体"/>
                <a:ea typeface="黑体"/>
              </a:rPr>
              <a:t>月</a:t>
            </a:r>
            <a:r>
              <a:rPr b="1" lang="es-ES" sz="6000" spc="-1" strike="noStrike">
                <a:solidFill>
                  <a:srgbClr val="000066"/>
                </a:solidFill>
                <a:latin typeface="黑体"/>
                <a:ea typeface="黑体"/>
              </a:rPr>
              <a:t>18</a:t>
            </a:r>
            <a:r>
              <a:rPr b="1" lang="zh-CN" sz="6000" spc="-1" strike="noStrike">
                <a:solidFill>
                  <a:srgbClr val="000066"/>
                </a:solidFill>
                <a:latin typeface="黑体"/>
                <a:ea typeface="黑体"/>
              </a:rPr>
              <a:t>日日军制造柳条湖事件，并以此为借口，进攻东北军驻地北大营，炮轰沈阳城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2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142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44" name="矩形 1" descr=""/>
          <p:cNvPicPr/>
          <p:nvPr/>
        </p:nvPicPr>
        <p:blipFill>
          <a:blip r:embed="rId4"/>
          <a:stretch/>
        </p:blipFill>
        <p:spPr>
          <a:xfrm>
            <a:off x="1176480" y="549360"/>
            <a:ext cx="6261120" cy="1236600"/>
          </a:xfrm>
          <a:prstGeom prst="rect">
            <a:avLst/>
          </a:prstGeom>
          <a:ln w="0">
            <a:noFill/>
          </a:ln>
        </p:spPr>
      </p:pic>
      <p:sp>
        <p:nvSpPr>
          <p:cNvPr id="145" name="文本框 10"/>
          <p:cNvSpPr/>
          <p:nvPr/>
        </p:nvSpPr>
        <p:spPr>
          <a:xfrm>
            <a:off x="3084120" y="1693800"/>
            <a:ext cx="114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1</a:t>
            </a:r>
            <a:r>
              <a:rPr b="1" lang="zh-CN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、经过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5"/>
          <a:stretch/>
        </p:blipFill>
        <p:spPr>
          <a:xfrm>
            <a:off x="5435640" y="1773360"/>
            <a:ext cx="123192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"/>
          <p:cNvPicPr/>
          <p:nvPr/>
        </p:nvPicPr>
        <p:blipFill>
          <a:blip r:embed="rId1"/>
          <a:stretch/>
        </p:blipFill>
        <p:spPr>
          <a:xfrm>
            <a:off x="395280" y="765000"/>
            <a:ext cx="8388360" cy="6099480"/>
          </a:xfrm>
          <a:prstGeom prst="rect">
            <a:avLst/>
          </a:prstGeom>
          <a:ln w="0">
            <a:noFill/>
          </a:ln>
        </p:spPr>
      </p:pic>
      <p:grpSp>
        <p:nvGrpSpPr>
          <p:cNvPr id="414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415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6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slow">
    <p:push dir="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5" descr="NewsMedia_228616"/>
          <p:cNvPicPr/>
          <p:nvPr/>
        </p:nvPicPr>
        <p:blipFill>
          <a:blip r:embed="rId1"/>
          <a:stretch/>
        </p:blipFill>
        <p:spPr>
          <a:xfrm>
            <a:off x="-36360" y="174132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6"/>
          <p:cNvSpPr/>
          <p:nvPr/>
        </p:nvSpPr>
        <p:spPr>
          <a:xfrm>
            <a:off x="324000" y="816120"/>
            <a:ext cx="844704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隶书"/>
                <a:ea typeface="隶书"/>
              </a:rPr>
              <a:t>1936</a:t>
            </a: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年，蒋介石（右</a:t>
            </a:r>
            <a:r>
              <a:rPr b="1" lang="en-US" sz="3200" spc="-1" strike="noStrike">
                <a:solidFill>
                  <a:srgbClr val="8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）到西安督战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ts val="3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隶书"/>
                <a:ea typeface="隶书"/>
              </a:rPr>
              <a:t>张学良、杨虎城与其合影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9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420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2" name="Group 4"/>
          <p:cNvGrpSpPr/>
          <p:nvPr/>
        </p:nvGrpSpPr>
        <p:grpSpPr>
          <a:xfrm>
            <a:off x="611280" y="880920"/>
            <a:ext cx="8208000" cy="5774040"/>
            <a:chOff x="611280" y="880920"/>
            <a:chExt cx="8208000" cy="5774040"/>
          </a:xfrm>
        </p:grpSpPr>
        <p:grpSp>
          <p:nvGrpSpPr>
            <p:cNvPr id="423" name="Group 5"/>
            <p:cNvGrpSpPr/>
            <p:nvPr/>
          </p:nvGrpSpPr>
          <p:grpSpPr>
            <a:xfrm>
              <a:off x="611280" y="880920"/>
              <a:ext cx="3805920" cy="5774040"/>
              <a:chOff x="611280" y="880920"/>
              <a:chExt cx="3805920" cy="5774040"/>
            </a:xfrm>
          </p:grpSpPr>
          <p:pic>
            <p:nvPicPr>
              <p:cNvPr id="424" name="Picture 6" descr="NewsMedia_679"/>
              <p:cNvPicPr/>
              <p:nvPr/>
            </p:nvPicPr>
            <p:blipFill>
              <a:blip r:embed="rId1">
                <a:lum contrast="12000"/>
              </a:blip>
              <a:stretch/>
            </p:blipFill>
            <p:spPr>
              <a:xfrm>
                <a:off x="611280" y="880920"/>
                <a:ext cx="3805920" cy="50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" name="Text Box 7"/>
              <p:cNvSpPr/>
              <p:nvPr/>
            </p:nvSpPr>
            <p:spPr>
              <a:xfrm>
                <a:off x="2047680" y="601236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66"/>
                    </a:solidFill>
                    <a:latin typeface="Times New Roman"/>
                    <a:ea typeface="华文彩云"/>
                  </a:rPr>
                  <a:t>张学良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26" name="Group 8"/>
            <p:cNvGrpSpPr/>
            <p:nvPr/>
          </p:nvGrpSpPr>
          <p:grpSpPr>
            <a:xfrm>
              <a:off x="5122440" y="880920"/>
              <a:ext cx="3696840" cy="5774040"/>
              <a:chOff x="5122440" y="880920"/>
              <a:chExt cx="3696840" cy="5774040"/>
            </a:xfrm>
          </p:grpSpPr>
          <p:pic>
            <p:nvPicPr>
              <p:cNvPr id="427" name="Picture 9" descr="200309081099_316594"/>
              <p:cNvPicPr/>
              <p:nvPr/>
            </p:nvPicPr>
            <p:blipFill>
              <a:blip r:embed="rId2"/>
              <a:stretch/>
            </p:blipFill>
            <p:spPr>
              <a:xfrm>
                <a:off x="5122440" y="880920"/>
                <a:ext cx="3696840" cy="509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8" name="Text Box 10"/>
              <p:cNvSpPr/>
              <p:nvPr/>
            </p:nvSpPr>
            <p:spPr>
              <a:xfrm>
                <a:off x="6681240" y="6012360"/>
                <a:ext cx="1003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66"/>
                    </a:solidFill>
                    <a:latin typeface="Times New Roman"/>
                    <a:ea typeface="华文彩云"/>
                  </a:rPr>
                  <a:t>杨虎城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29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430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4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20"/>
          <p:cNvGrpSpPr/>
          <p:nvPr/>
        </p:nvGrpSpPr>
        <p:grpSpPr>
          <a:xfrm>
            <a:off x="3132000" y="3573360"/>
            <a:ext cx="6004080" cy="2958120"/>
            <a:chOff x="3132000" y="3573360"/>
            <a:chExt cx="6004080" cy="2958120"/>
          </a:xfrm>
        </p:grpSpPr>
        <p:pic>
          <p:nvPicPr>
            <p:cNvPr id="433" name="Picture 7" descr="兵谏亭"/>
            <p:cNvPicPr/>
            <p:nvPr/>
          </p:nvPicPr>
          <p:blipFill>
            <a:blip r:embed="rId1"/>
            <a:stretch/>
          </p:blipFill>
          <p:spPr>
            <a:xfrm>
              <a:off x="3132000" y="3573360"/>
              <a:ext cx="3083040" cy="2311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4" name="Picture 8" descr="兵谏亭（捉蒋亭）"/>
            <p:cNvPicPr/>
            <p:nvPr/>
          </p:nvPicPr>
          <p:blipFill>
            <a:blip r:embed="rId2"/>
            <a:stretch/>
          </p:blipFill>
          <p:spPr>
            <a:xfrm>
              <a:off x="6227640" y="3573360"/>
              <a:ext cx="2908440" cy="23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Rectangle 13"/>
            <p:cNvSpPr/>
            <p:nvPr/>
          </p:nvSpPr>
          <p:spPr>
            <a:xfrm>
              <a:off x="5245920" y="5950080"/>
              <a:ext cx="2131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兵谏亭（捉蒋亭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6" name="Group 17"/>
          <p:cNvGrpSpPr/>
          <p:nvPr/>
        </p:nvGrpSpPr>
        <p:grpSpPr>
          <a:xfrm>
            <a:off x="108000" y="836640"/>
            <a:ext cx="2895480" cy="2670480"/>
            <a:chOff x="108000" y="836640"/>
            <a:chExt cx="2895480" cy="2670480"/>
          </a:xfrm>
        </p:grpSpPr>
        <p:pic>
          <p:nvPicPr>
            <p:cNvPr id="437" name="Picture 12" descr="华清池"/>
            <p:cNvPicPr/>
            <p:nvPr/>
          </p:nvPicPr>
          <p:blipFill>
            <a:blip r:embed="rId3"/>
            <a:stretch/>
          </p:blipFill>
          <p:spPr>
            <a:xfrm>
              <a:off x="108000" y="836640"/>
              <a:ext cx="2895480" cy="214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Rectangle 14"/>
            <p:cNvSpPr/>
            <p:nvPr/>
          </p:nvSpPr>
          <p:spPr>
            <a:xfrm>
              <a:off x="1081080" y="2925720"/>
              <a:ext cx="912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华清池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9" name="Group 18"/>
          <p:cNvGrpSpPr/>
          <p:nvPr/>
        </p:nvGrpSpPr>
        <p:grpSpPr>
          <a:xfrm>
            <a:off x="3132000" y="836640"/>
            <a:ext cx="5870520" cy="2618640"/>
            <a:chOff x="3132000" y="836640"/>
            <a:chExt cx="5870520" cy="2618640"/>
          </a:xfrm>
        </p:grpSpPr>
        <p:pic>
          <p:nvPicPr>
            <p:cNvPr id="440" name="Picture 9" descr="五间厅蒋介石办公室"/>
            <p:cNvPicPr/>
            <p:nvPr/>
          </p:nvPicPr>
          <p:blipFill>
            <a:blip r:embed="rId4"/>
            <a:stretch/>
          </p:blipFill>
          <p:spPr>
            <a:xfrm>
              <a:off x="3132000" y="836640"/>
              <a:ext cx="2879640" cy="2160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1" name="Picture 11" descr="临潼华清池内五间厅（蒋介石办公及住地"/>
            <p:cNvPicPr/>
            <p:nvPr/>
          </p:nvPicPr>
          <p:blipFill>
            <a:blip r:embed="rId5"/>
            <a:stretch/>
          </p:blipFill>
          <p:spPr>
            <a:xfrm>
              <a:off x="6124320" y="836640"/>
              <a:ext cx="287820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Rectangle 15"/>
            <p:cNvSpPr/>
            <p:nvPr/>
          </p:nvSpPr>
          <p:spPr>
            <a:xfrm>
              <a:off x="4307040" y="2995560"/>
              <a:ext cx="365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临潼华清池内五间厅（蒋介石办公及住地）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3" name="Group 19"/>
          <p:cNvGrpSpPr/>
          <p:nvPr/>
        </p:nvGrpSpPr>
        <p:grpSpPr>
          <a:xfrm>
            <a:off x="34920" y="3573360"/>
            <a:ext cx="3203640" cy="3179160"/>
            <a:chOff x="34920" y="3573360"/>
            <a:chExt cx="3203640" cy="3179160"/>
          </a:xfrm>
        </p:grpSpPr>
        <p:pic>
          <p:nvPicPr>
            <p:cNvPr id="444" name="Picture 10" descr="西安事变时留在五间厅窗户上的弹孔"/>
            <p:cNvPicPr/>
            <p:nvPr/>
          </p:nvPicPr>
          <p:blipFill>
            <a:blip r:embed="rId6"/>
            <a:stretch/>
          </p:blipFill>
          <p:spPr>
            <a:xfrm>
              <a:off x="34920" y="3573360"/>
              <a:ext cx="3097080" cy="232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5" name="Rectangle 16"/>
            <p:cNvSpPr/>
            <p:nvPr/>
          </p:nvSpPr>
          <p:spPr>
            <a:xfrm>
              <a:off x="179280" y="5805360"/>
              <a:ext cx="3059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西安事变时留在五间厅窗户上的弹孔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46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447" name="Picture 5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 Box 78"/>
          <p:cNvSpPr/>
          <p:nvPr/>
        </p:nvSpPr>
        <p:spPr>
          <a:xfrm>
            <a:off x="7020000" y="1851120"/>
            <a:ext cx="1676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本制造九一八事变后进逼华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Rectangle 18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Text Box 55"/>
          <p:cNvSpPr/>
          <p:nvPr/>
        </p:nvSpPr>
        <p:spPr>
          <a:xfrm>
            <a:off x="7108920" y="4076640"/>
            <a:ext cx="175248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日民族矛盾上升为为主要矛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Text Box 57"/>
          <p:cNvSpPr/>
          <p:nvPr/>
        </p:nvSpPr>
        <p:spPr>
          <a:xfrm>
            <a:off x="152280" y="2079720"/>
            <a:ext cx="17528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2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国共第一次合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Text Box 59"/>
          <p:cNvSpPr/>
          <p:nvPr/>
        </p:nvSpPr>
        <p:spPr>
          <a:xfrm>
            <a:off x="2411280" y="2079720"/>
            <a:ext cx="18288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基本推翻了北洋军阀统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Text Box 61"/>
          <p:cNvSpPr/>
          <p:nvPr/>
        </p:nvSpPr>
        <p:spPr>
          <a:xfrm>
            <a:off x="4648320" y="2079720"/>
            <a:ext cx="16761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蒋、汪等叛变革命内战爆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Line 58"/>
          <p:cNvSpPr/>
          <p:nvPr/>
        </p:nvSpPr>
        <p:spPr>
          <a:xfrm>
            <a:off x="4067280" y="2765520"/>
            <a:ext cx="685800" cy="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Line 56"/>
          <p:cNvSpPr/>
          <p:nvPr/>
        </p:nvSpPr>
        <p:spPr>
          <a:xfrm>
            <a:off x="1722600" y="2781360"/>
            <a:ext cx="761760" cy="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Line 60"/>
          <p:cNvSpPr/>
          <p:nvPr/>
        </p:nvSpPr>
        <p:spPr>
          <a:xfrm>
            <a:off x="6321600" y="2781360"/>
            <a:ext cx="771480" cy="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Text Box 79"/>
          <p:cNvSpPr/>
          <p:nvPr/>
        </p:nvSpPr>
        <p:spPr>
          <a:xfrm>
            <a:off x="5127480" y="4287960"/>
            <a:ext cx="13716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张、杨发动西安事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Line 80"/>
          <p:cNvSpPr/>
          <p:nvPr/>
        </p:nvSpPr>
        <p:spPr>
          <a:xfrm flipH="1">
            <a:off x="6423120" y="5013360"/>
            <a:ext cx="761760" cy="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Line 81"/>
          <p:cNvSpPr/>
          <p:nvPr/>
        </p:nvSpPr>
        <p:spPr>
          <a:xfrm flipH="1">
            <a:off x="4427640" y="5013360"/>
            <a:ext cx="761760" cy="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AutoShape 86"/>
          <p:cNvSpPr/>
          <p:nvPr/>
        </p:nvSpPr>
        <p:spPr>
          <a:xfrm>
            <a:off x="8686800" y="2841480"/>
            <a:ext cx="304920" cy="1524240"/>
          </a:xfrm>
          <a:custGeom>
            <a:avLst/>
            <a:gdLst>
              <a:gd name="textAreaLeft" fmla="*/ 40680 w 304920"/>
              <a:gd name="textAreaRight" fmla="*/ 264240 w 30492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Text Box 87"/>
          <p:cNvSpPr/>
          <p:nvPr/>
        </p:nvSpPr>
        <p:spPr>
          <a:xfrm>
            <a:off x="1692360" y="2014560"/>
            <a:ext cx="533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Text Box 88"/>
          <p:cNvSpPr/>
          <p:nvPr/>
        </p:nvSpPr>
        <p:spPr>
          <a:xfrm>
            <a:off x="3995640" y="2014560"/>
            <a:ext cx="533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Text Box 89"/>
          <p:cNvSpPr/>
          <p:nvPr/>
        </p:nvSpPr>
        <p:spPr>
          <a:xfrm>
            <a:off x="6227640" y="2085840"/>
            <a:ext cx="685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患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Text Box 90"/>
          <p:cNvSpPr/>
          <p:nvPr/>
        </p:nvSpPr>
        <p:spPr>
          <a:xfrm>
            <a:off x="6499080" y="4255920"/>
            <a:ext cx="533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Text Box 91"/>
          <p:cNvSpPr/>
          <p:nvPr/>
        </p:nvSpPr>
        <p:spPr>
          <a:xfrm>
            <a:off x="4500720" y="4238640"/>
            <a:ext cx="533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Text Box 94"/>
          <p:cNvSpPr/>
          <p:nvPr/>
        </p:nvSpPr>
        <p:spPr>
          <a:xfrm>
            <a:off x="2050920" y="993600"/>
            <a:ext cx="674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合作     内战      合作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8" name="Picture 95" descr="gif026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651120" y="1335240"/>
            <a:ext cx="854280" cy="2984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96" descr="gif02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102360" y="1262160"/>
            <a:ext cx="847800" cy="298440"/>
          </a:xfrm>
          <a:prstGeom prst="rect">
            <a:avLst/>
          </a:prstGeom>
          <a:ln w="0">
            <a:noFill/>
          </a:ln>
        </p:spPr>
      </p:pic>
      <p:grpSp>
        <p:nvGrpSpPr>
          <p:cNvPr id="470" name="组合 1"/>
          <p:cNvGrpSpPr/>
          <p:nvPr/>
        </p:nvGrpSpPr>
        <p:grpSpPr>
          <a:xfrm>
            <a:off x="987480" y="5753160"/>
            <a:ext cx="2144520" cy="844560"/>
            <a:chOff x="987480" y="5753160"/>
            <a:chExt cx="2144520" cy="844560"/>
          </a:xfrm>
        </p:grpSpPr>
        <p:sp>
          <p:nvSpPr>
            <p:cNvPr id="471" name="AutoShape 97"/>
            <p:cNvSpPr/>
            <p:nvPr/>
          </p:nvSpPr>
          <p:spPr>
            <a:xfrm>
              <a:off x="987480" y="5753160"/>
              <a:ext cx="2133720" cy="8445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2" name="Text Box 98"/>
            <p:cNvSpPr/>
            <p:nvPr/>
          </p:nvSpPr>
          <p:spPr>
            <a:xfrm>
              <a:off x="1052280" y="5879520"/>
              <a:ext cx="207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Arial"/>
                  <a:ea typeface="黑体"/>
                </a:rPr>
                <a:t>抗日战争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3" name="Text Box 65"/>
          <p:cNvSpPr/>
          <p:nvPr/>
        </p:nvSpPr>
        <p:spPr>
          <a:xfrm>
            <a:off x="155520" y="428796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抗日民族统一战线初步形成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Text Box 63"/>
          <p:cNvSpPr/>
          <p:nvPr/>
        </p:nvSpPr>
        <p:spPr>
          <a:xfrm>
            <a:off x="2984400" y="4292640"/>
            <a:ext cx="137160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国共开始第二次合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5" name="Group 7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476" name="Picture 5" descr=""/>
            <p:cNvPicPr/>
            <p:nvPr/>
          </p:nvPicPr>
          <p:blipFill>
            <a:blip r:embed="rId5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7" name="WordArt 3"/>
            <p:cNvSpPr txBox="1"/>
            <p:nvPr/>
          </p:nvSpPr>
          <p:spPr>
            <a:xfrm>
              <a:off x="3132000" y="44280"/>
              <a:ext cx="38894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本课小结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478" name="Line 82"/>
          <p:cNvSpPr/>
          <p:nvPr/>
        </p:nvSpPr>
        <p:spPr>
          <a:xfrm flipH="1">
            <a:off x="1773000" y="5013360"/>
            <a:ext cx="1143000" cy="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79" name="组合 32"/>
          <p:cNvGrpSpPr/>
          <p:nvPr/>
        </p:nvGrpSpPr>
        <p:grpSpPr>
          <a:xfrm>
            <a:off x="971640" y="3448080"/>
            <a:ext cx="2144520" cy="844560"/>
            <a:chOff x="971640" y="3448080"/>
            <a:chExt cx="2144520" cy="844560"/>
          </a:xfrm>
        </p:grpSpPr>
        <p:sp>
          <p:nvSpPr>
            <p:cNvPr id="480" name="AutoShape 97"/>
            <p:cNvSpPr/>
            <p:nvPr/>
          </p:nvSpPr>
          <p:spPr>
            <a:xfrm>
              <a:off x="971640" y="3448080"/>
              <a:ext cx="2133720" cy="84456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1" name="Text Box 98"/>
            <p:cNvSpPr/>
            <p:nvPr/>
          </p:nvSpPr>
          <p:spPr>
            <a:xfrm>
              <a:off x="1036440" y="3574440"/>
              <a:ext cx="207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Arial"/>
                  <a:ea typeface="黑体"/>
                </a:rPr>
                <a:t>国民革命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2" name="Text Box 87"/>
          <p:cNvSpPr/>
          <p:nvPr/>
        </p:nvSpPr>
        <p:spPr>
          <a:xfrm>
            <a:off x="2141640" y="4255920"/>
            <a:ext cx="533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果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3" name="组合 36"/>
          <p:cNvGrpSpPr/>
          <p:nvPr/>
        </p:nvGrpSpPr>
        <p:grpSpPr>
          <a:xfrm>
            <a:off x="250920" y="758880"/>
            <a:ext cx="1751040" cy="1434600"/>
            <a:chOff x="250920" y="758880"/>
            <a:chExt cx="1751040" cy="1434600"/>
          </a:xfrm>
        </p:grpSpPr>
        <p:sp>
          <p:nvSpPr>
            <p:cNvPr id="484" name="AutoShape 97"/>
            <p:cNvSpPr/>
            <p:nvPr/>
          </p:nvSpPr>
          <p:spPr>
            <a:xfrm>
              <a:off x="250920" y="830880"/>
              <a:ext cx="1751040" cy="132660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Text Box 98"/>
            <p:cNvSpPr/>
            <p:nvPr/>
          </p:nvSpPr>
          <p:spPr>
            <a:xfrm>
              <a:off x="304200" y="758880"/>
              <a:ext cx="156852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国共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黑体"/>
                  <a:ea typeface="黑体"/>
                </a:rPr>
                <a:t>历程：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4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6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6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77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6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493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0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22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1000"/>
                            </p:stCondLst>
                            <p:childTnLst>
                              <p:par>
                                <p:cTn id="5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2000"/>
                            </p:stCondLst>
                            <p:childTnLst>
                              <p:par>
                                <p:cTn id="5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4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500"/>
                            </p:stCondLst>
                            <p:childTnLst>
                              <p:par>
                                <p:cTn id="5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2" dur="1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55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500"/>
                            </p:stCondLst>
                            <p:childTnLst>
                              <p:par>
                                <p:cTn id="56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4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5"/>
          <p:cNvSpPr/>
          <p:nvPr/>
        </p:nvSpPr>
        <p:spPr>
          <a:xfrm>
            <a:off x="611280" y="299736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7" name="Group 7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488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WordArt 3"/>
            <p:cNvSpPr txBox="1"/>
            <p:nvPr/>
          </p:nvSpPr>
          <p:spPr>
            <a:xfrm>
              <a:off x="2987640" y="44280"/>
              <a:ext cx="396072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后活动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490" name="矩形 1"/>
          <p:cNvSpPr/>
          <p:nvPr/>
        </p:nvSpPr>
        <p:spPr>
          <a:xfrm>
            <a:off x="900000" y="765000"/>
            <a:ext cx="641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800000"/>
                </a:solidFill>
                <a:latin typeface="黑体"/>
                <a:ea typeface="黑体"/>
              </a:rPr>
              <a:t>、阅读材料，回答问题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矩形 2"/>
          <p:cNvSpPr/>
          <p:nvPr/>
        </p:nvSpPr>
        <p:spPr>
          <a:xfrm>
            <a:off x="324000" y="1341360"/>
            <a:ext cx="856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东北沦亡，时逾五载。国权凌夷，疆土日蹙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绥东战起，群情鼎沸，士气激昂。于此时机，我中枢领袖应如何激励军民发动全国之整个抗战！乃前方之守土将士浴血杀敌，后方之外交当局仍力谋妥协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蒋委员长介公受群小包围，弃绝民众，误国咎深。学良等涕泣进谏，屡遭重斥。日昨西安学生举行救国运动，竟嗾使警察枪杀爱国幼童，稍具人心，孰忍出此！学良等多年袍泽，不忍坐视，因对介公为最后之诤谏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大义当前，不容反顾，只求于救亡主张贯彻，有济于国家。为功为罪，一听国人之处置。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张、杨对时局宣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36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矩形 5"/>
          <p:cNvSpPr/>
          <p:nvPr/>
        </p:nvSpPr>
        <p:spPr>
          <a:xfrm>
            <a:off x="4367880" y="602136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根据材料，分析西安事变发生的原因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矩形 3"/>
          <p:cNvSpPr/>
          <p:nvPr/>
        </p:nvSpPr>
        <p:spPr>
          <a:xfrm>
            <a:off x="324000" y="1484280"/>
            <a:ext cx="8420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通电清楚地表达了在国难当头的危机形势下，全国爱国同胞抗日救亡的共同心声和强烈要求。东北沦亡、华北危急，中日民族矛盾上升为最主要矛盾。中共抗日民族统一战线政策的感召下，张学良和杨虎城要求蒋介石联共抗日，多次恳求无望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Text Box 4"/>
          <p:cNvSpPr/>
          <p:nvPr/>
        </p:nvSpPr>
        <p:spPr>
          <a:xfrm>
            <a:off x="216000" y="1082520"/>
            <a:ext cx="8604000" cy="21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黑体"/>
                <a:ea typeface="黑体"/>
              </a:rPr>
              <a:t>  </a:t>
            </a:r>
            <a:r>
              <a:rPr b="1" lang="en-US" sz="5400" spc="-1" strike="noStrike">
                <a:solidFill>
                  <a:srgbClr val="800000"/>
                </a:solidFill>
                <a:latin typeface="黑体"/>
                <a:ea typeface="黑体"/>
              </a:rPr>
              <a:t>2</a:t>
            </a:r>
            <a:r>
              <a:rPr b="1" lang="zh-CN" sz="5400" spc="-1" strike="noStrike">
                <a:solidFill>
                  <a:srgbClr val="800000"/>
                </a:solidFill>
                <a:latin typeface="黑体"/>
                <a:ea typeface="黑体"/>
              </a:rPr>
              <a:t>、蒋介石应该如何处置？是杀？是留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7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黑体"/>
                <a:ea typeface="黑体"/>
              </a:rPr>
              <a:t>  </a:t>
            </a:r>
            <a:r>
              <a:rPr b="1" lang="zh-CN" sz="5400" spc="-1" strike="noStrike">
                <a:solidFill>
                  <a:srgbClr val="800000"/>
                </a:solidFill>
                <a:latin typeface="黑体"/>
                <a:ea typeface="黑体"/>
              </a:rPr>
              <a:t>请你猜猜日本、英美、国民党内亲日派、亲英美派和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共产党的</a:t>
            </a:r>
            <a:r>
              <a:rPr b="1" lang="zh-CN" sz="5400" spc="-1" strike="noStrike">
                <a:solidFill>
                  <a:srgbClr val="800000"/>
                </a:solidFill>
                <a:latin typeface="黑体"/>
                <a:ea typeface="黑体"/>
              </a:rPr>
              <a:t>各自</a:t>
            </a: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主张</a:t>
            </a:r>
            <a:r>
              <a:rPr b="1" lang="zh-CN" sz="5400" spc="-1" strike="noStrike">
                <a:solidFill>
                  <a:srgbClr val="800000"/>
                </a:solidFill>
                <a:latin typeface="黑体"/>
                <a:ea typeface="黑体"/>
              </a:rPr>
              <a:t>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Text Box 5"/>
          <p:cNvSpPr/>
          <p:nvPr/>
        </p:nvSpPr>
        <p:spPr>
          <a:xfrm>
            <a:off x="611280" y="299736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96" name="Group 7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497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8" name="WordArt 3"/>
            <p:cNvSpPr txBox="1"/>
            <p:nvPr/>
          </p:nvSpPr>
          <p:spPr>
            <a:xfrm>
              <a:off x="2987640" y="44280"/>
              <a:ext cx="396072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后活动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/>
          <p:cNvSpPr/>
          <p:nvPr/>
        </p:nvSpPr>
        <p:spPr>
          <a:xfrm>
            <a:off x="2627280" y="809640"/>
            <a:ext cx="6335640" cy="6048360"/>
          </a:xfrm>
          <a:prstGeom prst="cloudCallout">
            <a:avLst>
              <a:gd name="adj1" fmla="val -54861"/>
              <a:gd name="adj2" fmla="val -2282"/>
            </a:avLst>
          </a:prstGeom>
          <a:solidFill>
            <a:srgbClr val="f3f7c1"/>
          </a:solidFill>
          <a:ln w="93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哼！哼！哼！我一定要挑拨中国人打内战。让他们自相残杀吧！等到他们打到筋疲力尽的时候，中国就是我的了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Text Box 3"/>
          <p:cNvSpPr/>
          <p:nvPr/>
        </p:nvSpPr>
        <p:spPr>
          <a:xfrm>
            <a:off x="655560" y="5445000"/>
            <a:ext cx="304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cc"/>
                </a:solidFill>
                <a:latin typeface="华文彩云"/>
                <a:ea typeface="华文彩云"/>
              </a:rPr>
              <a:t>日  本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1" name="Picture 4" descr="6"/>
          <p:cNvPicPr/>
          <p:nvPr/>
        </p:nvPicPr>
        <p:blipFill>
          <a:blip r:embed="rId1"/>
          <a:stretch/>
        </p:blipFill>
        <p:spPr>
          <a:xfrm>
            <a:off x="304920" y="2286000"/>
            <a:ext cx="1874880" cy="3279600"/>
          </a:xfrm>
          <a:prstGeom prst="rect">
            <a:avLst/>
          </a:prstGeom>
          <a:ln w="0">
            <a:noFill/>
          </a:ln>
        </p:spPr>
      </p:pic>
      <p:grpSp>
        <p:nvGrpSpPr>
          <p:cNvPr id="502" name="Group 7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503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4" name="WordArt 3"/>
            <p:cNvSpPr txBox="1"/>
            <p:nvPr/>
          </p:nvSpPr>
          <p:spPr>
            <a:xfrm>
              <a:off x="2987640" y="44280"/>
              <a:ext cx="396072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后活动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9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5754600" y="907920"/>
            <a:ext cx="33544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0000cc"/>
                </a:solidFill>
                <a:latin typeface="Times New Roman"/>
                <a:ea typeface="隶书"/>
              </a:rPr>
              <a:t>英美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AutoShape 3"/>
          <p:cNvSpPr/>
          <p:nvPr/>
        </p:nvSpPr>
        <p:spPr>
          <a:xfrm>
            <a:off x="0" y="692280"/>
            <a:ext cx="6156360" cy="6165720"/>
          </a:xfrm>
          <a:prstGeom prst="cloudCallout">
            <a:avLst>
              <a:gd name="adj1" fmla="val 52578"/>
              <a:gd name="adj2" fmla="val 9754"/>
            </a:avLst>
          </a:prstGeom>
          <a:solidFill>
            <a:srgbClr val="f3f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喔，上帝！如果中国被日本占领了，我们在华的利益还能有保证吗？一定要促使中国人和平解决西安事变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7" name="Picture 4" descr="7"/>
          <p:cNvPicPr/>
          <p:nvPr/>
        </p:nvPicPr>
        <p:blipFill>
          <a:blip r:embed="rId1"/>
          <a:stretch/>
        </p:blipFill>
        <p:spPr>
          <a:xfrm>
            <a:off x="6469200" y="2914560"/>
            <a:ext cx="2674800" cy="3970440"/>
          </a:xfrm>
          <a:prstGeom prst="rect">
            <a:avLst/>
          </a:prstGeom>
          <a:ln w="0">
            <a:noFill/>
          </a:ln>
        </p:spPr>
      </p:pic>
      <p:grpSp>
        <p:nvGrpSpPr>
          <p:cNvPr id="508" name="Group 7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509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0" name="WordArt 3"/>
            <p:cNvSpPr txBox="1"/>
            <p:nvPr/>
          </p:nvSpPr>
          <p:spPr>
            <a:xfrm>
              <a:off x="2987640" y="44280"/>
              <a:ext cx="396072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后活动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Text Box 24"/>
          <p:cNvSpPr/>
          <p:nvPr/>
        </p:nvSpPr>
        <p:spPr>
          <a:xfrm>
            <a:off x="250920" y="1101600"/>
            <a:ext cx="333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姓张的和姓杨的竟敢扣押蒋委员长，真是大逆不道！我的军队一定和你们拼到底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 Box 25"/>
          <p:cNvSpPr/>
          <p:nvPr/>
        </p:nvSpPr>
        <p:spPr>
          <a:xfrm>
            <a:off x="250920" y="5057640"/>
            <a:ext cx="351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cc"/>
                </a:solidFill>
                <a:latin typeface="Times New Roman"/>
                <a:ea typeface="隶书"/>
              </a:rPr>
              <a:t>何应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AutoShape 26"/>
          <p:cNvSpPr/>
          <p:nvPr/>
        </p:nvSpPr>
        <p:spPr>
          <a:xfrm>
            <a:off x="4235400" y="836640"/>
            <a:ext cx="5049720" cy="6021360"/>
          </a:xfrm>
          <a:prstGeom prst="cloudCallout">
            <a:avLst>
              <a:gd name="adj1" fmla="val -44476"/>
              <a:gd name="adj2" fmla="val -3837"/>
            </a:avLst>
          </a:prstGeom>
          <a:solidFill>
            <a:srgbClr val="f3f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哈！哈！蒋介石呀蒋介石你也有今天。你放心吧，等你死了，委员长的宝座我替你坐着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4" name="Group 2"/>
          <p:cNvGrpSpPr/>
          <p:nvPr/>
        </p:nvGrpSpPr>
        <p:grpSpPr>
          <a:xfrm>
            <a:off x="2268360" y="3147840"/>
            <a:ext cx="2654280" cy="3521160"/>
            <a:chOff x="2268360" y="3147840"/>
            <a:chExt cx="2654280" cy="3521160"/>
          </a:xfrm>
        </p:grpSpPr>
        <p:sp>
          <p:nvSpPr>
            <p:cNvPr id="515" name="Freeform 3"/>
            <p:cNvSpPr/>
            <p:nvPr/>
          </p:nvSpPr>
          <p:spPr>
            <a:xfrm>
              <a:off x="2268360" y="3732120"/>
              <a:ext cx="2654280" cy="2936880"/>
            </a:xfrm>
            <a:custGeom>
              <a:avLst/>
              <a:gdLst>
                <a:gd name="textAreaLeft" fmla="*/ 0 w 2654280"/>
                <a:gd name="textAreaRight" fmla="*/ 2654640 w 2654280"/>
                <a:gd name="textAreaTop" fmla="*/ 0 h 2936880"/>
                <a:gd name="textAreaBottom" fmla="*/ 2937240 h 2936880"/>
              </a:gdLst>
              <a:ahLst/>
              <a:rect l="textAreaLeft" t="textAreaTop" r="textAreaRight" b="textAreaBottom"/>
              <a:pathLst>
                <a:path w="2207" h="1539">
                  <a:moveTo>
                    <a:pt x="1855" y="43"/>
                  </a:moveTo>
                  <a:lnTo>
                    <a:pt x="1863" y="43"/>
                  </a:lnTo>
                  <a:lnTo>
                    <a:pt x="1872" y="43"/>
                  </a:lnTo>
                  <a:lnTo>
                    <a:pt x="1880" y="44"/>
                  </a:lnTo>
                  <a:lnTo>
                    <a:pt x="1887" y="45"/>
                  </a:lnTo>
                  <a:lnTo>
                    <a:pt x="1894" y="49"/>
                  </a:lnTo>
                  <a:lnTo>
                    <a:pt x="1901" y="52"/>
                  </a:lnTo>
                  <a:lnTo>
                    <a:pt x="1906" y="58"/>
                  </a:lnTo>
                  <a:lnTo>
                    <a:pt x="1911" y="65"/>
                  </a:lnTo>
                  <a:lnTo>
                    <a:pt x="1918" y="75"/>
                  </a:lnTo>
                  <a:lnTo>
                    <a:pt x="1921" y="86"/>
                  </a:lnTo>
                  <a:lnTo>
                    <a:pt x="1923" y="98"/>
                  </a:lnTo>
                  <a:lnTo>
                    <a:pt x="1921" y="111"/>
                  </a:lnTo>
                  <a:lnTo>
                    <a:pt x="1928" y="118"/>
                  </a:lnTo>
                  <a:lnTo>
                    <a:pt x="1935" y="126"/>
                  </a:lnTo>
                  <a:lnTo>
                    <a:pt x="1942" y="133"/>
                  </a:lnTo>
                  <a:lnTo>
                    <a:pt x="1948" y="140"/>
                  </a:lnTo>
                  <a:lnTo>
                    <a:pt x="1954" y="147"/>
                  </a:lnTo>
                  <a:lnTo>
                    <a:pt x="1958" y="155"/>
                  </a:lnTo>
                  <a:lnTo>
                    <a:pt x="1959" y="165"/>
                  </a:lnTo>
                  <a:lnTo>
                    <a:pt x="1959" y="176"/>
                  </a:lnTo>
                  <a:lnTo>
                    <a:pt x="1959" y="195"/>
                  </a:lnTo>
                  <a:lnTo>
                    <a:pt x="1957" y="215"/>
                  </a:lnTo>
                  <a:lnTo>
                    <a:pt x="1954" y="233"/>
                  </a:lnTo>
                  <a:lnTo>
                    <a:pt x="1949" y="251"/>
                  </a:lnTo>
                  <a:lnTo>
                    <a:pt x="1942" y="268"/>
                  </a:lnTo>
                  <a:lnTo>
                    <a:pt x="1935" y="284"/>
                  </a:lnTo>
                  <a:lnTo>
                    <a:pt x="1927" y="300"/>
                  </a:lnTo>
                  <a:lnTo>
                    <a:pt x="1918" y="316"/>
                  </a:lnTo>
                  <a:lnTo>
                    <a:pt x="1927" y="342"/>
                  </a:lnTo>
                  <a:lnTo>
                    <a:pt x="1936" y="366"/>
                  </a:lnTo>
                  <a:lnTo>
                    <a:pt x="1947" y="391"/>
                  </a:lnTo>
                  <a:lnTo>
                    <a:pt x="1957" y="415"/>
                  </a:lnTo>
                  <a:lnTo>
                    <a:pt x="1969" y="440"/>
                  </a:lnTo>
                  <a:lnTo>
                    <a:pt x="1982" y="463"/>
                  </a:lnTo>
                  <a:lnTo>
                    <a:pt x="1997" y="484"/>
                  </a:lnTo>
                  <a:lnTo>
                    <a:pt x="2016" y="506"/>
                  </a:lnTo>
                  <a:lnTo>
                    <a:pt x="2027" y="524"/>
                  </a:lnTo>
                  <a:lnTo>
                    <a:pt x="2040" y="541"/>
                  </a:lnTo>
                  <a:lnTo>
                    <a:pt x="2054" y="558"/>
                  </a:lnTo>
                  <a:lnTo>
                    <a:pt x="2068" y="576"/>
                  </a:lnTo>
                  <a:lnTo>
                    <a:pt x="2082" y="593"/>
                  </a:lnTo>
                  <a:lnTo>
                    <a:pt x="2095" y="611"/>
                  </a:lnTo>
                  <a:lnTo>
                    <a:pt x="2106" y="629"/>
                  </a:lnTo>
                  <a:lnTo>
                    <a:pt x="2115" y="648"/>
                  </a:lnTo>
                  <a:lnTo>
                    <a:pt x="2114" y="663"/>
                  </a:lnTo>
                  <a:lnTo>
                    <a:pt x="2109" y="678"/>
                  </a:lnTo>
                  <a:lnTo>
                    <a:pt x="2102" y="691"/>
                  </a:lnTo>
                  <a:lnTo>
                    <a:pt x="2094" y="702"/>
                  </a:lnTo>
                  <a:lnTo>
                    <a:pt x="2084" y="714"/>
                  </a:lnTo>
                  <a:lnTo>
                    <a:pt x="2075" y="725"/>
                  </a:lnTo>
                  <a:lnTo>
                    <a:pt x="2064" y="736"/>
                  </a:lnTo>
                  <a:lnTo>
                    <a:pt x="2054" y="746"/>
                  </a:lnTo>
                  <a:lnTo>
                    <a:pt x="2054" y="762"/>
                  </a:lnTo>
                  <a:lnTo>
                    <a:pt x="2055" y="780"/>
                  </a:lnTo>
                  <a:lnTo>
                    <a:pt x="2057" y="796"/>
                  </a:lnTo>
                  <a:lnTo>
                    <a:pt x="2065" y="810"/>
                  </a:lnTo>
                  <a:lnTo>
                    <a:pt x="2084" y="813"/>
                  </a:lnTo>
                  <a:lnTo>
                    <a:pt x="2101" y="816"/>
                  </a:lnTo>
                  <a:lnTo>
                    <a:pt x="2120" y="821"/>
                  </a:lnTo>
                  <a:lnTo>
                    <a:pt x="2137" y="824"/>
                  </a:lnTo>
                  <a:lnTo>
                    <a:pt x="2154" y="829"/>
                  </a:lnTo>
                  <a:lnTo>
                    <a:pt x="2171" y="834"/>
                  </a:lnTo>
                  <a:lnTo>
                    <a:pt x="2190" y="838"/>
                  </a:lnTo>
                  <a:lnTo>
                    <a:pt x="2207" y="843"/>
                  </a:lnTo>
                  <a:lnTo>
                    <a:pt x="2196" y="905"/>
                  </a:lnTo>
                  <a:lnTo>
                    <a:pt x="2188" y="981"/>
                  </a:lnTo>
                  <a:lnTo>
                    <a:pt x="2182" y="1050"/>
                  </a:lnTo>
                  <a:lnTo>
                    <a:pt x="2182" y="1094"/>
                  </a:lnTo>
                  <a:lnTo>
                    <a:pt x="2175" y="1102"/>
                  </a:lnTo>
                  <a:lnTo>
                    <a:pt x="2168" y="1109"/>
                  </a:lnTo>
                  <a:lnTo>
                    <a:pt x="2160" y="1116"/>
                  </a:lnTo>
                  <a:lnTo>
                    <a:pt x="2152" y="1123"/>
                  </a:lnTo>
                  <a:lnTo>
                    <a:pt x="2143" y="1130"/>
                  </a:lnTo>
                  <a:lnTo>
                    <a:pt x="2136" y="1137"/>
                  </a:lnTo>
                  <a:lnTo>
                    <a:pt x="2129" y="1145"/>
                  </a:lnTo>
                  <a:lnTo>
                    <a:pt x="2124" y="1153"/>
                  </a:lnTo>
                  <a:lnTo>
                    <a:pt x="2111" y="1153"/>
                  </a:lnTo>
                  <a:lnTo>
                    <a:pt x="2093" y="1153"/>
                  </a:lnTo>
                  <a:lnTo>
                    <a:pt x="2072" y="1151"/>
                  </a:lnTo>
                  <a:lnTo>
                    <a:pt x="2050" y="1150"/>
                  </a:lnTo>
                  <a:lnTo>
                    <a:pt x="2030" y="1147"/>
                  </a:lnTo>
                  <a:lnTo>
                    <a:pt x="2011" y="1145"/>
                  </a:lnTo>
                  <a:lnTo>
                    <a:pt x="1997" y="1144"/>
                  </a:lnTo>
                  <a:lnTo>
                    <a:pt x="1991" y="1143"/>
                  </a:lnTo>
                  <a:lnTo>
                    <a:pt x="1992" y="1171"/>
                  </a:lnTo>
                  <a:lnTo>
                    <a:pt x="1992" y="1201"/>
                  </a:lnTo>
                  <a:lnTo>
                    <a:pt x="1993" y="1232"/>
                  </a:lnTo>
                  <a:lnTo>
                    <a:pt x="1997" y="1261"/>
                  </a:lnTo>
                  <a:lnTo>
                    <a:pt x="2010" y="1272"/>
                  </a:lnTo>
                  <a:lnTo>
                    <a:pt x="2023" y="1282"/>
                  </a:lnTo>
                  <a:lnTo>
                    <a:pt x="2035" y="1294"/>
                  </a:lnTo>
                  <a:lnTo>
                    <a:pt x="2047" y="1305"/>
                  </a:lnTo>
                  <a:lnTo>
                    <a:pt x="2057" y="1317"/>
                  </a:lnTo>
                  <a:lnTo>
                    <a:pt x="2067" y="1329"/>
                  </a:lnTo>
                  <a:lnTo>
                    <a:pt x="2075" y="1344"/>
                  </a:lnTo>
                  <a:lnTo>
                    <a:pt x="2079" y="1359"/>
                  </a:lnTo>
                  <a:lnTo>
                    <a:pt x="2091" y="1365"/>
                  </a:lnTo>
                  <a:lnTo>
                    <a:pt x="2098" y="1373"/>
                  </a:lnTo>
                  <a:lnTo>
                    <a:pt x="2102" y="1383"/>
                  </a:lnTo>
                  <a:lnTo>
                    <a:pt x="2103" y="1396"/>
                  </a:lnTo>
                  <a:lnTo>
                    <a:pt x="2097" y="1416"/>
                  </a:lnTo>
                  <a:lnTo>
                    <a:pt x="2090" y="1435"/>
                  </a:lnTo>
                  <a:lnTo>
                    <a:pt x="2084" y="1456"/>
                  </a:lnTo>
                  <a:lnTo>
                    <a:pt x="2079" y="1478"/>
                  </a:lnTo>
                  <a:lnTo>
                    <a:pt x="2070" y="1484"/>
                  </a:lnTo>
                  <a:lnTo>
                    <a:pt x="2061" y="1488"/>
                  </a:lnTo>
                  <a:lnTo>
                    <a:pt x="2050" y="1492"/>
                  </a:lnTo>
                  <a:lnTo>
                    <a:pt x="2040" y="1493"/>
                  </a:lnTo>
                  <a:lnTo>
                    <a:pt x="2029" y="1494"/>
                  </a:lnTo>
                  <a:lnTo>
                    <a:pt x="2017" y="1495"/>
                  </a:lnTo>
                  <a:lnTo>
                    <a:pt x="2005" y="1495"/>
                  </a:lnTo>
                  <a:lnTo>
                    <a:pt x="1994" y="1495"/>
                  </a:lnTo>
                  <a:lnTo>
                    <a:pt x="1987" y="1494"/>
                  </a:lnTo>
                  <a:lnTo>
                    <a:pt x="1978" y="1493"/>
                  </a:lnTo>
                  <a:lnTo>
                    <a:pt x="1969" y="1491"/>
                  </a:lnTo>
                  <a:lnTo>
                    <a:pt x="1963" y="1487"/>
                  </a:lnTo>
                  <a:lnTo>
                    <a:pt x="1967" y="1479"/>
                  </a:lnTo>
                  <a:lnTo>
                    <a:pt x="1973" y="1471"/>
                  </a:lnTo>
                  <a:lnTo>
                    <a:pt x="1979" y="1463"/>
                  </a:lnTo>
                  <a:lnTo>
                    <a:pt x="1985" y="1456"/>
                  </a:lnTo>
                  <a:lnTo>
                    <a:pt x="1992" y="1448"/>
                  </a:lnTo>
                  <a:lnTo>
                    <a:pt x="1997" y="1441"/>
                  </a:lnTo>
                  <a:lnTo>
                    <a:pt x="2003" y="1433"/>
                  </a:lnTo>
                  <a:lnTo>
                    <a:pt x="2009" y="1425"/>
                  </a:lnTo>
                  <a:lnTo>
                    <a:pt x="2000" y="1415"/>
                  </a:lnTo>
                  <a:lnTo>
                    <a:pt x="1989" y="1404"/>
                  </a:lnTo>
                  <a:lnTo>
                    <a:pt x="1979" y="1395"/>
                  </a:lnTo>
                  <a:lnTo>
                    <a:pt x="1967" y="1387"/>
                  </a:lnTo>
                  <a:lnTo>
                    <a:pt x="1956" y="1380"/>
                  </a:lnTo>
                  <a:lnTo>
                    <a:pt x="1943" y="1373"/>
                  </a:lnTo>
                  <a:lnTo>
                    <a:pt x="1931" y="1367"/>
                  </a:lnTo>
                  <a:lnTo>
                    <a:pt x="1918" y="1363"/>
                  </a:lnTo>
                  <a:lnTo>
                    <a:pt x="1918" y="1379"/>
                  </a:lnTo>
                  <a:lnTo>
                    <a:pt x="1914" y="1395"/>
                  </a:lnTo>
                  <a:lnTo>
                    <a:pt x="1910" y="1410"/>
                  </a:lnTo>
                  <a:lnTo>
                    <a:pt x="1904" y="1425"/>
                  </a:lnTo>
                  <a:lnTo>
                    <a:pt x="1898" y="1439"/>
                  </a:lnTo>
                  <a:lnTo>
                    <a:pt x="1895" y="1454"/>
                  </a:lnTo>
                  <a:lnTo>
                    <a:pt x="1894" y="1469"/>
                  </a:lnTo>
                  <a:lnTo>
                    <a:pt x="1896" y="1485"/>
                  </a:lnTo>
                  <a:lnTo>
                    <a:pt x="1894" y="1494"/>
                  </a:lnTo>
                  <a:lnTo>
                    <a:pt x="1891" y="1503"/>
                  </a:lnTo>
                  <a:lnTo>
                    <a:pt x="1889" y="1514"/>
                  </a:lnTo>
                  <a:lnTo>
                    <a:pt x="1889" y="1525"/>
                  </a:lnTo>
                  <a:lnTo>
                    <a:pt x="1866" y="1524"/>
                  </a:lnTo>
                  <a:lnTo>
                    <a:pt x="1843" y="1525"/>
                  </a:lnTo>
                  <a:lnTo>
                    <a:pt x="1820" y="1529"/>
                  </a:lnTo>
                  <a:lnTo>
                    <a:pt x="1797" y="1531"/>
                  </a:lnTo>
                  <a:lnTo>
                    <a:pt x="1775" y="1534"/>
                  </a:lnTo>
                  <a:lnTo>
                    <a:pt x="1753" y="1536"/>
                  </a:lnTo>
                  <a:lnTo>
                    <a:pt x="1730" y="1536"/>
                  </a:lnTo>
                  <a:lnTo>
                    <a:pt x="1708" y="1532"/>
                  </a:lnTo>
                  <a:lnTo>
                    <a:pt x="1704" y="1526"/>
                  </a:lnTo>
                  <a:lnTo>
                    <a:pt x="1707" y="1519"/>
                  </a:lnTo>
                  <a:lnTo>
                    <a:pt x="1713" y="1514"/>
                  </a:lnTo>
                  <a:lnTo>
                    <a:pt x="1720" y="1509"/>
                  </a:lnTo>
                  <a:lnTo>
                    <a:pt x="1732" y="1506"/>
                  </a:lnTo>
                  <a:lnTo>
                    <a:pt x="1744" y="1500"/>
                  </a:lnTo>
                  <a:lnTo>
                    <a:pt x="1757" y="1493"/>
                  </a:lnTo>
                  <a:lnTo>
                    <a:pt x="1767" y="1485"/>
                  </a:lnTo>
                  <a:lnTo>
                    <a:pt x="1779" y="1477"/>
                  </a:lnTo>
                  <a:lnTo>
                    <a:pt x="1789" y="1468"/>
                  </a:lnTo>
                  <a:lnTo>
                    <a:pt x="1798" y="1458"/>
                  </a:lnTo>
                  <a:lnTo>
                    <a:pt x="1807" y="1448"/>
                  </a:lnTo>
                  <a:lnTo>
                    <a:pt x="1790" y="1436"/>
                  </a:lnTo>
                  <a:lnTo>
                    <a:pt x="1776" y="1423"/>
                  </a:lnTo>
                  <a:lnTo>
                    <a:pt x="1765" y="1407"/>
                  </a:lnTo>
                  <a:lnTo>
                    <a:pt x="1755" y="1389"/>
                  </a:lnTo>
                  <a:lnTo>
                    <a:pt x="1747" y="1371"/>
                  </a:lnTo>
                  <a:lnTo>
                    <a:pt x="1739" y="1352"/>
                  </a:lnTo>
                  <a:lnTo>
                    <a:pt x="1730" y="1334"/>
                  </a:lnTo>
                  <a:lnTo>
                    <a:pt x="1720" y="1317"/>
                  </a:lnTo>
                  <a:lnTo>
                    <a:pt x="1160" y="1203"/>
                  </a:lnTo>
                  <a:lnTo>
                    <a:pt x="760" y="1539"/>
                  </a:lnTo>
                  <a:lnTo>
                    <a:pt x="728" y="1534"/>
                  </a:lnTo>
                  <a:lnTo>
                    <a:pt x="1148" y="1182"/>
                  </a:lnTo>
                  <a:lnTo>
                    <a:pt x="1679" y="1287"/>
                  </a:lnTo>
                  <a:lnTo>
                    <a:pt x="1666" y="1269"/>
                  </a:lnTo>
                  <a:lnTo>
                    <a:pt x="1656" y="1251"/>
                  </a:lnTo>
                  <a:lnTo>
                    <a:pt x="1648" y="1231"/>
                  </a:lnTo>
                  <a:lnTo>
                    <a:pt x="1644" y="1212"/>
                  </a:lnTo>
                  <a:lnTo>
                    <a:pt x="1639" y="1190"/>
                  </a:lnTo>
                  <a:lnTo>
                    <a:pt x="1637" y="1169"/>
                  </a:lnTo>
                  <a:lnTo>
                    <a:pt x="1633" y="1147"/>
                  </a:lnTo>
                  <a:lnTo>
                    <a:pt x="1631" y="1126"/>
                  </a:lnTo>
                  <a:lnTo>
                    <a:pt x="1630" y="1026"/>
                  </a:lnTo>
                  <a:lnTo>
                    <a:pt x="1622" y="1020"/>
                  </a:lnTo>
                  <a:lnTo>
                    <a:pt x="1613" y="1016"/>
                  </a:lnTo>
                  <a:lnTo>
                    <a:pt x="1602" y="1012"/>
                  </a:lnTo>
                  <a:lnTo>
                    <a:pt x="1593" y="1009"/>
                  </a:lnTo>
                  <a:lnTo>
                    <a:pt x="1583" y="1004"/>
                  </a:lnTo>
                  <a:lnTo>
                    <a:pt x="1573" y="1001"/>
                  </a:lnTo>
                  <a:lnTo>
                    <a:pt x="1564" y="995"/>
                  </a:lnTo>
                  <a:lnTo>
                    <a:pt x="1556" y="988"/>
                  </a:lnTo>
                  <a:lnTo>
                    <a:pt x="1556" y="970"/>
                  </a:lnTo>
                  <a:lnTo>
                    <a:pt x="1558" y="950"/>
                  </a:lnTo>
                  <a:lnTo>
                    <a:pt x="1557" y="934"/>
                  </a:lnTo>
                  <a:lnTo>
                    <a:pt x="1545" y="925"/>
                  </a:lnTo>
                  <a:lnTo>
                    <a:pt x="1537" y="924"/>
                  </a:lnTo>
                  <a:lnTo>
                    <a:pt x="1528" y="922"/>
                  </a:lnTo>
                  <a:lnTo>
                    <a:pt x="1520" y="922"/>
                  </a:lnTo>
                  <a:lnTo>
                    <a:pt x="1512" y="921"/>
                  </a:lnTo>
                  <a:lnTo>
                    <a:pt x="1504" y="921"/>
                  </a:lnTo>
                  <a:lnTo>
                    <a:pt x="1496" y="919"/>
                  </a:lnTo>
                  <a:lnTo>
                    <a:pt x="1489" y="918"/>
                  </a:lnTo>
                  <a:lnTo>
                    <a:pt x="1482" y="914"/>
                  </a:lnTo>
                  <a:lnTo>
                    <a:pt x="1493" y="902"/>
                  </a:lnTo>
                  <a:lnTo>
                    <a:pt x="1504" y="890"/>
                  </a:lnTo>
                  <a:lnTo>
                    <a:pt x="1518" y="880"/>
                  </a:lnTo>
                  <a:lnTo>
                    <a:pt x="1531" y="869"/>
                  </a:lnTo>
                  <a:lnTo>
                    <a:pt x="1545" y="858"/>
                  </a:lnTo>
                  <a:lnTo>
                    <a:pt x="1558" y="848"/>
                  </a:lnTo>
                  <a:lnTo>
                    <a:pt x="1571" y="835"/>
                  </a:lnTo>
                  <a:lnTo>
                    <a:pt x="1583" y="822"/>
                  </a:lnTo>
                  <a:lnTo>
                    <a:pt x="1587" y="808"/>
                  </a:lnTo>
                  <a:lnTo>
                    <a:pt x="1593" y="793"/>
                  </a:lnTo>
                  <a:lnTo>
                    <a:pt x="1599" y="778"/>
                  </a:lnTo>
                  <a:lnTo>
                    <a:pt x="1606" y="763"/>
                  </a:lnTo>
                  <a:lnTo>
                    <a:pt x="1610" y="748"/>
                  </a:lnTo>
                  <a:lnTo>
                    <a:pt x="1615" y="733"/>
                  </a:lnTo>
                  <a:lnTo>
                    <a:pt x="1618" y="718"/>
                  </a:lnTo>
                  <a:lnTo>
                    <a:pt x="1621" y="703"/>
                  </a:lnTo>
                  <a:lnTo>
                    <a:pt x="1615" y="691"/>
                  </a:lnTo>
                  <a:lnTo>
                    <a:pt x="1610" y="676"/>
                  </a:lnTo>
                  <a:lnTo>
                    <a:pt x="1606" y="656"/>
                  </a:lnTo>
                  <a:lnTo>
                    <a:pt x="1599" y="631"/>
                  </a:lnTo>
                  <a:lnTo>
                    <a:pt x="1595" y="608"/>
                  </a:lnTo>
                  <a:lnTo>
                    <a:pt x="1594" y="585"/>
                  </a:lnTo>
                  <a:lnTo>
                    <a:pt x="1594" y="561"/>
                  </a:lnTo>
                  <a:lnTo>
                    <a:pt x="1595" y="538"/>
                  </a:lnTo>
                  <a:lnTo>
                    <a:pt x="1066" y="878"/>
                  </a:lnTo>
                  <a:lnTo>
                    <a:pt x="0" y="767"/>
                  </a:lnTo>
                  <a:lnTo>
                    <a:pt x="1" y="762"/>
                  </a:lnTo>
                  <a:lnTo>
                    <a:pt x="2" y="759"/>
                  </a:lnTo>
                  <a:lnTo>
                    <a:pt x="3" y="756"/>
                  </a:lnTo>
                  <a:lnTo>
                    <a:pt x="5" y="754"/>
                  </a:lnTo>
                  <a:lnTo>
                    <a:pt x="1062" y="859"/>
                  </a:lnTo>
                  <a:lnTo>
                    <a:pt x="1601" y="511"/>
                  </a:lnTo>
                  <a:lnTo>
                    <a:pt x="1607" y="476"/>
                  </a:lnTo>
                  <a:lnTo>
                    <a:pt x="1609" y="441"/>
                  </a:lnTo>
                  <a:lnTo>
                    <a:pt x="1611" y="406"/>
                  </a:lnTo>
                  <a:lnTo>
                    <a:pt x="1618" y="372"/>
                  </a:lnTo>
                  <a:lnTo>
                    <a:pt x="1649" y="317"/>
                  </a:lnTo>
                  <a:lnTo>
                    <a:pt x="1658" y="322"/>
                  </a:lnTo>
                  <a:lnTo>
                    <a:pt x="1662" y="330"/>
                  </a:lnTo>
                  <a:lnTo>
                    <a:pt x="1666" y="339"/>
                  </a:lnTo>
                  <a:lnTo>
                    <a:pt x="1668" y="348"/>
                  </a:lnTo>
                  <a:lnTo>
                    <a:pt x="1670" y="357"/>
                  </a:lnTo>
                  <a:lnTo>
                    <a:pt x="1675" y="363"/>
                  </a:lnTo>
                  <a:lnTo>
                    <a:pt x="1683" y="366"/>
                  </a:lnTo>
                  <a:lnTo>
                    <a:pt x="1696" y="362"/>
                  </a:lnTo>
                  <a:lnTo>
                    <a:pt x="1699" y="376"/>
                  </a:lnTo>
                  <a:lnTo>
                    <a:pt x="1698" y="392"/>
                  </a:lnTo>
                  <a:lnTo>
                    <a:pt x="1694" y="408"/>
                  </a:lnTo>
                  <a:lnTo>
                    <a:pt x="1691" y="425"/>
                  </a:lnTo>
                  <a:lnTo>
                    <a:pt x="1686" y="436"/>
                  </a:lnTo>
                  <a:lnTo>
                    <a:pt x="1682" y="448"/>
                  </a:lnTo>
                  <a:lnTo>
                    <a:pt x="1676" y="459"/>
                  </a:lnTo>
                  <a:lnTo>
                    <a:pt x="1668" y="470"/>
                  </a:lnTo>
                  <a:lnTo>
                    <a:pt x="1671" y="486"/>
                  </a:lnTo>
                  <a:lnTo>
                    <a:pt x="1676" y="502"/>
                  </a:lnTo>
                  <a:lnTo>
                    <a:pt x="1682" y="517"/>
                  </a:lnTo>
                  <a:lnTo>
                    <a:pt x="1689" y="533"/>
                  </a:lnTo>
                  <a:lnTo>
                    <a:pt x="1701" y="529"/>
                  </a:lnTo>
                  <a:lnTo>
                    <a:pt x="1706" y="518"/>
                  </a:lnTo>
                  <a:lnTo>
                    <a:pt x="1708" y="504"/>
                  </a:lnTo>
                  <a:lnTo>
                    <a:pt x="1713" y="493"/>
                  </a:lnTo>
                  <a:lnTo>
                    <a:pt x="1722" y="479"/>
                  </a:lnTo>
                  <a:lnTo>
                    <a:pt x="1730" y="465"/>
                  </a:lnTo>
                  <a:lnTo>
                    <a:pt x="1739" y="450"/>
                  </a:lnTo>
                  <a:lnTo>
                    <a:pt x="1747" y="436"/>
                  </a:lnTo>
                  <a:lnTo>
                    <a:pt x="1755" y="422"/>
                  </a:lnTo>
                  <a:lnTo>
                    <a:pt x="1765" y="408"/>
                  </a:lnTo>
                  <a:lnTo>
                    <a:pt x="1774" y="395"/>
                  </a:lnTo>
                  <a:lnTo>
                    <a:pt x="1784" y="381"/>
                  </a:lnTo>
                  <a:lnTo>
                    <a:pt x="1772" y="367"/>
                  </a:lnTo>
                  <a:lnTo>
                    <a:pt x="1757" y="358"/>
                  </a:lnTo>
                  <a:lnTo>
                    <a:pt x="1738" y="353"/>
                  </a:lnTo>
                  <a:lnTo>
                    <a:pt x="1720" y="348"/>
                  </a:lnTo>
                  <a:lnTo>
                    <a:pt x="1701" y="344"/>
                  </a:lnTo>
                  <a:lnTo>
                    <a:pt x="1685" y="336"/>
                  </a:lnTo>
                  <a:lnTo>
                    <a:pt x="1671" y="324"/>
                  </a:lnTo>
                  <a:lnTo>
                    <a:pt x="1662" y="306"/>
                  </a:lnTo>
                  <a:lnTo>
                    <a:pt x="1656" y="282"/>
                  </a:lnTo>
                  <a:lnTo>
                    <a:pt x="1659" y="255"/>
                  </a:lnTo>
                  <a:lnTo>
                    <a:pt x="1662" y="230"/>
                  </a:lnTo>
                  <a:lnTo>
                    <a:pt x="1663" y="202"/>
                  </a:lnTo>
                  <a:lnTo>
                    <a:pt x="1656" y="200"/>
                  </a:lnTo>
                  <a:lnTo>
                    <a:pt x="1651" y="196"/>
                  </a:lnTo>
                  <a:lnTo>
                    <a:pt x="1644" y="193"/>
                  </a:lnTo>
                  <a:lnTo>
                    <a:pt x="1640" y="187"/>
                  </a:lnTo>
                  <a:lnTo>
                    <a:pt x="1649" y="171"/>
                  </a:lnTo>
                  <a:lnTo>
                    <a:pt x="1661" y="155"/>
                  </a:lnTo>
                  <a:lnTo>
                    <a:pt x="1674" y="141"/>
                  </a:lnTo>
                  <a:lnTo>
                    <a:pt x="1689" y="127"/>
                  </a:lnTo>
                  <a:lnTo>
                    <a:pt x="1704" y="115"/>
                  </a:lnTo>
                  <a:lnTo>
                    <a:pt x="1720" y="104"/>
                  </a:lnTo>
                  <a:lnTo>
                    <a:pt x="1736" y="94"/>
                  </a:lnTo>
                  <a:lnTo>
                    <a:pt x="1752" y="86"/>
                  </a:lnTo>
                  <a:lnTo>
                    <a:pt x="1745" y="67"/>
                  </a:lnTo>
                  <a:lnTo>
                    <a:pt x="1744" y="48"/>
                  </a:lnTo>
                  <a:lnTo>
                    <a:pt x="1747" y="28"/>
                  </a:lnTo>
                  <a:lnTo>
                    <a:pt x="1755" y="11"/>
                  </a:lnTo>
                  <a:lnTo>
                    <a:pt x="1768" y="4"/>
                  </a:lnTo>
                  <a:lnTo>
                    <a:pt x="1783" y="0"/>
                  </a:lnTo>
                  <a:lnTo>
                    <a:pt x="1797" y="0"/>
                  </a:lnTo>
                  <a:lnTo>
                    <a:pt x="1812" y="4"/>
                  </a:lnTo>
                  <a:lnTo>
                    <a:pt x="1825" y="10"/>
                  </a:lnTo>
                  <a:lnTo>
                    <a:pt x="1837" y="19"/>
                  </a:lnTo>
                  <a:lnTo>
                    <a:pt x="1846" y="30"/>
                  </a:lnTo>
                  <a:lnTo>
                    <a:pt x="1855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6" name="Group 4"/>
            <p:cNvGrpSpPr/>
            <p:nvPr/>
          </p:nvGrpSpPr>
          <p:grpSpPr>
            <a:xfrm>
              <a:off x="3352680" y="3147840"/>
              <a:ext cx="1526040" cy="3474360"/>
              <a:chOff x="3352680" y="3147840"/>
              <a:chExt cx="1526040" cy="3474360"/>
            </a:xfrm>
          </p:grpSpPr>
          <p:sp>
            <p:nvSpPr>
              <p:cNvPr id="517" name="Freeform 5"/>
              <p:cNvSpPr/>
              <p:nvPr/>
            </p:nvSpPr>
            <p:spPr>
              <a:xfrm>
                <a:off x="3575880" y="5144400"/>
                <a:ext cx="11880" cy="15480"/>
              </a:xfrm>
              <a:custGeom>
                <a:avLst/>
                <a:gdLst>
                  <a:gd name="textAreaLeft" fmla="*/ 0 w 11880"/>
                  <a:gd name="textAreaRight" fmla="*/ 12240 w 11880"/>
                  <a:gd name="textAreaTop" fmla="*/ 0 h 15480"/>
                  <a:gd name="textAreaBottom" fmla="*/ 15840 h 15480"/>
                </a:gdLst>
                <a:ahLst/>
                <a:rect l="textAreaLeft" t="textAreaTop" r="textAreaRight" b="textAreaBottom"/>
                <a:pathLst>
                  <a:path w="9" h="8">
                    <a:moveTo>
                      <a:pt x="0" y="8"/>
                    </a:moveTo>
                    <a:lnTo>
                      <a:pt x="2" y="5"/>
                    </a:lnTo>
                    <a:lnTo>
                      <a:pt x="5" y="3"/>
                    </a:lnTo>
                    <a:lnTo>
                      <a:pt x="6" y="2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7" y="2"/>
                    </a:lnTo>
                    <a:lnTo>
                      <a:pt x="5" y="3"/>
                    </a:lnTo>
                    <a:lnTo>
                      <a:pt x="2" y="5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8" name="Freeform 6"/>
              <p:cNvSpPr/>
              <p:nvPr/>
            </p:nvSpPr>
            <p:spPr>
              <a:xfrm>
                <a:off x="3352680" y="3147840"/>
                <a:ext cx="283320" cy="53640"/>
              </a:xfrm>
              <a:custGeom>
                <a:avLst/>
                <a:gdLst>
                  <a:gd name="textAreaLeft" fmla="*/ 0 w 283320"/>
                  <a:gd name="textAreaRight" fmla="*/ 283680 w 28332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36" h="29">
                    <a:moveTo>
                      <a:pt x="236" y="13"/>
                    </a:moveTo>
                    <a:lnTo>
                      <a:pt x="222" y="16"/>
                    </a:lnTo>
                    <a:lnTo>
                      <a:pt x="207" y="18"/>
                    </a:lnTo>
                    <a:lnTo>
                      <a:pt x="193" y="21"/>
                    </a:lnTo>
                    <a:lnTo>
                      <a:pt x="178" y="23"/>
                    </a:lnTo>
                    <a:lnTo>
                      <a:pt x="164" y="24"/>
                    </a:lnTo>
                    <a:lnTo>
                      <a:pt x="149" y="27"/>
                    </a:lnTo>
                    <a:lnTo>
                      <a:pt x="134" y="28"/>
                    </a:lnTo>
                    <a:lnTo>
                      <a:pt x="119" y="28"/>
                    </a:lnTo>
                    <a:lnTo>
                      <a:pt x="104" y="29"/>
                    </a:lnTo>
                    <a:lnTo>
                      <a:pt x="89" y="29"/>
                    </a:lnTo>
                    <a:lnTo>
                      <a:pt x="74" y="29"/>
                    </a:lnTo>
                    <a:lnTo>
                      <a:pt x="59" y="29"/>
                    </a:lnTo>
                    <a:lnTo>
                      <a:pt x="44" y="28"/>
                    </a:lnTo>
                    <a:lnTo>
                      <a:pt x="29" y="27"/>
                    </a:lnTo>
                    <a:lnTo>
                      <a:pt x="15" y="25"/>
                    </a:lnTo>
                    <a:lnTo>
                      <a:pt x="0" y="23"/>
                    </a:lnTo>
                    <a:lnTo>
                      <a:pt x="12" y="17"/>
                    </a:lnTo>
                    <a:lnTo>
                      <a:pt x="26" y="12"/>
                    </a:lnTo>
                    <a:lnTo>
                      <a:pt x="40" y="7"/>
                    </a:lnTo>
                    <a:lnTo>
                      <a:pt x="55" y="5"/>
                    </a:lnTo>
                    <a:lnTo>
                      <a:pt x="69" y="2"/>
                    </a:lnTo>
                    <a:lnTo>
                      <a:pt x="84" y="0"/>
                    </a:lnTo>
                    <a:lnTo>
                      <a:pt x="99" y="0"/>
                    </a:lnTo>
                    <a:lnTo>
                      <a:pt x="115" y="0"/>
                    </a:lnTo>
                    <a:lnTo>
                      <a:pt x="130" y="0"/>
                    </a:lnTo>
                    <a:lnTo>
                      <a:pt x="145" y="1"/>
                    </a:lnTo>
                    <a:lnTo>
                      <a:pt x="160" y="2"/>
                    </a:lnTo>
                    <a:lnTo>
                      <a:pt x="176" y="5"/>
                    </a:lnTo>
                    <a:lnTo>
                      <a:pt x="191" y="6"/>
                    </a:lnTo>
                    <a:lnTo>
                      <a:pt x="206" y="8"/>
                    </a:lnTo>
                    <a:lnTo>
                      <a:pt x="221" y="10"/>
                    </a:lnTo>
                    <a:lnTo>
                      <a:pt x="23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9" name="Freeform 7"/>
              <p:cNvSpPr/>
              <p:nvPr/>
            </p:nvSpPr>
            <p:spPr>
              <a:xfrm>
                <a:off x="3594960" y="3903480"/>
                <a:ext cx="535680" cy="637200"/>
              </a:xfrm>
              <a:custGeom>
                <a:avLst/>
                <a:gdLst>
                  <a:gd name="textAreaLeft" fmla="*/ 0 w 535680"/>
                  <a:gd name="textAreaRight" fmla="*/ 536040 w 535680"/>
                  <a:gd name="textAreaTop" fmla="*/ 0 h 637200"/>
                  <a:gd name="textAreaBottom" fmla="*/ 637560 h 637200"/>
                </a:gdLst>
                <a:ahLst/>
                <a:rect l="textAreaLeft" t="textAreaTop" r="textAreaRight" b="textAreaBottom"/>
                <a:pathLst>
                  <a:path w="447" h="335">
                    <a:moveTo>
                      <a:pt x="446" y="105"/>
                    </a:moveTo>
                    <a:lnTo>
                      <a:pt x="447" y="105"/>
                    </a:lnTo>
                    <a:lnTo>
                      <a:pt x="400" y="335"/>
                    </a:lnTo>
                    <a:lnTo>
                      <a:pt x="0" y="129"/>
                    </a:lnTo>
                    <a:lnTo>
                      <a:pt x="6" y="0"/>
                    </a:lnTo>
                    <a:lnTo>
                      <a:pt x="446" y="10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Freeform 8"/>
              <p:cNvSpPr/>
              <p:nvPr/>
            </p:nvSpPr>
            <p:spPr>
              <a:xfrm>
                <a:off x="3886200" y="4307760"/>
                <a:ext cx="35640" cy="57960"/>
              </a:xfrm>
              <a:custGeom>
                <a:avLst/>
                <a:gdLst>
                  <a:gd name="textAreaLeft" fmla="*/ 0 w 35640"/>
                  <a:gd name="textAreaRight" fmla="*/ 36000 w 3564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9" h="30">
                    <a:moveTo>
                      <a:pt x="29" y="15"/>
                    </a:moveTo>
                    <a:lnTo>
                      <a:pt x="28" y="19"/>
                    </a:lnTo>
                    <a:lnTo>
                      <a:pt x="27" y="23"/>
                    </a:lnTo>
                    <a:lnTo>
                      <a:pt x="24" y="26"/>
                    </a:lnTo>
                    <a:lnTo>
                      <a:pt x="21" y="28"/>
                    </a:lnTo>
                    <a:lnTo>
                      <a:pt x="14" y="30"/>
                    </a:lnTo>
                    <a:lnTo>
                      <a:pt x="8" y="26"/>
                    </a:lnTo>
                    <a:lnTo>
                      <a:pt x="4" y="20"/>
                    </a:lnTo>
                    <a:lnTo>
                      <a:pt x="0" y="16"/>
                    </a:lnTo>
                    <a:lnTo>
                      <a:pt x="0" y="9"/>
                    </a:lnTo>
                    <a:lnTo>
                      <a:pt x="3" y="3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20" y="1"/>
                    </a:lnTo>
                    <a:lnTo>
                      <a:pt x="24" y="3"/>
                    </a:lnTo>
                    <a:lnTo>
                      <a:pt x="28" y="8"/>
                    </a:lnTo>
                    <a:lnTo>
                      <a:pt x="29" y="15"/>
                    </a:lnTo>
                    <a:close/>
                  </a:path>
                </a:pathLst>
              </a:custGeom>
              <a:solidFill>
                <a:srgbClr val="ff00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Freeform 9"/>
              <p:cNvSpPr/>
              <p:nvPr/>
            </p:nvSpPr>
            <p:spPr>
              <a:xfrm>
                <a:off x="4395960" y="3762360"/>
                <a:ext cx="206280" cy="48456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484560"/>
                  <a:gd name="textAreaBottom" fmla="*/ 484920 h 484560"/>
                </a:gdLst>
                <a:ahLst/>
                <a:rect l="textAreaLeft" t="textAreaTop" r="textAreaRight" b="textAreaBottom"/>
                <a:pathLst>
                  <a:path w="172" h="254">
                    <a:moveTo>
                      <a:pt x="56" y="27"/>
                    </a:moveTo>
                    <a:lnTo>
                      <a:pt x="57" y="33"/>
                    </a:lnTo>
                    <a:lnTo>
                      <a:pt x="60" y="39"/>
                    </a:lnTo>
                    <a:lnTo>
                      <a:pt x="63" y="43"/>
                    </a:lnTo>
                    <a:lnTo>
                      <a:pt x="67" y="47"/>
                    </a:lnTo>
                    <a:lnTo>
                      <a:pt x="75" y="48"/>
                    </a:lnTo>
                    <a:lnTo>
                      <a:pt x="83" y="47"/>
                    </a:lnTo>
                    <a:lnTo>
                      <a:pt x="92" y="46"/>
                    </a:lnTo>
                    <a:lnTo>
                      <a:pt x="99" y="46"/>
                    </a:lnTo>
                    <a:lnTo>
                      <a:pt x="107" y="46"/>
                    </a:lnTo>
                    <a:lnTo>
                      <a:pt x="114" y="48"/>
                    </a:lnTo>
                    <a:lnTo>
                      <a:pt x="120" y="53"/>
                    </a:lnTo>
                    <a:lnTo>
                      <a:pt x="125" y="62"/>
                    </a:lnTo>
                    <a:lnTo>
                      <a:pt x="126" y="78"/>
                    </a:lnTo>
                    <a:lnTo>
                      <a:pt x="126" y="94"/>
                    </a:lnTo>
                    <a:lnTo>
                      <a:pt x="129" y="109"/>
                    </a:lnTo>
                    <a:lnTo>
                      <a:pt x="144" y="116"/>
                    </a:lnTo>
                    <a:lnTo>
                      <a:pt x="163" y="136"/>
                    </a:lnTo>
                    <a:lnTo>
                      <a:pt x="171" y="160"/>
                    </a:lnTo>
                    <a:lnTo>
                      <a:pt x="172" y="185"/>
                    </a:lnTo>
                    <a:lnTo>
                      <a:pt x="171" y="209"/>
                    </a:lnTo>
                    <a:lnTo>
                      <a:pt x="142" y="254"/>
                    </a:lnTo>
                    <a:lnTo>
                      <a:pt x="137" y="250"/>
                    </a:lnTo>
                    <a:lnTo>
                      <a:pt x="137" y="243"/>
                    </a:lnTo>
                    <a:lnTo>
                      <a:pt x="141" y="235"/>
                    </a:lnTo>
                    <a:lnTo>
                      <a:pt x="145" y="225"/>
                    </a:lnTo>
                    <a:lnTo>
                      <a:pt x="150" y="216"/>
                    </a:lnTo>
                    <a:lnTo>
                      <a:pt x="155" y="206"/>
                    </a:lnTo>
                    <a:lnTo>
                      <a:pt x="156" y="195"/>
                    </a:lnTo>
                    <a:lnTo>
                      <a:pt x="152" y="186"/>
                    </a:lnTo>
                    <a:lnTo>
                      <a:pt x="148" y="179"/>
                    </a:lnTo>
                    <a:lnTo>
                      <a:pt x="142" y="175"/>
                    </a:lnTo>
                    <a:lnTo>
                      <a:pt x="136" y="171"/>
                    </a:lnTo>
                    <a:lnTo>
                      <a:pt x="130" y="168"/>
                    </a:lnTo>
                    <a:lnTo>
                      <a:pt x="124" y="166"/>
                    </a:lnTo>
                    <a:lnTo>
                      <a:pt x="117" y="162"/>
                    </a:lnTo>
                    <a:lnTo>
                      <a:pt x="111" y="160"/>
                    </a:lnTo>
                    <a:lnTo>
                      <a:pt x="105" y="156"/>
                    </a:lnTo>
                    <a:lnTo>
                      <a:pt x="94" y="142"/>
                    </a:lnTo>
                    <a:lnTo>
                      <a:pt x="81" y="130"/>
                    </a:lnTo>
                    <a:lnTo>
                      <a:pt x="67" y="117"/>
                    </a:lnTo>
                    <a:lnTo>
                      <a:pt x="54" y="104"/>
                    </a:lnTo>
                    <a:lnTo>
                      <a:pt x="41" y="92"/>
                    </a:lnTo>
                    <a:lnTo>
                      <a:pt x="28" y="79"/>
                    </a:lnTo>
                    <a:lnTo>
                      <a:pt x="14" y="68"/>
                    </a:lnTo>
                    <a:lnTo>
                      <a:pt x="1" y="55"/>
                    </a:lnTo>
                    <a:lnTo>
                      <a:pt x="0" y="40"/>
                    </a:lnTo>
                    <a:lnTo>
                      <a:pt x="3" y="25"/>
                    </a:lnTo>
                    <a:lnTo>
                      <a:pt x="7" y="12"/>
                    </a:lnTo>
                    <a:lnTo>
                      <a:pt x="16" y="1"/>
                    </a:lnTo>
                    <a:lnTo>
                      <a:pt x="23" y="0"/>
                    </a:lnTo>
                    <a:lnTo>
                      <a:pt x="30" y="0"/>
                    </a:lnTo>
                    <a:lnTo>
                      <a:pt x="36" y="2"/>
                    </a:lnTo>
                    <a:lnTo>
                      <a:pt x="42" y="6"/>
                    </a:lnTo>
                    <a:lnTo>
                      <a:pt x="46" y="11"/>
                    </a:lnTo>
                    <a:lnTo>
                      <a:pt x="50" y="17"/>
                    </a:lnTo>
                    <a:lnTo>
                      <a:pt x="53" y="23"/>
                    </a:lnTo>
                    <a:lnTo>
                      <a:pt x="56" y="2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Freeform 10"/>
              <p:cNvSpPr/>
              <p:nvPr/>
            </p:nvSpPr>
            <p:spPr>
              <a:xfrm>
                <a:off x="4277880" y="3922560"/>
                <a:ext cx="269280" cy="507960"/>
              </a:xfrm>
              <a:custGeom>
                <a:avLst/>
                <a:gdLst>
                  <a:gd name="textAreaLeft" fmla="*/ 0 w 269280"/>
                  <a:gd name="textAreaRight" fmla="*/ 269640 w 269280"/>
                  <a:gd name="textAreaTop" fmla="*/ 0 h 507960"/>
                  <a:gd name="textAreaBottom" fmla="*/ 508320 h 507960"/>
                </a:gdLst>
                <a:ahLst/>
                <a:rect l="textAreaLeft" t="textAreaTop" r="textAreaRight" b="textAreaBottom"/>
                <a:pathLst>
                  <a:path w="224" h="265">
                    <a:moveTo>
                      <a:pt x="215" y="100"/>
                    </a:moveTo>
                    <a:lnTo>
                      <a:pt x="220" y="106"/>
                    </a:lnTo>
                    <a:lnTo>
                      <a:pt x="224" y="114"/>
                    </a:lnTo>
                    <a:lnTo>
                      <a:pt x="224" y="123"/>
                    </a:lnTo>
                    <a:lnTo>
                      <a:pt x="220" y="131"/>
                    </a:lnTo>
                    <a:lnTo>
                      <a:pt x="212" y="140"/>
                    </a:lnTo>
                    <a:lnTo>
                      <a:pt x="208" y="152"/>
                    </a:lnTo>
                    <a:lnTo>
                      <a:pt x="208" y="166"/>
                    </a:lnTo>
                    <a:lnTo>
                      <a:pt x="211" y="177"/>
                    </a:lnTo>
                    <a:lnTo>
                      <a:pt x="215" y="185"/>
                    </a:lnTo>
                    <a:lnTo>
                      <a:pt x="217" y="195"/>
                    </a:lnTo>
                    <a:lnTo>
                      <a:pt x="218" y="204"/>
                    </a:lnTo>
                    <a:lnTo>
                      <a:pt x="220" y="213"/>
                    </a:lnTo>
                    <a:lnTo>
                      <a:pt x="209" y="221"/>
                    </a:lnTo>
                    <a:lnTo>
                      <a:pt x="199" y="228"/>
                    </a:lnTo>
                    <a:lnTo>
                      <a:pt x="187" y="235"/>
                    </a:lnTo>
                    <a:lnTo>
                      <a:pt x="177" y="241"/>
                    </a:lnTo>
                    <a:lnTo>
                      <a:pt x="166" y="246"/>
                    </a:lnTo>
                    <a:lnTo>
                      <a:pt x="155" y="252"/>
                    </a:lnTo>
                    <a:lnTo>
                      <a:pt x="143" y="258"/>
                    </a:lnTo>
                    <a:lnTo>
                      <a:pt x="132" y="265"/>
                    </a:lnTo>
                    <a:lnTo>
                      <a:pt x="120" y="249"/>
                    </a:lnTo>
                    <a:lnTo>
                      <a:pt x="106" y="240"/>
                    </a:lnTo>
                    <a:lnTo>
                      <a:pt x="90" y="234"/>
                    </a:lnTo>
                    <a:lnTo>
                      <a:pt x="73" y="230"/>
                    </a:lnTo>
                    <a:lnTo>
                      <a:pt x="56" y="228"/>
                    </a:lnTo>
                    <a:lnTo>
                      <a:pt x="40" y="222"/>
                    </a:lnTo>
                    <a:lnTo>
                      <a:pt x="26" y="213"/>
                    </a:lnTo>
                    <a:lnTo>
                      <a:pt x="16" y="197"/>
                    </a:lnTo>
                    <a:lnTo>
                      <a:pt x="13" y="172"/>
                    </a:lnTo>
                    <a:lnTo>
                      <a:pt x="15" y="147"/>
                    </a:lnTo>
                    <a:lnTo>
                      <a:pt x="19" y="123"/>
                    </a:lnTo>
                    <a:lnTo>
                      <a:pt x="19" y="97"/>
                    </a:lnTo>
                    <a:lnTo>
                      <a:pt x="0" y="81"/>
                    </a:lnTo>
                    <a:lnTo>
                      <a:pt x="8" y="68"/>
                    </a:lnTo>
                    <a:lnTo>
                      <a:pt x="18" y="56"/>
                    </a:lnTo>
                    <a:lnTo>
                      <a:pt x="29" y="45"/>
                    </a:lnTo>
                    <a:lnTo>
                      <a:pt x="42" y="34"/>
                    </a:lnTo>
                    <a:lnTo>
                      <a:pt x="55" y="25"/>
                    </a:lnTo>
                    <a:lnTo>
                      <a:pt x="67" y="17"/>
                    </a:lnTo>
                    <a:lnTo>
                      <a:pt x="81" y="8"/>
                    </a:lnTo>
                    <a:lnTo>
                      <a:pt x="94" y="0"/>
                    </a:lnTo>
                    <a:lnTo>
                      <a:pt x="110" y="10"/>
                    </a:lnTo>
                    <a:lnTo>
                      <a:pt x="125" y="24"/>
                    </a:lnTo>
                    <a:lnTo>
                      <a:pt x="139" y="39"/>
                    </a:lnTo>
                    <a:lnTo>
                      <a:pt x="154" y="53"/>
                    </a:lnTo>
                    <a:lnTo>
                      <a:pt x="167" y="68"/>
                    </a:lnTo>
                    <a:lnTo>
                      <a:pt x="182" y="82"/>
                    </a:lnTo>
                    <a:lnTo>
                      <a:pt x="199" y="92"/>
                    </a:lnTo>
                    <a:lnTo>
                      <a:pt x="215" y="10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Freeform 11"/>
              <p:cNvSpPr/>
              <p:nvPr/>
            </p:nvSpPr>
            <p:spPr>
              <a:xfrm>
                <a:off x="4352400" y="3987360"/>
                <a:ext cx="38520" cy="61200"/>
              </a:xfrm>
              <a:custGeom>
                <a:avLst/>
                <a:gdLst>
                  <a:gd name="textAreaLeft" fmla="*/ 0 w 38520"/>
                  <a:gd name="textAreaRight" fmla="*/ 38880 w 38520"/>
                  <a:gd name="textAreaTop" fmla="*/ 0 h 61200"/>
                  <a:gd name="textAreaBottom" fmla="*/ 61560 h 61200"/>
                </a:gdLst>
                <a:ahLst/>
                <a:rect l="textAreaLeft" t="textAreaTop" r="textAreaRight" b="textAreaBottom"/>
                <a:pathLst>
                  <a:path w="33" h="33">
                    <a:moveTo>
                      <a:pt x="33" y="24"/>
                    </a:moveTo>
                    <a:lnTo>
                      <a:pt x="33" y="30"/>
                    </a:lnTo>
                    <a:lnTo>
                      <a:pt x="20" y="33"/>
                    </a:lnTo>
                    <a:lnTo>
                      <a:pt x="12" y="27"/>
                    </a:lnTo>
                    <a:lnTo>
                      <a:pt x="6" y="15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20" y="5"/>
                    </a:lnTo>
                    <a:lnTo>
                      <a:pt x="27" y="14"/>
                    </a:lnTo>
                    <a:lnTo>
                      <a:pt x="33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12"/>
              <p:cNvSpPr/>
              <p:nvPr/>
            </p:nvSpPr>
            <p:spPr>
              <a:xfrm>
                <a:off x="4318560" y="4250880"/>
                <a:ext cx="50400" cy="56880"/>
              </a:xfrm>
              <a:custGeom>
                <a:avLst/>
                <a:gdLst>
                  <a:gd name="textAreaLeft" fmla="*/ 0 w 50400"/>
                  <a:gd name="textAreaRight" fmla="*/ 50760 w 50400"/>
                  <a:gd name="textAreaTop" fmla="*/ 0 h 56880"/>
                  <a:gd name="textAreaBottom" fmla="*/ 57240 h 56880"/>
                </a:gdLst>
                <a:ahLst/>
                <a:rect l="textAreaLeft" t="textAreaTop" r="textAreaRight" b="textAreaBottom"/>
                <a:pathLst>
                  <a:path w="42" h="32">
                    <a:moveTo>
                      <a:pt x="42" y="10"/>
                    </a:moveTo>
                    <a:lnTo>
                      <a:pt x="38" y="15"/>
                    </a:lnTo>
                    <a:lnTo>
                      <a:pt x="32" y="21"/>
                    </a:lnTo>
                    <a:lnTo>
                      <a:pt x="25" y="27"/>
                    </a:lnTo>
                    <a:lnTo>
                      <a:pt x="18" y="32"/>
                    </a:lnTo>
                    <a:lnTo>
                      <a:pt x="1" y="30"/>
                    </a:lnTo>
                    <a:lnTo>
                      <a:pt x="0" y="20"/>
                    </a:lnTo>
                    <a:lnTo>
                      <a:pt x="6" y="14"/>
                    </a:lnTo>
                    <a:lnTo>
                      <a:pt x="14" y="8"/>
                    </a:lnTo>
                    <a:lnTo>
                      <a:pt x="22" y="0"/>
                    </a:lnTo>
                    <a:lnTo>
                      <a:pt x="27" y="0"/>
                    </a:lnTo>
                    <a:lnTo>
                      <a:pt x="33" y="3"/>
                    </a:lnTo>
                    <a:lnTo>
                      <a:pt x="38" y="5"/>
                    </a:lnTo>
                    <a:lnTo>
                      <a:pt x="4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13"/>
              <p:cNvSpPr/>
              <p:nvPr/>
            </p:nvSpPr>
            <p:spPr>
              <a:xfrm>
                <a:off x="4234680" y="4434120"/>
                <a:ext cx="40680" cy="152280"/>
              </a:xfrm>
              <a:custGeom>
                <a:avLst/>
                <a:gdLst>
                  <a:gd name="textAreaLeft" fmla="*/ 0 w 40680"/>
                  <a:gd name="textAreaRight" fmla="*/ 41040 w 40680"/>
                  <a:gd name="textAreaTop" fmla="*/ 0 h 152280"/>
                  <a:gd name="textAreaBottom" fmla="*/ 152640 h 152280"/>
                </a:gdLst>
                <a:ahLst/>
                <a:rect l="textAreaLeft" t="textAreaTop" r="textAreaRight" b="textAreaBottom"/>
                <a:pathLst>
                  <a:path w="33" h="81">
                    <a:moveTo>
                      <a:pt x="22" y="20"/>
                    </a:moveTo>
                    <a:lnTo>
                      <a:pt x="33" y="21"/>
                    </a:lnTo>
                    <a:lnTo>
                      <a:pt x="32" y="37"/>
                    </a:lnTo>
                    <a:lnTo>
                      <a:pt x="27" y="52"/>
                    </a:lnTo>
                    <a:lnTo>
                      <a:pt x="20" y="67"/>
                    </a:lnTo>
                    <a:lnTo>
                      <a:pt x="13" y="81"/>
                    </a:lnTo>
                    <a:lnTo>
                      <a:pt x="5" y="81"/>
                    </a:lnTo>
                    <a:lnTo>
                      <a:pt x="2" y="75"/>
                    </a:lnTo>
                    <a:lnTo>
                      <a:pt x="1" y="65"/>
                    </a:lnTo>
                    <a:lnTo>
                      <a:pt x="0" y="57"/>
                    </a:lnTo>
                    <a:lnTo>
                      <a:pt x="11" y="0"/>
                    </a:lnTo>
                    <a:lnTo>
                      <a:pt x="13" y="6"/>
                    </a:lnTo>
                    <a:lnTo>
                      <a:pt x="15" y="10"/>
                    </a:lnTo>
                    <a:lnTo>
                      <a:pt x="17" y="15"/>
                    </a:lnTo>
                    <a:lnTo>
                      <a:pt x="22" y="2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14"/>
              <p:cNvSpPr/>
              <p:nvPr/>
            </p:nvSpPr>
            <p:spPr>
              <a:xfrm>
                <a:off x="4684320" y="4773600"/>
                <a:ext cx="88560" cy="316800"/>
              </a:xfrm>
              <a:custGeom>
                <a:avLst/>
                <a:gdLst>
                  <a:gd name="textAreaLeft" fmla="*/ 0 w 88560"/>
                  <a:gd name="textAreaRight" fmla="*/ 88920 w 88560"/>
                  <a:gd name="textAreaTop" fmla="*/ 0 h 316800"/>
                  <a:gd name="textAreaBottom" fmla="*/ 317160 h 316800"/>
                </a:gdLst>
                <a:ahLst/>
                <a:rect l="textAreaLeft" t="textAreaTop" r="textAreaRight" b="textAreaBottom"/>
                <a:pathLst>
                  <a:path w="75" h="167">
                    <a:moveTo>
                      <a:pt x="75" y="123"/>
                    </a:moveTo>
                    <a:lnTo>
                      <a:pt x="68" y="135"/>
                    </a:lnTo>
                    <a:lnTo>
                      <a:pt x="61" y="145"/>
                    </a:lnTo>
                    <a:lnTo>
                      <a:pt x="52" y="156"/>
                    </a:lnTo>
                    <a:lnTo>
                      <a:pt x="43" y="167"/>
                    </a:lnTo>
                    <a:lnTo>
                      <a:pt x="37" y="146"/>
                    </a:lnTo>
                    <a:lnTo>
                      <a:pt x="32" y="127"/>
                    </a:lnTo>
                    <a:lnTo>
                      <a:pt x="26" y="105"/>
                    </a:lnTo>
                    <a:lnTo>
                      <a:pt x="22" y="84"/>
                    </a:lnTo>
                    <a:lnTo>
                      <a:pt x="16" y="62"/>
                    </a:lnTo>
                    <a:lnTo>
                      <a:pt x="11" y="41"/>
                    </a:lnTo>
                    <a:lnTo>
                      <a:pt x="6" y="20"/>
                    </a:lnTo>
                    <a:lnTo>
                      <a:pt x="0" y="0"/>
                    </a:lnTo>
                    <a:lnTo>
                      <a:pt x="14" y="12"/>
                    </a:lnTo>
                    <a:lnTo>
                      <a:pt x="28" y="26"/>
                    </a:lnTo>
                    <a:lnTo>
                      <a:pt x="40" y="41"/>
                    </a:lnTo>
                    <a:lnTo>
                      <a:pt x="52" y="56"/>
                    </a:lnTo>
                    <a:lnTo>
                      <a:pt x="61" y="71"/>
                    </a:lnTo>
                    <a:lnTo>
                      <a:pt x="69" y="88"/>
                    </a:lnTo>
                    <a:lnTo>
                      <a:pt x="74" y="106"/>
                    </a:lnTo>
                    <a:lnTo>
                      <a:pt x="75" y="1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15"/>
              <p:cNvSpPr/>
              <p:nvPr/>
            </p:nvSpPr>
            <p:spPr>
              <a:xfrm>
                <a:off x="4744440" y="5304600"/>
                <a:ext cx="127440" cy="8388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83880"/>
                  <a:gd name="textAreaBottom" fmla="*/ 84240 h 83880"/>
                </a:gdLst>
                <a:ahLst/>
                <a:rect l="textAreaLeft" t="textAreaTop" r="textAreaRight" b="textAreaBottom"/>
                <a:pathLst>
                  <a:path w="106" h="45">
                    <a:moveTo>
                      <a:pt x="106" y="25"/>
                    </a:moveTo>
                    <a:lnTo>
                      <a:pt x="94" y="39"/>
                    </a:lnTo>
                    <a:lnTo>
                      <a:pt x="83" y="45"/>
                    </a:lnTo>
                    <a:lnTo>
                      <a:pt x="69" y="45"/>
                    </a:lnTo>
                    <a:lnTo>
                      <a:pt x="56" y="42"/>
                    </a:lnTo>
                    <a:lnTo>
                      <a:pt x="42" y="35"/>
                    </a:lnTo>
                    <a:lnTo>
                      <a:pt x="28" y="29"/>
                    </a:lnTo>
                    <a:lnTo>
                      <a:pt x="15" y="24"/>
                    </a:lnTo>
                    <a:lnTo>
                      <a:pt x="2" y="20"/>
                    </a:lnTo>
                    <a:lnTo>
                      <a:pt x="0" y="0"/>
                    </a:lnTo>
                    <a:lnTo>
                      <a:pt x="12" y="4"/>
                    </a:lnTo>
                    <a:lnTo>
                      <a:pt x="26" y="7"/>
                    </a:lnTo>
                    <a:lnTo>
                      <a:pt x="39" y="11"/>
                    </a:lnTo>
                    <a:lnTo>
                      <a:pt x="51" y="14"/>
                    </a:lnTo>
                    <a:lnTo>
                      <a:pt x="65" y="17"/>
                    </a:lnTo>
                    <a:lnTo>
                      <a:pt x="78" y="20"/>
                    </a:lnTo>
                    <a:lnTo>
                      <a:pt x="92" y="22"/>
                    </a:lnTo>
                    <a:lnTo>
                      <a:pt x="106" y="2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Freeform 16"/>
              <p:cNvSpPr/>
              <p:nvPr/>
            </p:nvSpPr>
            <p:spPr>
              <a:xfrm>
                <a:off x="4650480" y="5377320"/>
                <a:ext cx="168120" cy="51156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511560"/>
                  <a:gd name="textAreaBottom" fmla="*/ 511920 h 511560"/>
                </a:gdLst>
                <a:ahLst/>
                <a:rect l="textAreaLeft" t="textAreaTop" r="textAreaRight" b="textAreaBottom"/>
                <a:pathLst>
                  <a:path w="142" h="267">
                    <a:moveTo>
                      <a:pt x="135" y="69"/>
                    </a:moveTo>
                    <a:lnTo>
                      <a:pt x="127" y="116"/>
                    </a:lnTo>
                    <a:lnTo>
                      <a:pt x="123" y="166"/>
                    </a:lnTo>
                    <a:lnTo>
                      <a:pt x="121" y="218"/>
                    </a:lnTo>
                    <a:lnTo>
                      <a:pt x="118" y="267"/>
                    </a:lnTo>
                    <a:lnTo>
                      <a:pt x="7" y="260"/>
                    </a:lnTo>
                    <a:lnTo>
                      <a:pt x="6" y="254"/>
                    </a:lnTo>
                    <a:lnTo>
                      <a:pt x="4" y="249"/>
                    </a:lnTo>
                    <a:lnTo>
                      <a:pt x="2" y="244"/>
                    </a:lnTo>
                    <a:lnTo>
                      <a:pt x="0" y="238"/>
                    </a:lnTo>
                    <a:lnTo>
                      <a:pt x="6" y="236"/>
                    </a:lnTo>
                    <a:lnTo>
                      <a:pt x="14" y="234"/>
                    </a:lnTo>
                    <a:lnTo>
                      <a:pt x="21" y="231"/>
                    </a:lnTo>
                    <a:lnTo>
                      <a:pt x="29" y="229"/>
                    </a:lnTo>
                    <a:lnTo>
                      <a:pt x="35" y="227"/>
                    </a:lnTo>
                    <a:lnTo>
                      <a:pt x="40" y="222"/>
                    </a:lnTo>
                    <a:lnTo>
                      <a:pt x="43" y="215"/>
                    </a:lnTo>
                    <a:lnTo>
                      <a:pt x="44" y="207"/>
                    </a:lnTo>
                    <a:lnTo>
                      <a:pt x="51" y="182"/>
                    </a:lnTo>
                    <a:lnTo>
                      <a:pt x="58" y="156"/>
                    </a:lnTo>
                    <a:lnTo>
                      <a:pt x="65" y="130"/>
                    </a:lnTo>
                    <a:lnTo>
                      <a:pt x="72" y="105"/>
                    </a:lnTo>
                    <a:lnTo>
                      <a:pt x="76" y="79"/>
                    </a:lnTo>
                    <a:lnTo>
                      <a:pt x="81" y="53"/>
                    </a:lnTo>
                    <a:lnTo>
                      <a:pt x="82" y="26"/>
                    </a:lnTo>
                    <a:lnTo>
                      <a:pt x="81" y="0"/>
                    </a:lnTo>
                    <a:lnTo>
                      <a:pt x="92" y="4"/>
                    </a:lnTo>
                    <a:lnTo>
                      <a:pt x="105" y="9"/>
                    </a:lnTo>
                    <a:lnTo>
                      <a:pt x="118" y="14"/>
                    </a:lnTo>
                    <a:lnTo>
                      <a:pt x="129" y="20"/>
                    </a:lnTo>
                    <a:lnTo>
                      <a:pt x="137" y="28"/>
                    </a:lnTo>
                    <a:lnTo>
                      <a:pt x="142" y="39"/>
                    </a:lnTo>
                    <a:lnTo>
                      <a:pt x="142" y="53"/>
                    </a:lnTo>
                    <a:lnTo>
                      <a:pt x="135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Freeform 17"/>
              <p:cNvSpPr/>
              <p:nvPr/>
            </p:nvSpPr>
            <p:spPr>
              <a:xfrm>
                <a:off x="4818960" y="5403960"/>
                <a:ext cx="59760" cy="457920"/>
              </a:xfrm>
              <a:custGeom>
                <a:avLst/>
                <a:gdLst>
                  <a:gd name="textAreaLeft" fmla="*/ 0 w 59760"/>
                  <a:gd name="textAreaRight" fmla="*/ 60120 w 59760"/>
                  <a:gd name="textAreaTop" fmla="*/ 0 h 457920"/>
                  <a:gd name="textAreaBottom" fmla="*/ 458280 h 457920"/>
                </a:gdLst>
                <a:ahLst/>
                <a:rect l="textAreaLeft" t="textAreaTop" r="textAreaRight" b="textAreaBottom"/>
                <a:pathLst>
                  <a:path w="49" h="240">
                    <a:moveTo>
                      <a:pt x="35" y="209"/>
                    </a:moveTo>
                    <a:lnTo>
                      <a:pt x="31" y="214"/>
                    </a:lnTo>
                    <a:lnTo>
                      <a:pt x="26" y="217"/>
                    </a:lnTo>
                    <a:lnTo>
                      <a:pt x="22" y="220"/>
                    </a:lnTo>
                    <a:lnTo>
                      <a:pt x="17" y="224"/>
                    </a:lnTo>
                    <a:lnTo>
                      <a:pt x="12" y="227"/>
                    </a:lnTo>
                    <a:lnTo>
                      <a:pt x="8" y="231"/>
                    </a:lnTo>
                    <a:lnTo>
                      <a:pt x="4" y="235"/>
                    </a:lnTo>
                    <a:lnTo>
                      <a:pt x="0" y="240"/>
                    </a:lnTo>
                    <a:lnTo>
                      <a:pt x="2" y="185"/>
                    </a:lnTo>
                    <a:lnTo>
                      <a:pt x="10" y="131"/>
                    </a:lnTo>
                    <a:lnTo>
                      <a:pt x="18" y="76"/>
                    </a:lnTo>
                    <a:lnTo>
                      <a:pt x="26" y="22"/>
                    </a:lnTo>
                    <a:lnTo>
                      <a:pt x="49" y="0"/>
                    </a:lnTo>
                    <a:lnTo>
                      <a:pt x="48" y="55"/>
                    </a:lnTo>
                    <a:lnTo>
                      <a:pt x="41" y="105"/>
                    </a:lnTo>
                    <a:lnTo>
                      <a:pt x="34" y="156"/>
                    </a:lnTo>
                    <a:lnTo>
                      <a:pt x="35" y="20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18"/>
              <p:cNvSpPr/>
              <p:nvPr/>
            </p:nvSpPr>
            <p:spPr>
              <a:xfrm>
                <a:off x="4085640" y="5369400"/>
                <a:ext cx="69480" cy="9576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95760"/>
                  <a:gd name="textAreaBottom" fmla="*/ 96120 h 95760"/>
                </a:gdLst>
                <a:ahLst/>
                <a:rect l="textAreaLeft" t="textAreaTop" r="textAreaRight" b="textAreaBottom"/>
                <a:pathLst>
                  <a:path w="58" h="50">
                    <a:moveTo>
                      <a:pt x="0" y="44"/>
                    </a:moveTo>
                    <a:lnTo>
                      <a:pt x="58" y="0"/>
                    </a:lnTo>
                    <a:lnTo>
                      <a:pt x="49" y="5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Freeform 19"/>
              <p:cNvSpPr/>
              <p:nvPr/>
            </p:nvSpPr>
            <p:spPr>
              <a:xfrm>
                <a:off x="4261320" y="5705280"/>
                <a:ext cx="326520" cy="771120"/>
              </a:xfrm>
              <a:custGeom>
                <a:avLst/>
                <a:gdLst>
                  <a:gd name="textAreaLeft" fmla="*/ 0 w 326520"/>
                  <a:gd name="textAreaRight" fmla="*/ 326880 w 326520"/>
                  <a:gd name="textAreaTop" fmla="*/ 0 h 771120"/>
                  <a:gd name="textAreaBottom" fmla="*/ 771480 h 771120"/>
                </a:gdLst>
                <a:ahLst/>
                <a:rect l="textAreaLeft" t="textAreaTop" r="textAreaRight" b="textAreaBottom"/>
                <a:pathLst>
                  <a:path w="273" h="405">
                    <a:moveTo>
                      <a:pt x="224" y="48"/>
                    </a:moveTo>
                    <a:lnTo>
                      <a:pt x="273" y="57"/>
                    </a:lnTo>
                    <a:lnTo>
                      <a:pt x="271" y="75"/>
                    </a:lnTo>
                    <a:lnTo>
                      <a:pt x="267" y="93"/>
                    </a:lnTo>
                    <a:lnTo>
                      <a:pt x="261" y="110"/>
                    </a:lnTo>
                    <a:lnTo>
                      <a:pt x="254" y="126"/>
                    </a:lnTo>
                    <a:lnTo>
                      <a:pt x="248" y="143"/>
                    </a:lnTo>
                    <a:lnTo>
                      <a:pt x="242" y="161"/>
                    </a:lnTo>
                    <a:lnTo>
                      <a:pt x="238" y="178"/>
                    </a:lnTo>
                    <a:lnTo>
                      <a:pt x="235" y="196"/>
                    </a:lnTo>
                    <a:lnTo>
                      <a:pt x="235" y="248"/>
                    </a:lnTo>
                    <a:lnTo>
                      <a:pt x="235" y="302"/>
                    </a:lnTo>
                    <a:lnTo>
                      <a:pt x="230" y="355"/>
                    </a:lnTo>
                    <a:lnTo>
                      <a:pt x="215" y="404"/>
                    </a:lnTo>
                    <a:lnTo>
                      <a:pt x="207" y="405"/>
                    </a:lnTo>
                    <a:lnTo>
                      <a:pt x="200" y="404"/>
                    </a:lnTo>
                    <a:lnTo>
                      <a:pt x="193" y="401"/>
                    </a:lnTo>
                    <a:lnTo>
                      <a:pt x="187" y="399"/>
                    </a:lnTo>
                    <a:lnTo>
                      <a:pt x="181" y="396"/>
                    </a:lnTo>
                    <a:lnTo>
                      <a:pt x="176" y="393"/>
                    </a:lnTo>
                    <a:lnTo>
                      <a:pt x="170" y="391"/>
                    </a:lnTo>
                    <a:lnTo>
                      <a:pt x="163" y="391"/>
                    </a:lnTo>
                    <a:lnTo>
                      <a:pt x="144" y="375"/>
                    </a:lnTo>
                    <a:lnTo>
                      <a:pt x="131" y="354"/>
                    </a:lnTo>
                    <a:lnTo>
                      <a:pt x="119" y="332"/>
                    </a:lnTo>
                    <a:lnTo>
                      <a:pt x="110" y="309"/>
                    </a:lnTo>
                    <a:lnTo>
                      <a:pt x="98" y="287"/>
                    </a:lnTo>
                    <a:lnTo>
                      <a:pt x="86" y="267"/>
                    </a:lnTo>
                    <a:lnTo>
                      <a:pt x="67" y="251"/>
                    </a:lnTo>
                    <a:lnTo>
                      <a:pt x="43" y="238"/>
                    </a:lnTo>
                    <a:lnTo>
                      <a:pt x="33" y="223"/>
                    </a:lnTo>
                    <a:lnTo>
                      <a:pt x="25" y="206"/>
                    </a:lnTo>
                    <a:lnTo>
                      <a:pt x="18" y="189"/>
                    </a:lnTo>
                    <a:lnTo>
                      <a:pt x="13" y="171"/>
                    </a:lnTo>
                    <a:lnTo>
                      <a:pt x="8" y="154"/>
                    </a:lnTo>
                    <a:lnTo>
                      <a:pt x="6" y="135"/>
                    </a:lnTo>
                    <a:lnTo>
                      <a:pt x="4" y="117"/>
                    </a:lnTo>
                    <a:lnTo>
                      <a:pt x="2" y="98"/>
                    </a:lnTo>
                    <a:lnTo>
                      <a:pt x="0" y="0"/>
                    </a:lnTo>
                    <a:lnTo>
                      <a:pt x="15" y="3"/>
                    </a:lnTo>
                    <a:lnTo>
                      <a:pt x="29" y="5"/>
                    </a:lnTo>
                    <a:lnTo>
                      <a:pt x="44" y="7"/>
                    </a:lnTo>
                    <a:lnTo>
                      <a:pt x="58" y="8"/>
                    </a:lnTo>
                    <a:lnTo>
                      <a:pt x="73" y="11"/>
                    </a:lnTo>
                    <a:lnTo>
                      <a:pt x="87" y="13"/>
                    </a:lnTo>
                    <a:lnTo>
                      <a:pt x="102" y="15"/>
                    </a:lnTo>
                    <a:lnTo>
                      <a:pt x="116" y="18"/>
                    </a:lnTo>
                    <a:lnTo>
                      <a:pt x="129" y="20"/>
                    </a:lnTo>
                    <a:lnTo>
                      <a:pt x="143" y="23"/>
                    </a:lnTo>
                    <a:lnTo>
                      <a:pt x="157" y="26"/>
                    </a:lnTo>
                    <a:lnTo>
                      <a:pt x="171" y="29"/>
                    </a:lnTo>
                    <a:lnTo>
                      <a:pt x="185" y="34"/>
                    </a:lnTo>
                    <a:lnTo>
                      <a:pt x="197" y="37"/>
                    </a:lnTo>
                    <a:lnTo>
                      <a:pt x="211" y="42"/>
                    </a:lnTo>
                    <a:lnTo>
                      <a:pt x="224" y="4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20"/>
              <p:cNvSpPr/>
              <p:nvPr/>
            </p:nvSpPr>
            <p:spPr>
              <a:xfrm>
                <a:off x="4573800" y="5850720"/>
                <a:ext cx="168120" cy="546120"/>
              </a:xfrm>
              <a:custGeom>
                <a:avLst/>
                <a:gdLst>
                  <a:gd name="textAreaLeft" fmla="*/ 0 w 168120"/>
                  <a:gd name="textAreaRight" fmla="*/ 168480 w 168120"/>
                  <a:gd name="textAreaTop" fmla="*/ 0 h 546120"/>
                  <a:gd name="textAreaBottom" fmla="*/ 546480 h 546120"/>
                </a:gdLst>
                <a:ahLst/>
                <a:rect l="textAreaLeft" t="textAreaTop" r="textAreaRight" b="textAreaBottom"/>
                <a:pathLst>
                  <a:path w="138" h="286">
                    <a:moveTo>
                      <a:pt x="54" y="159"/>
                    </a:moveTo>
                    <a:lnTo>
                      <a:pt x="67" y="171"/>
                    </a:lnTo>
                    <a:lnTo>
                      <a:pt x="79" y="181"/>
                    </a:lnTo>
                    <a:lnTo>
                      <a:pt x="93" y="192"/>
                    </a:lnTo>
                    <a:lnTo>
                      <a:pt x="105" y="203"/>
                    </a:lnTo>
                    <a:lnTo>
                      <a:pt x="116" y="216"/>
                    </a:lnTo>
                    <a:lnTo>
                      <a:pt x="127" y="229"/>
                    </a:lnTo>
                    <a:lnTo>
                      <a:pt x="134" y="242"/>
                    </a:lnTo>
                    <a:lnTo>
                      <a:pt x="138" y="258"/>
                    </a:lnTo>
                    <a:lnTo>
                      <a:pt x="102" y="286"/>
                    </a:lnTo>
                    <a:lnTo>
                      <a:pt x="91" y="278"/>
                    </a:lnTo>
                    <a:lnTo>
                      <a:pt x="78" y="270"/>
                    </a:lnTo>
                    <a:lnTo>
                      <a:pt x="67" y="263"/>
                    </a:lnTo>
                    <a:lnTo>
                      <a:pt x="54" y="256"/>
                    </a:lnTo>
                    <a:lnTo>
                      <a:pt x="41" y="249"/>
                    </a:lnTo>
                    <a:lnTo>
                      <a:pt x="28" y="245"/>
                    </a:lnTo>
                    <a:lnTo>
                      <a:pt x="15" y="239"/>
                    </a:lnTo>
                    <a:lnTo>
                      <a:pt x="1" y="235"/>
                    </a:lnTo>
                    <a:lnTo>
                      <a:pt x="0" y="205"/>
                    </a:lnTo>
                    <a:lnTo>
                      <a:pt x="1" y="176"/>
                    </a:lnTo>
                    <a:lnTo>
                      <a:pt x="2" y="146"/>
                    </a:lnTo>
                    <a:lnTo>
                      <a:pt x="6" y="114"/>
                    </a:lnTo>
                    <a:lnTo>
                      <a:pt x="10" y="84"/>
                    </a:lnTo>
                    <a:lnTo>
                      <a:pt x="17" y="56"/>
                    </a:lnTo>
                    <a:lnTo>
                      <a:pt x="25" y="27"/>
                    </a:lnTo>
                    <a:lnTo>
                      <a:pt x="36" y="0"/>
                    </a:lnTo>
                    <a:lnTo>
                      <a:pt x="44" y="40"/>
                    </a:lnTo>
                    <a:lnTo>
                      <a:pt x="47" y="80"/>
                    </a:lnTo>
                    <a:lnTo>
                      <a:pt x="49" y="120"/>
                    </a:lnTo>
                    <a:lnTo>
                      <a:pt x="54" y="1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3" name="Freeform 21"/>
              <p:cNvSpPr/>
              <p:nvPr/>
            </p:nvSpPr>
            <p:spPr>
              <a:xfrm>
                <a:off x="4681800" y="6384960"/>
                <a:ext cx="81720" cy="16092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160920"/>
                  <a:gd name="textAreaBottom" fmla="*/ 160920 h 160920"/>
                </a:gdLst>
                <a:ahLst/>
                <a:rect l="textAreaLeft" t="textAreaTop" r="textAreaRight" b="textAreaBottom"/>
                <a:pathLst>
                  <a:path w="69" h="83">
                    <a:moveTo>
                      <a:pt x="69" y="0"/>
                    </a:moveTo>
                    <a:lnTo>
                      <a:pt x="61" y="11"/>
                    </a:lnTo>
                    <a:lnTo>
                      <a:pt x="56" y="26"/>
                    </a:lnTo>
                    <a:lnTo>
                      <a:pt x="53" y="42"/>
                    </a:lnTo>
                    <a:lnTo>
                      <a:pt x="49" y="58"/>
                    </a:lnTo>
                    <a:lnTo>
                      <a:pt x="43" y="72"/>
                    </a:lnTo>
                    <a:lnTo>
                      <a:pt x="35" y="80"/>
                    </a:lnTo>
                    <a:lnTo>
                      <a:pt x="20" y="83"/>
                    </a:lnTo>
                    <a:lnTo>
                      <a:pt x="0" y="77"/>
                    </a:lnTo>
                    <a:lnTo>
                      <a:pt x="10" y="66"/>
                    </a:lnTo>
                    <a:lnTo>
                      <a:pt x="18" y="55"/>
                    </a:lnTo>
                    <a:lnTo>
                      <a:pt x="24" y="43"/>
                    </a:lnTo>
                    <a:lnTo>
                      <a:pt x="30" y="33"/>
                    </a:lnTo>
                    <a:lnTo>
                      <a:pt x="35" y="23"/>
                    </a:lnTo>
                    <a:lnTo>
                      <a:pt x="43" y="12"/>
                    </a:lnTo>
                    <a:lnTo>
                      <a:pt x="54" y="5"/>
                    </a:lnTo>
                    <a:lnTo>
                      <a:pt x="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4" name="Freeform 22"/>
              <p:cNvSpPr/>
              <p:nvPr/>
            </p:nvSpPr>
            <p:spPr>
              <a:xfrm>
                <a:off x="4391280" y="6500160"/>
                <a:ext cx="124560" cy="122040"/>
              </a:xfrm>
              <a:custGeom>
                <a:avLst/>
                <a:gdLst>
                  <a:gd name="textAreaLeft" fmla="*/ 0 w 124560"/>
                  <a:gd name="textAreaRight" fmla="*/ 124920 w 1245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103" h="64">
                    <a:moveTo>
                      <a:pt x="103" y="22"/>
                    </a:moveTo>
                    <a:lnTo>
                      <a:pt x="100" y="52"/>
                    </a:lnTo>
                    <a:lnTo>
                      <a:pt x="0" y="64"/>
                    </a:lnTo>
                    <a:lnTo>
                      <a:pt x="9" y="58"/>
                    </a:lnTo>
                    <a:lnTo>
                      <a:pt x="19" y="51"/>
                    </a:lnTo>
                    <a:lnTo>
                      <a:pt x="28" y="44"/>
                    </a:lnTo>
                    <a:lnTo>
                      <a:pt x="39" y="36"/>
                    </a:lnTo>
                    <a:lnTo>
                      <a:pt x="48" y="28"/>
                    </a:lnTo>
                    <a:lnTo>
                      <a:pt x="57" y="19"/>
                    </a:lnTo>
                    <a:lnTo>
                      <a:pt x="65" y="10"/>
                    </a:lnTo>
                    <a:lnTo>
                      <a:pt x="72" y="0"/>
                    </a:lnTo>
                    <a:lnTo>
                      <a:pt x="77" y="4"/>
                    </a:lnTo>
                    <a:lnTo>
                      <a:pt x="81" y="6"/>
                    </a:lnTo>
                    <a:lnTo>
                      <a:pt x="87" y="6"/>
                    </a:lnTo>
                    <a:lnTo>
                      <a:pt x="93" y="7"/>
                    </a:lnTo>
                    <a:lnTo>
                      <a:pt x="98" y="9"/>
                    </a:lnTo>
                    <a:lnTo>
                      <a:pt x="101" y="11"/>
                    </a:lnTo>
                    <a:lnTo>
                      <a:pt x="103" y="15"/>
                    </a:lnTo>
                    <a:lnTo>
                      <a:pt x="103" y="2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535" name="Picture 23" descr="WL_004"/>
          <p:cNvPicPr/>
          <p:nvPr/>
        </p:nvPicPr>
        <p:blipFill>
          <a:blip r:embed="rId1"/>
          <a:stretch/>
        </p:blipFill>
        <p:spPr>
          <a:xfrm>
            <a:off x="3344760" y="1844640"/>
            <a:ext cx="13716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7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537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WordArt 3"/>
            <p:cNvSpPr txBox="1"/>
            <p:nvPr/>
          </p:nvSpPr>
          <p:spPr>
            <a:xfrm>
              <a:off x="2987640" y="44280"/>
              <a:ext cx="396072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后活动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2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8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48" name="矩形 1" descr=""/>
          <p:cNvPicPr/>
          <p:nvPr/>
        </p:nvPicPr>
        <p:blipFill>
          <a:blip r:embed="rId2"/>
          <a:stretch/>
        </p:blipFill>
        <p:spPr>
          <a:xfrm>
            <a:off x="1542960" y="549360"/>
            <a:ext cx="6265800" cy="1236600"/>
          </a:xfrm>
          <a:prstGeom prst="rect">
            <a:avLst/>
          </a:prstGeom>
          <a:ln w="0">
            <a:noFill/>
          </a:ln>
        </p:spPr>
      </p:pic>
      <p:sp>
        <p:nvSpPr>
          <p:cNvPr id="149" name="文本框 9"/>
          <p:cNvSpPr/>
          <p:nvPr/>
        </p:nvSpPr>
        <p:spPr>
          <a:xfrm>
            <a:off x="3442680" y="1628640"/>
            <a:ext cx="114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2</a:t>
            </a:r>
            <a:r>
              <a:rPr b="1" lang="zh-CN" sz="6000" spc="-1" strike="noStrike">
                <a:solidFill>
                  <a:srgbClr val="ff0000"/>
                </a:solidFill>
                <a:latin typeface="华文彩云"/>
                <a:ea typeface="华文彩云"/>
              </a:rPr>
              <a:t>、结果：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324000" y="2565360"/>
            <a:ext cx="86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6000" spc="-1" strike="noStrike">
                <a:solidFill>
                  <a:srgbClr val="000066"/>
                </a:solidFill>
                <a:latin typeface="黑体"/>
                <a:ea typeface="黑体"/>
              </a:rPr>
              <a:t>蒋介石“不抵抗政策”，东北军不战而溃，日军占领沈阳，四个月后东北三省沦陷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152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Group 2"/>
          <p:cNvGrpSpPr/>
          <p:nvPr/>
        </p:nvGrpSpPr>
        <p:grpSpPr>
          <a:xfrm>
            <a:off x="36360" y="4005360"/>
            <a:ext cx="9144000" cy="2743200"/>
            <a:chOff x="36360" y="4005360"/>
            <a:chExt cx="9144000" cy="2743200"/>
          </a:xfrm>
        </p:grpSpPr>
        <p:sp>
          <p:nvSpPr>
            <p:cNvPr id="540" name="AutoShape 3"/>
            <p:cNvSpPr/>
            <p:nvPr/>
          </p:nvSpPr>
          <p:spPr>
            <a:xfrm flipV="1">
              <a:off x="36360" y="4005000"/>
              <a:ext cx="9144000" cy="2743200"/>
            </a:xfrm>
            <a:prstGeom prst="cloudCallout">
              <a:avLst>
                <a:gd name="adj1" fmla="val -4921"/>
                <a:gd name="adj2" fmla="val 82888"/>
              </a:avLst>
            </a:prstGeom>
            <a:solidFill>
              <a:srgbClr val="f3f7c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Text Box 4"/>
            <p:cNvSpPr/>
            <p:nvPr/>
          </p:nvSpPr>
          <p:spPr>
            <a:xfrm>
              <a:off x="2134800" y="4942080"/>
              <a:ext cx="5118480" cy="916920"/>
            </a:xfrm>
            <a:prstGeom prst="rect">
              <a:avLst/>
            </a:prstGeom>
            <a:solidFill>
              <a:srgbClr val="f3f7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0000"/>
                  </a:solidFill>
                  <a:latin typeface="华文琥珀"/>
                  <a:ea typeface="黑体"/>
                </a:rPr>
                <a:t>中国共产党主张杀还是放？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2" name="WordArt 6"/>
          <p:cNvSpPr txBox="1"/>
          <p:nvPr/>
        </p:nvSpPr>
        <p:spPr>
          <a:xfrm>
            <a:off x="2390760" y="3171960"/>
            <a:ext cx="167652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黑体"/>
              </a:rPr>
              <a:t>何应钦</a:t>
            </a:r>
            <a:endParaRPr b="1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43" name="WordArt 7"/>
          <p:cNvSpPr txBox="1"/>
          <p:nvPr/>
        </p:nvSpPr>
        <p:spPr>
          <a:xfrm>
            <a:off x="2624040" y="2090880"/>
            <a:ext cx="1371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黑体"/>
              </a:rPr>
              <a:t>日本</a:t>
            </a:r>
            <a:endParaRPr b="1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544" name="Group 8"/>
          <p:cNvGrpSpPr/>
          <p:nvPr/>
        </p:nvGrpSpPr>
        <p:grpSpPr>
          <a:xfrm>
            <a:off x="4471920" y="2166840"/>
            <a:ext cx="3124080" cy="685800"/>
            <a:chOff x="4471920" y="2166840"/>
            <a:chExt cx="3124080" cy="685800"/>
          </a:xfrm>
        </p:grpSpPr>
        <p:sp>
          <p:nvSpPr>
            <p:cNvPr id="545" name="WordArt 9"/>
            <p:cNvSpPr txBox="1"/>
            <p:nvPr/>
          </p:nvSpPr>
          <p:spPr>
            <a:xfrm>
              <a:off x="6148440" y="2166840"/>
              <a:ext cx="144756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黑体"/>
                </a:rPr>
                <a:t>英美</a:t>
              </a:r>
              <a:endParaRPr b="1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546" name="AutoShape 10"/>
            <p:cNvSpPr/>
            <p:nvPr/>
          </p:nvSpPr>
          <p:spPr>
            <a:xfrm>
              <a:off x="4471920" y="2276640"/>
              <a:ext cx="1366920" cy="485640"/>
            </a:xfrm>
            <a:prstGeom prst="leftRightArrow">
              <a:avLst>
                <a:gd name="adj1" fmla="val 50000"/>
                <a:gd name="adj2" fmla="val 56033"/>
              </a:avLst>
            </a:prstGeom>
            <a:solidFill>
              <a:srgbClr val="4f81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47" name="Group 11"/>
          <p:cNvGrpSpPr/>
          <p:nvPr/>
        </p:nvGrpSpPr>
        <p:grpSpPr>
          <a:xfrm>
            <a:off x="4510080" y="3171960"/>
            <a:ext cx="3157560" cy="761760"/>
            <a:chOff x="4510080" y="3171960"/>
            <a:chExt cx="3157560" cy="761760"/>
          </a:xfrm>
        </p:grpSpPr>
        <p:sp>
          <p:nvSpPr>
            <p:cNvPr id="548" name="WordArt 12"/>
            <p:cNvSpPr txBox="1"/>
            <p:nvPr/>
          </p:nvSpPr>
          <p:spPr>
            <a:xfrm>
              <a:off x="6067440" y="3171960"/>
              <a:ext cx="160020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8440">
                    <a:solidFill>
                      <a:srgbClr val="ff0000"/>
                    </a:solidFill>
                    <a:miter/>
                  </a:ln>
                  <a:solidFill>
                    <a:srgbClr val="ffff00"/>
                  </a:soli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黑体"/>
                </a:rPr>
                <a:t>宋美龄</a:t>
              </a:r>
              <a:endParaRPr b="1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549" name="AutoShape 13"/>
            <p:cNvSpPr/>
            <p:nvPr/>
          </p:nvSpPr>
          <p:spPr>
            <a:xfrm>
              <a:off x="4510080" y="3303360"/>
              <a:ext cx="1214640" cy="485280"/>
            </a:xfrm>
            <a:prstGeom prst="leftRightArrow">
              <a:avLst>
                <a:gd name="adj1" fmla="val 50000"/>
                <a:gd name="adj2" fmla="val 49827"/>
              </a:avLst>
            </a:prstGeom>
            <a:solidFill>
              <a:srgbClr val="4f81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0" name="Group 14"/>
          <p:cNvGrpSpPr/>
          <p:nvPr/>
        </p:nvGrpSpPr>
        <p:grpSpPr>
          <a:xfrm>
            <a:off x="845280" y="987480"/>
            <a:ext cx="7039800" cy="3001320"/>
            <a:chOff x="845280" y="987480"/>
            <a:chExt cx="7039800" cy="3001320"/>
          </a:xfrm>
        </p:grpSpPr>
        <p:grpSp>
          <p:nvGrpSpPr>
            <p:cNvPr id="551" name="Group 15"/>
            <p:cNvGrpSpPr/>
            <p:nvPr/>
          </p:nvGrpSpPr>
          <p:grpSpPr>
            <a:xfrm>
              <a:off x="2341440" y="987480"/>
              <a:ext cx="5543640" cy="785880"/>
              <a:chOff x="2341440" y="987480"/>
              <a:chExt cx="5543640" cy="785880"/>
            </a:xfrm>
          </p:grpSpPr>
          <p:sp>
            <p:nvSpPr>
              <p:cNvPr id="552" name="WordArt 16"/>
              <p:cNvSpPr txBox="1"/>
              <p:nvPr/>
            </p:nvSpPr>
            <p:spPr>
              <a:xfrm>
                <a:off x="2341440" y="987480"/>
                <a:ext cx="1870200" cy="785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4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000000"/>
                    </a:solidFill>
                    <a:effectLst>
                      <a:outerShdw dist="38183" dir="2700000" blurRad="0" rotWithShape="0">
                        <a:srgbClr val="000000">
                          <a:alpha val="44000"/>
                        </a:srgbClr>
                      </a:outerShdw>
                    </a:effectLst>
                    <a:latin typeface="宋体"/>
                  </a:rPr>
                  <a:t>杀蒋</a:t>
                </a:r>
                <a:endParaRPr b="1" lang="en-US" sz="4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宋体"/>
                  <a:ea typeface="宋体"/>
                </a:endParaRPr>
              </a:p>
            </p:txBody>
          </p:sp>
          <p:sp>
            <p:nvSpPr>
              <p:cNvPr id="553" name="WordArt 17"/>
              <p:cNvSpPr txBox="1"/>
              <p:nvPr/>
            </p:nvSpPr>
            <p:spPr>
              <a:xfrm>
                <a:off x="5763960" y="987480"/>
                <a:ext cx="2121120" cy="7858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5931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zh-CN" sz="4800" spc="1" strike="noStrike">
                    <a:ln w="9360">
                      <a:solidFill>
                        <a:srgbClr val="800000"/>
                      </a:solidFill>
                      <a:miter/>
                    </a:ln>
                    <a:solidFill>
                      <a:srgbClr val="800000"/>
                    </a:solidFill>
                    <a:effectLst>
                      <a:outerShdw dist="38183" dir="2700000" blurRad="0" rotWithShape="0">
                        <a:srgbClr val="000000">
                          <a:alpha val="44000"/>
                        </a:srgbClr>
                      </a:outerShdw>
                    </a:effectLst>
                    <a:latin typeface="宋体"/>
                  </a:rPr>
                  <a:t>放蒋</a:t>
                </a:r>
                <a:endParaRPr b="1" i="1" lang="en-US" sz="4800" spc="1" strike="noStrike">
                  <a:ln w="9360">
                    <a:solidFill>
                      <a:srgbClr val="800000"/>
                    </a:solidFill>
                    <a:miter/>
                  </a:ln>
                  <a:solidFill>
                    <a:srgbClr val="800000"/>
                  </a:solidFill>
                  <a:effectLst>
                    <a:outerShdw dist="38183" dir="2700000" blurRad="0" rotWithShape="0">
                      <a:srgbClr val="000000">
                        <a:alpha val="44000"/>
                      </a:srgbClr>
                    </a:outerShdw>
                  </a:effectLst>
                  <a:latin typeface="宋体"/>
                  <a:ea typeface="宋体"/>
                </a:endParaRPr>
              </a:p>
            </p:txBody>
          </p:sp>
        </p:grpSp>
        <p:sp>
          <p:nvSpPr>
            <p:cNvPr id="554" name="Text Box 18"/>
            <p:cNvSpPr/>
            <p:nvPr/>
          </p:nvSpPr>
          <p:spPr>
            <a:xfrm>
              <a:off x="845280" y="2066760"/>
              <a:ext cx="1278000" cy="19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华文琥珀"/>
                  <a:ea typeface="华文琥珀"/>
                </a:rPr>
                <a:t>国外：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华文琥珀"/>
                  <a:ea typeface="华文琥珀"/>
                </a:rPr>
                <a:t>国内：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55" name="Group 7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556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" name="WordArt 3"/>
            <p:cNvSpPr txBox="1"/>
            <p:nvPr/>
          </p:nvSpPr>
          <p:spPr>
            <a:xfrm>
              <a:off x="2987640" y="44280"/>
              <a:ext cx="396072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后活动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58" name="矩形 2"/>
          <p:cNvSpPr/>
          <p:nvPr/>
        </p:nvSpPr>
        <p:spPr>
          <a:xfrm>
            <a:off x="396720" y="836640"/>
            <a:ext cx="871236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cc"/>
                </a:solidFill>
                <a:latin typeface="黑体"/>
                <a:ea typeface="黑体"/>
              </a:rPr>
              <a:t>中共从全民族利益出发，不计宿愿，提出和平解决西安事变，释放蒋介石，突出中共高瞻远瞩，以民族利益为重的光辉形象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矩形 2"/>
          <p:cNvSpPr/>
          <p:nvPr/>
        </p:nvSpPr>
        <p:spPr>
          <a:xfrm>
            <a:off x="216000" y="1065240"/>
            <a:ext cx="87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00000"/>
                </a:solidFill>
                <a:latin typeface="黑体"/>
                <a:ea typeface="黑体"/>
              </a:rPr>
              <a:t>3.</a:t>
            </a:r>
            <a:r>
              <a:rPr b="1" lang="zh-CN" sz="4000" spc="-1" strike="noStrike">
                <a:solidFill>
                  <a:srgbClr val="c00000"/>
                </a:solidFill>
                <a:latin typeface="黑体"/>
                <a:ea typeface="黑体"/>
              </a:rPr>
              <a:t>西安事变的和平解决有何历史意义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0" name="Group 7"/>
          <p:cNvGrpSpPr/>
          <p:nvPr/>
        </p:nvGrpSpPr>
        <p:grpSpPr>
          <a:xfrm>
            <a:off x="0" y="-27000"/>
            <a:ext cx="9144000" cy="836640"/>
            <a:chOff x="0" y="-27000"/>
            <a:chExt cx="9144000" cy="836640"/>
          </a:xfrm>
        </p:grpSpPr>
        <p:pic>
          <p:nvPicPr>
            <p:cNvPr id="561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-2700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WordArt 3"/>
            <p:cNvSpPr txBox="1"/>
            <p:nvPr/>
          </p:nvSpPr>
          <p:spPr>
            <a:xfrm>
              <a:off x="2987640" y="44280"/>
              <a:ext cx="3960720" cy="720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7819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宋体"/>
                </a:rPr>
                <a:t>课后活动</a:t>
              </a:r>
              <a:endParaRPr b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563" name="矩形 2"/>
          <p:cNvSpPr/>
          <p:nvPr/>
        </p:nvSpPr>
        <p:spPr>
          <a:xfrm>
            <a:off x="395280" y="198900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西安事变的和平解决，揭开了国共两党由内战到联合抗日的序幕，成为扭转时局的关键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十年内战基本结束，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抗日民族统一战线初步形成</a:t>
            </a:r>
            <a:r>
              <a:rPr b="1" lang="zh-CN" sz="4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ext Box 2"/>
          <p:cNvSpPr/>
          <p:nvPr/>
        </p:nvSpPr>
        <p:spPr>
          <a:xfrm>
            <a:off x="539640" y="1357200"/>
            <a:ext cx="835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近代中国人民的屈辱，告诉给我们一个道理：“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黑体"/>
              </a:rPr>
              <a:t>落后就要挨打！”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黑体"/>
              </a:rPr>
              <a:t>只有国家强大，中华民族才能屹立于世界的东方。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1743120" y="3672000"/>
            <a:ext cx="1839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6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567" name="Picture 5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8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2" descr=""/>
          <p:cNvPicPr/>
          <p:nvPr/>
        </p:nvPicPr>
        <p:blipFill>
          <a:blip r:embed="rId1"/>
          <a:stretch/>
        </p:blipFill>
        <p:spPr>
          <a:xfrm>
            <a:off x="-11160" y="23760"/>
            <a:ext cx="9169560" cy="6877080"/>
          </a:xfrm>
          <a:prstGeom prst="rect">
            <a:avLst/>
          </a:prstGeom>
          <a:ln w="0">
            <a:noFill/>
          </a:ln>
        </p:spPr>
      </p:pic>
      <p:sp>
        <p:nvSpPr>
          <p:cNvPr id="570" name="WordArt 3"/>
          <p:cNvSpPr txBox="1"/>
          <p:nvPr/>
        </p:nvSpPr>
        <p:spPr>
          <a:xfrm>
            <a:off x="3348000" y="4940280"/>
            <a:ext cx="5040360" cy="17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下课！</a:t>
            </a:r>
            <a:endParaRPr b="1" lang="en-US" sz="6600" spc="1" strike="noStrike">
              <a:ln w="9360">
                <a:solidFill>
                  <a:srgbClr val="ffff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8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792000"/>
          </a:xfrm>
          <a:prstGeom prst="rect">
            <a:avLst/>
          </a:prstGeom>
          <a:ln w="0">
            <a:noFill/>
          </a:ln>
        </p:spPr>
      </p:pic>
      <p:pic>
        <p:nvPicPr>
          <p:cNvPr id="155" name="矩形 1" descr=""/>
          <p:cNvPicPr/>
          <p:nvPr/>
        </p:nvPicPr>
        <p:blipFill>
          <a:blip r:embed="rId2"/>
          <a:stretch/>
        </p:blipFill>
        <p:spPr>
          <a:xfrm>
            <a:off x="1542960" y="549360"/>
            <a:ext cx="6265800" cy="1236600"/>
          </a:xfrm>
          <a:prstGeom prst="rect">
            <a:avLst/>
          </a:prstGeom>
          <a:ln w="0">
            <a:noFill/>
          </a:ln>
        </p:spPr>
      </p:pic>
      <p:sp>
        <p:nvSpPr>
          <p:cNvPr id="156" name="文本框 9"/>
          <p:cNvSpPr/>
          <p:nvPr/>
        </p:nvSpPr>
        <p:spPr>
          <a:xfrm>
            <a:off x="3272400" y="1557360"/>
            <a:ext cx="1050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华文彩云"/>
                <a:ea typeface="华文彩云"/>
              </a:rPr>
              <a:t>3</a:t>
            </a:r>
            <a:r>
              <a:rPr b="1" lang="zh-CN" sz="5400" spc="-1" strike="noStrike">
                <a:solidFill>
                  <a:srgbClr val="ff0000"/>
                </a:solidFill>
                <a:latin typeface="华文彩云"/>
                <a:ea typeface="华文彩云"/>
              </a:rPr>
              <a:t>、影响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 Box 13"/>
          <p:cNvSpPr/>
          <p:nvPr/>
        </p:nvSpPr>
        <p:spPr>
          <a:xfrm>
            <a:off x="611280" y="2276640"/>
            <a:ext cx="835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黑体"/>
                <a:ea typeface="黑体"/>
              </a:rPr>
              <a:t>  </a:t>
            </a:r>
            <a:r>
              <a:rPr b="1" lang="zh-CN" sz="5400" spc="-1" strike="noStrike">
                <a:solidFill>
                  <a:srgbClr val="000066"/>
                </a:solidFill>
                <a:latin typeface="黑体"/>
                <a:ea typeface="黑体"/>
              </a:rPr>
              <a:t>九一八事变成为中国人民抗日战争的起点，揭开了世界反法西斯战争的序幕。从此，中国人民开始了艰苦卓绝的抗战。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159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卢沟桥风景2"/>
          <p:cNvPicPr/>
          <p:nvPr/>
        </p:nvPicPr>
        <p:blipFill>
          <a:blip r:embed="rId1"/>
          <a:stretch/>
        </p:blipFill>
        <p:spPr>
          <a:xfrm>
            <a:off x="0" y="75420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3"/>
          <p:cNvSpPr/>
          <p:nvPr/>
        </p:nvSpPr>
        <p:spPr>
          <a:xfrm>
            <a:off x="0" y="10447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华文琥珀"/>
                <a:ea typeface="华文琥珀"/>
              </a:rPr>
              <a:t>“</a:t>
            </a:r>
            <a:r>
              <a:rPr b="0" lang="zh-CN" sz="3200" spc="-1" strike="noStrike">
                <a:solidFill>
                  <a:srgbClr val="002060"/>
                </a:solidFill>
                <a:latin typeface="华文琥珀"/>
                <a:ea typeface="华文琥珀"/>
              </a:rPr>
              <a:t>九一八事变”起因是“中国东北军炸毁柳条湖。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200504110006_4036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0" y="2060640"/>
            <a:ext cx="2444760" cy="472428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6"/>
          <p:cNvSpPr/>
          <p:nvPr/>
        </p:nvSpPr>
        <p:spPr>
          <a:xfrm>
            <a:off x="2771640" y="1700280"/>
            <a:ext cx="5639040" cy="1447560"/>
          </a:xfrm>
          <a:prstGeom prst="rightArrow">
            <a:avLst>
              <a:gd name="adj1" fmla="val 50000"/>
              <a:gd name="adj2" fmla="val 97389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987640" y="2060640"/>
            <a:ext cx="52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历史的真相是 </a:t>
            </a:r>
            <a:r>
              <a:rPr b="0" lang="en-US" sz="4400" spc="-1" strike="noStrike">
                <a:solidFill>
                  <a:srgbClr val="ff0000"/>
                </a:solidFill>
                <a:latin typeface="华文琥珀"/>
                <a:ea typeface="华文琥珀"/>
              </a:rPr>
              <a:t>…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167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3"/>
          <p:cNvSpPr/>
          <p:nvPr/>
        </p:nvSpPr>
        <p:spPr>
          <a:xfrm>
            <a:off x="937800" y="849240"/>
            <a:ext cx="153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华文行楷"/>
                <a:ea typeface="华文行楷"/>
              </a:rPr>
              <a:t>九</a:t>
            </a:r>
            <a:r>
              <a:rPr b="1" lang="en-US" sz="4000" spc="-1" strike="noStrike">
                <a:solidFill>
                  <a:srgbClr val="800000"/>
                </a:solidFill>
                <a:latin typeface="Times New Roman"/>
              </a:rPr>
              <a:t>· </a:t>
            </a:r>
            <a:r>
              <a:rPr b="1" lang="zh-CN" sz="4000" spc="-1" strike="noStrike">
                <a:solidFill>
                  <a:srgbClr val="800000"/>
                </a:solidFill>
                <a:latin typeface="华文行楷"/>
                <a:ea typeface="华文行楷"/>
              </a:rPr>
              <a:t>一八事变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Line 4"/>
          <p:cNvSpPr/>
          <p:nvPr/>
        </p:nvSpPr>
        <p:spPr>
          <a:xfrm>
            <a:off x="3095640" y="1217520"/>
            <a:ext cx="93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995640" y="849240"/>
            <a:ext cx="50040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日军精心策划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有目的的一次侵略活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6" descr="田中奏折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1260360" y="1935000"/>
            <a:ext cx="5543640" cy="38703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7"/>
          <p:cNvSpPr/>
          <p:nvPr/>
        </p:nvSpPr>
        <p:spPr>
          <a:xfrm>
            <a:off x="2656440" y="5791320"/>
            <a:ext cx="4021200" cy="9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如欲征服中国，必先征服满蒙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如欲征服世界，必先征服中国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Group 8"/>
          <p:cNvGrpSpPr/>
          <p:nvPr/>
        </p:nvGrpSpPr>
        <p:grpSpPr>
          <a:xfrm>
            <a:off x="2771280" y="1916280"/>
            <a:ext cx="547920" cy="3744720"/>
            <a:chOff x="2771280" y="1916280"/>
            <a:chExt cx="547920" cy="3744720"/>
          </a:xfrm>
        </p:grpSpPr>
        <p:sp>
          <p:nvSpPr>
            <p:cNvPr id="175" name="Line 9"/>
            <p:cNvSpPr/>
            <p:nvPr/>
          </p:nvSpPr>
          <p:spPr>
            <a:xfrm>
              <a:off x="3135600" y="3894120"/>
              <a:ext cx="183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Line 10"/>
            <p:cNvSpPr/>
            <p:nvPr/>
          </p:nvSpPr>
          <p:spPr>
            <a:xfrm>
              <a:off x="3319200" y="3894120"/>
              <a:ext cx="0" cy="1766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Line 11"/>
            <p:cNvSpPr/>
            <p:nvPr/>
          </p:nvSpPr>
          <p:spPr>
            <a:xfrm flipH="1">
              <a:off x="2771280" y="5661000"/>
              <a:ext cx="5475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Line 12"/>
            <p:cNvSpPr/>
            <p:nvPr/>
          </p:nvSpPr>
          <p:spPr>
            <a:xfrm flipV="1">
              <a:off x="2771640" y="1916280"/>
              <a:ext cx="0" cy="37447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Line 13"/>
            <p:cNvSpPr/>
            <p:nvPr/>
          </p:nvSpPr>
          <p:spPr>
            <a:xfrm>
              <a:off x="2771640" y="1916280"/>
              <a:ext cx="3639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Line 14"/>
            <p:cNvSpPr/>
            <p:nvPr/>
          </p:nvSpPr>
          <p:spPr>
            <a:xfrm>
              <a:off x="3135600" y="1916280"/>
              <a:ext cx="0" cy="1977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Group 15"/>
          <p:cNvGrpSpPr/>
          <p:nvPr/>
        </p:nvGrpSpPr>
        <p:grpSpPr>
          <a:xfrm>
            <a:off x="6012000" y="1916280"/>
            <a:ext cx="288360" cy="3673440"/>
            <a:chOff x="6012000" y="1916280"/>
            <a:chExt cx="288360" cy="3673440"/>
          </a:xfrm>
        </p:grpSpPr>
        <p:sp>
          <p:nvSpPr>
            <p:cNvPr id="182" name="Line 16"/>
            <p:cNvSpPr/>
            <p:nvPr/>
          </p:nvSpPr>
          <p:spPr>
            <a:xfrm>
              <a:off x="6300360" y="1916280"/>
              <a:ext cx="0" cy="3673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Line 17"/>
            <p:cNvSpPr/>
            <p:nvPr/>
          </p:nvSpPr>
          <p:spPr>
            <a:xfrm>
              <a:off x="6012000" y="2060640"/>
              <a:ext cx="0" cy="15825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4" name="文本框 5"/>
          <p:cNvSpPr/>
          <p:nvPr/>
        </p:nvSpPr>
        <p:spPr>
          <a:xfrm>
            <a:off x="-485280" y="1916280"/>
            <a:ext cx="1642680" cy="37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华文琥珀"/>
                <a:ea typeface="华文琥珀"/>
              </a:rPr>
              <a:t>《</a:t>
            </a:r>
            <a:r>
              <a:rPr b="1" lang="zh-CN" sz="4800" spc="-1" strike="noStrike">
                <a:solidFill>
                  <a:srgbClr val="cc0000"/>
                </a:solidFill>
                <a:latin typeface="华文琥珀"/>
                <a:ea typeface="华文琥珀"/>
              </a:rPr>
              <a:t>田中奏折</a:t>
            </a:r>
            <a:r>
              <a:rPr b="1" lang="en-US" sz="4800" spc="-1" strike="noStrike">
                <a:solidFill>
                  <a:srgbClr val="cc0000"/>
                </a:solidFill>
                <a:latin typeface="华文琥珀"/>
                <a:ea typeface="华文琥珀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7"/>
          <p:cNvSpPr/>
          <p:nvPr/>
        </p:nvSpPr>
        <p:spPr>
          <a:xfrm>
            <a:off x="6875640" y="1989000"/>
            <a:ext cx="2012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日本首相田中义一在</a:t>
            </a:r>
            <a:r>
              <a:rPr b="1" lang="es-ES" sz="3200" spc="-1" strike="noStrike">
                <a:solidFill>
                  <a:srgbClr val="000066"/>
                </a:solidFill>
                <a:latin typeface="黑体"/>
                <a:ea typeface="黑体"/>
              </a:rPr>
              <a:t>1927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年</a:t>
            </a:r>
            <a:r>
              <a:rPr b="1" lang="es-ES" sz="3200" spc="-1" strike="noStrike">
                <a:solidFill>
                  <a:srgbClr val="000066"/>
                </a:solidFill>
                <a:latin typeface="黑体"/>
                <a:ea typeface="黑体"/>
              </a:rPr>
              <a:t>7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月</a:t>
            </a:r>
            <a:r>
              <a:rPr b="1" lang="es-ES" sz="3200" spc="-1" strike="noStrike">
                <a:solidFill>
                  <a:srgbClr val="000066"/>
                </a:solidFill>
                <a:latin typeface="黑体"/>
                <a:ea typeface="黑体"/>
              </a:rPr>
              <a:t>25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日呈给昭和天皇的秘密奏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187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4" descr="6929614406293425"/>
          <p:cNvPicPr/>
          <p:nvPr/>
        </p:nvPicPr>
        <p:blipFill>
          <a:blip r:embed="rId1"/>
          <a:stretch/>
        </p:blipFill>
        <p:spPr>
          <a:xfrm>
            <a:off x="4896000" y="5229360"/>
            <a:ext cx="2484360" cy="151740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14"/>
          <p:cNvSpPr/>
          <p:nvPr/>
        </p:nvSpPr>
        <p:spPr>
          <a:xfrm>
            <a:off x="250920" y="2637000"/>
            <a:ext cx="2438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Times New Roman"/>
                <a:ea typeface="隶书"/>
              </a:rPr>
              <a:t>中国台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AutoShape 15"/>
          <p:cNvSpPr/>
          <p:nvPr/>
        </p:nvSpPr>
        <p:spPr>
          <a:xfrm>
            <a:off x="2411280" y="292428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6"/>
          <p:cNvSpPr/>
          <p:nvPr/>
        </p:nvSpPr>
        <p:spPr>
          <a:xfrm>
            <a:off x="3132000" y="2637000"/>
            <a:ext cx="144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Times New Roman"/>
                <a:ea typeface="隶书"/>
              </a:rPr>
              <a:t>朝鲜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AutoShape 17"/>
          <p:cNvSpPr/>
          <p:nvPr/>
        </p:nvSpPr>
        <p:spPr>
          <a:xfrm>
            <a:off x="4284720" y="2925720"/>
            <a:ext cx="838080" cy="216000"/>
          </a:xfrm>
          <a:prstGeom prst="rightArrow">
            <a:avLst>
              <a:gd name="adj1" fmla="val 50000"/>
              <a:gd name="adj2" fmla="val 97000"/>
            </a:avLst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 Box 18"/>
          <p:cNvSpPr/>
          <p:nvPr/>
        </p:nvSpPr>
        <p:spPr>
          <a:xfrm>
            <a:off x="5076720" y="2637000"/>
            <a:ext cx="359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Times New Roman"/>
                <a:ea typeface="隶书"/>
              </a:rPr>
              <a:t>中国东北 蒙古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AutoShape 19"/>
          <p:cNvSpPr/>
          <p:nvPr/>
        </p:nvSpPr>
        <p:spPr>
          <a:xfrm>
            <a:off x="8388360" y="2924280"/>
            <a:ext cx="431640" cy="1447560"/>
          </a:xfrm>
          <a:custGeom>
            <a:avLst/>
            <a:gdLst>
              <a:gd name="textAreaLeft" fmla="*/ 57600 w 431640"/>
              <a:gd name="textAreaRight" fmla="*/ 374040 w 431640"/>
              <a:gd name="textAreaTop" fmla="*/ 188640 h 1447560"/>
              <a:gd name="textAreaBottom" fmla="*/ 112716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5629" stAng="-5400000" swAng="5400000"/>
                <a:lnTo>
                  <a:pt x="21600" y="14001"/>
                </a:lnTo>
                <a:arcTo wR="21600" hR="5629" stAng="0" swAng="1321160"/>
                <a:lnTo>
                  <a:pt x="11700" y="20703"/>
                </a:lnTo>
                <a:lnTo>
                  <a:pt x="0" y="15444"/>
                </a:lnTo>
                <a:lnTo>
                  <a:pt x="11700" y="8391"/>
                </a:lnTo>
                <a:lnTo>
                  <a:pt x="11700" y="10361"/>
                </a:lnTo>
                <a:arcTo wR="21600" hR="5629" stAng="1321160" swAng="-351253"/>
                <a:lnTo>
                  <a:pt x="14441" y="9815"/>
                </a:lnTo>
                <a:arcTo wR="21600" hR="5629" stAng="-969907" swAng="-4430093"/>
                <a:close/>
              </a:path>
              <a:path fill="darkenLess" w="21600" h="21600">
                <a:moveTo>
                  <a:pt x="0" y="0"/>
                </a:moveTo>
                <a:arcTo wR="21600" hR="5629" stAng="-5400000" swAng="5400000"/>
                <a:lnTo>
                  <a:pt x="21600" y="14001"/>
                </a:lnTo>
                <a:arcTo wR="21600" hR="5629" stAng="0" swAng="-969907"/>
                <a:lnTo>
                  <a:pt x="14441" y="9815"/>
                </a:lnTo>
                <a:arcTo wR="21600" hR="5629" stAng="-969907" swAng="-4430093"/>
                <a:close/>
              </a:path>
            </a:pathLst>
          </a:cu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 Box 20"/>
          <p:cNvSpPr/>
          <p:nvPr/>
        </p:nvSpPr>
        <p:spPr>
          <a:xfrm>
            <a:off x="7343640" y="414972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Times New Roman"/>
                <a:ea typeface="隶书"/>
              </a:rPr>
              <a:t>全中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AutoShape 21"/>
          <p:cNvSpPr/>
          <p:nvPr/>
        </p:nvSpPr>
        <p:spPr>
          <a:xfrm rot="1993800">
            <a:off x="7662600" y="4834080"/>
            <a:ext cx="434880" cy="1157040"/>
          </a:xfrm>
          <a:custGeom>
            <a:avLst/>
            <a:gdLst>
              <a:gd name="textAreaLeft" fmla="*/ 57960 w 434880"/>
              <a:gd name="textAreaRight" fmla="*/ 376920 w 434880"/>
              <a:gd name="textAreaTop" fmla="*/ 230040 h 1157040"/>
              <a:gd name="textAreaBottom" fmla="*/ 855000 h 115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90" stAng="-5400000" swAng="5400000"/>
                <a:lnTo>
                  <a:pt x="21600" y="11665"/>
                </a:lnTo>
                <a:arcTo wR="21600" hR="8590" stAng="0" swAng="2901621"/>
                <a:lnTo>
                  <a:pt x="7200" y="21109"/>
                </a:lnTo>
                <a:lnTo>
                  <a:pt x="0" y="18717"/>
                </a:lnTo>
                <a:lnTo>
                  <a:pt x="7200" y="15342"/>
                </a:lnTo>
                <a:lnTo>
                  <a:pt x="7200" y="16688"/>
                </a:lnTo>
                <a:arcTo wR="21600" hR="8590" stAng="2901621" swAng="-2653336"/>
                <a:lnTo>
                  <a:pt x="21251" y="10127"/>
                </a:lnTo>
                <a:arcTo wR="21600" hR="8590" stAng="-248285" swAng="-5151715"/>
                <a:close/>
              </a:path>
              <a:path fill="darkenLess" w="21600" h="21600">
                <a:moveTo>
                  <a:pt x="0" y="0"/>
                </a:moveTo>
                <a:arcTo wR="21600" hR="8590" stAng="-5400000" swAng="5400000"/>
                <a:lnTo>
                  <a:pt x="21600" y="11665"/>
                </a:lnTo>
                <a:arcTo wR="21600" hR="8590" stAng="0" swAng="-248285"/>
                <a:lnTo>
                  <a:pt x="21251" y="10127"/>
                </a:lnTo>
                <a:arcTo wR="21600" hR="8590" stAng="-248285" swAng="-5151715"/>
                <a:close/>
              </a:path>
            </a:pathLst>
          </a:cu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3632040" y="530064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Times New Roman"/>
                <a:ea typeface="隶书"/>
              </a:rPr>
              <a:t>亚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0" y="3500280"/>
            <a:ext cx="543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Times New Roman"/>
                <a:ea typeface="隶书"/>
              </a:rPr>
              <a:t>称霸全世界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AutoShape 24"/>
          <p:cNvSpPr/>
          <p:nvPr/>
        </p:nvSpPr>
        <p:spPr>
          <a:xfrm rot="13463400">
            <a:off x="2601720" y="4889520"/>
            <a:ext cx="1239840" cy="536400"/>
          </a:xfrm>
          <a:prstGeom prst="rightArrow">
            <a:avLst>
              <a:gd name="adj1" fmla="val 50000"/>
              <a:gd name="adj2" fmla="val 57785"/>
            </a:avLst>
          </a:prstGeom>
          <a:solidFill>
            <a:srgbClr val="ffff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27"/>
          <p:cNvSpPr/>
          <p:nvPr/>
        </p:nvSpPr>
        <p:spPr>
          <a:xfrm>
            <a:off x="2050920" y="1052640"/>
            <a:ext cx="4900680" cy="1099440"/>
          </a:xfrm>
          <a:prstGeom prst="rect">
            <a:avLst/>
          </a:prstGeom>
          <a:solidFill>
            <a:srgbClr val="00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华文琥珀"/>
                <a:ea typeface="华文琥珀"/>
              </a:rPr>
              <a:t>大陆政策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2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203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1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4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3"/>
          <p:cNvSpPr/>
          <p:nvPr/>
        </p:nvSpPr>
        <p:spPr>
          <a:xfrm>
            <a:off x="279360" y="836640"/>
            <a:ext cx="541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  <a:ea typeface="黑体"/>
              </a:rPr>
              <a:t>解读日本的对外政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16000" y="3365640"/>
            <a:ext cx="8748720" cy="29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大陆政策：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是日本自明治维新后“不甘处岛国之境”</a:t>
            </a:r>
            <a:r>
              <a:rPr b="1" lang="es-ES" sz="2800" spc="-1" strike="noStrike">
                <a:solidFill>
                  <a:srgbClr val="6633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立足于用战争手段进行对外扩张的政策</a:t>
            </a:r>
            <a:r>
              <a:rPr b="1" lang="es-ES" sz="2800" spc="-1" strike="noStrike">
                <a:solidFill>
                  <a:srgbClr val="6633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是日本近代军国主义的主要特征和表现</a:t>
            </a:r>
            <a:r>
              <a:rPr b="1" lang="es-ES" sz="2800" spc="-1" strike="noStrike">
                <a:solidFill>
                  <a:srgbClr val="6633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大陆政策”分五期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第一期征服台湾；</a:t>
            </a:r>
            <a:r>
              <a:rPr b="1" lang="zh-CN" sz="2800" spc="-1" strike="noStrike" u="sng">
                <a:solidFill>
                  <a:srgbClr val="663300"/>
                </a:solidFill>
                <a:uFillTx/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第二期征服朝鲜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第三期征服满蒙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第四期征服全中国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黑体"/>
                <a:ea typeface="黑体"/>
              </a:rPr>
              <a:t>第五期征服南洋、亚洲至全世界。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7" name="Picture 5" descr="明治天皇睦仁"/>
          <p:cNvPicPr/>
          <p:nvPr/>
        </p:nvPicPr>
        <p:blipFill>
          <a:blip r:embed="rId1"/>
          <a:stretch/>
        </p:blipFill>
        <p:spPr>
          <a:xfrm>
            <a:off x="6966000" y="692280"/>
            <a:ext cx="2070000" cy="2717640"/>
          </a:xfrm>
          <a:prstGeom prst="rect">
            <a:avLst/>
          </a:prstGeom>
          <a:ln w="0">
            <a:noFill/>
          </a:ln>
        </p:spPr>
      </p:pic>
      <p:sp>
        <p:nvSpPr>
          <p:cNvPr id="208" name="Text Box 6"/>
          <p:cNvSpPr/>
          <p:nvPr/>
        </p:nvSpPr>
        <p:spPr>
          <a:xfrm>
            <a:off x="1644480" y="2811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5867280" y="213192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95280" y="1413000"/>
            <a:ext cx="655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“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开拓万里之波涛”“布国威于四方”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 </a:t>
            </a:r>
            <a:r>
              <a:rPr b="1" lang="en-US" sz="4000" spc="-1" strike="noStrike">
                <a:solidFill>
                  <a:srgbClr val="002060"/>
                </a:solidFill>
                <a:latin typeface="黑体"/>
                <a:ea typeface="黑体"/>
              </a:rPr>
              <a:t>——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明治天皇：</a:t>
            </a:r>
            <a:r>
              <a:rPr b="1" lang="en-US" sz="4000" spc="-1" strike="noStrike">
                <a:solidFill>
                  <a:srgbClr val="00206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御笔信</a:t>
            </a:r>
            <a:r>
              <a:rPr b="1" lang="en-US" sz="4000" spc="-1" strike="noStrike">
                <a:solidFill>
                  <a:srgbClr val="00206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Text Box 10"/>
          <p:cNvSpPr/>
          <p:nvPr/>
        </p:nvSpPr>
        <p:spPr>
          <a:xfrm>
            <a:off x="3321000" y="4653000"/>
            <a:ext cx="55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95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马关条约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割占台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4195080" y="5229360"/>
            <a:ext cx="368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910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日韩合并条约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签订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朝鲜成为日本殖民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oup 6"/>
          <p:cNvGrpSpPr/>
          <p:nvPr/>
        </p:nvGrpSpPr>
        <p:grpSpPr>
          <a:xfrm>
            <a:off x="0" y="0"/>
            <a:ext cx="9180360" cy="836640"/>
            <a:chOff x="0" y="0"/>
            <a:chExt cx="9180360" cy="836640"/>
          </a:xfrm>
        </p:grpSpPr>
        <p:pic>
          <p:nvPicPr>
            <p:cNvPr id="214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22"/>
            <p:cNvSpPr/>
            <p:nvPr/>
          </p:nvSpPr>
          <p:spPr>
            <a:xfrm>
              <a:off x="1871640" y="219240"/>
              <a:ext cx="730872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第</a:t>
              </a:r>
              <a:r>
                <a:rPr b="1" lang="en-US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18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彩云"/>
                  <a:ea typeface="华文彩云"/>
                </a:rPr>
                <a:t>课从九一八事变到西安事变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7T10:47:39Z</dcterms:created>
  <dc:creator>免费更新微信：popo6111；淘宝店铺：泡泡教育</dc:creator>
  <dc:description>微店：http://weidian.com/s/259607770?wfr=c&amp;ifr=shopdetail</dc:description>
  <cp:keywords>微店：http://weidian.com/s/259607770?wfr=c&amp;ifr=shopdetail微店：http://weidian.com/s/259607770?wfr=c&amp;ifr=shopdetail</cp:keywords>
  <dc:language>en-US</dc:language>
  <cp:lastModifiedBy>微软中国</cp:lastModifiedBy>
  <dcterms:modified xsi:type="dcterms:W3CDTF">2018-05-02T11:03:27Z</dcterms:modified>
  <cp:revision>32</cp:revision>
  <dc:subject>免费更新微信：popo6111；淘宝店铺：泡泡教育</dc:subject>
  <dc:title>免费更新微信：popo6111；淘宝店铺：泡泡教育</dc:title>
</cp:coreProperties>
</file>